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24.jpeg" ContentType="image/jpeg"/>
  <Override PartName="/ppt/media/image3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</p:sldMasterIdLst>
  <p:notesMasterIdLst>
    <p:notesMasterId r:id="rId34"/>
  </p:notesMasterIdLst>
  <p:sldIdLst>
    <p:sldId id="256" r:id="rId35"/>
    <p:sldId id="257" r:id="rId36"/>
    <p:sldId id="258" r:id="rId37"/>
    <p:sldId id="259" r:id="rId38"/>
    <p:sldId id="260" r:id="rId39"/>
    <p:sldId id="261" r:id="rId40"/>
    <p:sldId id="262" r:id="rId41"/>
    <p:sldId id="263" r:id="rId42"/>
    <p:sldId id="264" r:id="rId43"/>
    <p:sldId id="265" r:id="rId44"/>
    <p:sldId id="266" r:id="rId45"/>
    <p:sldId id="267" r:id="rId46"/>
    <p:sldId id="268" r:id="rId47"/>
    <p:sldId id="269" r:id="rId48"/>
    <p:sldId id="270" r:id="rId49"/>
    <p:sldId id="271" r:id="rId50"/>
    <p:sldId id="272" r:id="rId51"/>
    <p:sldId id="27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notesMaster" Target="notesMasters/notesMaster1.xml"/><Relationship Id="rId35" Type="http://schemas.openxmlformats.org/officeDocument/2006/relationships/slide" Target="slides/slide1.xml"/><Relationship Id="rId36" Type="http://schemas.openxmlformats.org/officeDocument/2006/relationships/slide" Target="slides/slide2.xml"/><Relationship Id="rId37" Type="http://schemas.openxmlformats.org/officeDocument/2006/relationships/slide" Target="slides/slide3.xml"/><Relationship Id="rId38" Type="http://schemas.openxmlformats.org/officeDocument/2006/relationships/slide" Target="slides/slide4.xml"/><Relationship Id="rId39" Type="http://schemas.openxmlformats.org/officeDocument/2006/relationships/slide" Target="slides/slide5.xml"/><Relationship Id="rId40" Type="http://schemas.openxmlformats.org/officeDocument/2006/relationships/slide" Target="slides/slide6.xml"/><Relationship Id="rId41" Type="http://schemas.openxmlformats.org/officeDocument/2006/relationships/slide" Target="slides/slide7.xml"/><Relationship Id="rId42" Type="http://schemas.openxmlformats.org/officeDocument/2006/relationships/slide" Target="slides/slide8.xml"/><Relationship Id="rId43" Type="http://schemas.openxmlformats.org/officeDocument/2006/relationships/slide" Target="slides/slide9.xml"/><Relationship Id="rId44" Type="http://schemas.openxmlformats.org/officeDocument/2006/relationships/slide" Target="slides/slide10.xml"/><Relationship Id="rId45" Type="http://schemas.openxmlformats.org/officeDocument/2006/relationships/slide" Target="slides/slide11.xml"/><Relationship Id="rId46" Type="http://schemas.openxmlformats.org/officeDocument/2006/relationships/slide" Target="slides/slide12.xml"/><Relationship Id="rId47" Type="http://schemas.openxmlformats.org/officeDocument/2006/relationships/slide" Target="slides/slide13.xml"/><Relationship Id="rId48" Type="http://schemas.openxmlformats.org/officeDocument/2006/relationships/slide" Target="slides/slide14.xml"/><Relationship Id="rId49" Type="http://schemas.openxmlformats.org/officeDocument/2006/relationships/slide" Target="slides/slide15.xml"/><Relationship Id="rId50" Type="http://schemas.openxmlformats.org/officeDocument/2006/relationships/slide" Target="slides/slide16.xml"/><Relationship Id="rId51" Type="http://schemas.openxmlformats.org/officeDocument/2006/relationships/slide" Target="slides/slide17.xml"/><Relationship Id="rId52" Type="http://schemas.openxmlformats.org/officeDocument/2006/relationships/slide" Target="slides/slide1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dt" idx="9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 type="ftr" idx="9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PlaceHolder 6"/>
          <p:cNvSpPr>
            <a:spLocks noGrp="1"/>
          </p:cNvSpPr>
          <p:nvPr>
            <p:ph type="sldNum" idx="9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580B-5047-4FAE-804A-E3BBF3FBBB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5660-EA97-4A2A-93F7-64C2664ED8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3002-41DE-43A4-B72B-6E625CC42A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7CB7-3E97-4342-AB28-1E84431E9C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2CF9-EC0C-4446-B71D-9FF064E7A4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8282-CDD9-45D3-89C7-200DFAF5F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636B-FAC0-43F8-A91E-D6EE128E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CE870E-D124-42BD-8A69-1C8F1D74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03658-896C-4D7F-AD83-258A11D5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56A5F-3311-4DCE-982F-55D1B49A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9DC9B5-9D43-4656-9A02-70002DC2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F2D1BC-F13F-4B34-9681-F1BC3EC9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E0AF96-F07A-44BB-889F-75963786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B4B585-FAEC-4D4E-A137-1DCC3C17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4AC114-0635-461D-9406-698631F60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EF7902-B855-49D4-B82D-35417C655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D95A44-29C8-42A6-BAA2-73AD82AD9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EB7A-4F0C-4198-B879-1E3D5A3CA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0766DF-8A0E-41A0-B9E6-5D8324B7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B23DCD-A050-4FAB-9F76-871806B7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E14ACB-34A0-4B35-9896-E36ED6FE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5F5A7D-0862-4CCD-816E-263783F5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FC3A55-9EE7-4BE9-BE5C-7EF41B5F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42F5C4-2AF4-4895-AAAE-3B0EFC60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AC112A-24DC-49F0-A9C8-F77CE5D3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A9CE07-47C8-489F-AD53-F1A9A830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1B5C1F-C04C-439D-BD22-8204FD72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4FFAF3-E57A-45F9-94E5-5BC36780B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21BC-BFAB-4613-B2F8-76DEFAA05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139318-AC7F-4E2A-B146-A5F3C2BBE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BA05FA-F9C7-4617-80C5-C3C7AF195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A6AFB-2412-4771-A2EF-62D89AA8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E0DA2-438E-4CF7-BE08-F23AC74D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81968-E731-4E61-8B2A-7ECCCC24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DEAAC-5AE1-49E3-8693-F9B79C47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52CB7-E0EC-413C-9FB6-536236AD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0C4B6-D4C8-478F-825A-BFE9B11C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4EED01-408C-4D6D-9786-18729D71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39458-E663-4384-A5E6-DB39A1E6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41DA-72B1-47EC-89CF-0DF4B31D6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D8A490-6E47-4263-B623-3C38A803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616FFB-8C8C-426C-9235-C5700C0AF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DC539-2FD9-45A5-8C0A-7D8669DC3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E854B9-D7A1-4B5B-A3FC-1870FCF42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66C166-96C5-4775-BED4-D49C5C60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35DE15-8F94-42A8-9174-D951907C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FA7AC5-D6EA-4C5D-84C7-279D579C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1BA0EB-81D5-4EA0-98E6-92BD8C41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C658B2-637B-4A38-B344-34BAD3CC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118962-DF89-488D-9D7C-687B84D6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2A46-34AE-4A5B-A821-3C46A974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FD96DB-1A02-4BC0-88E7-49E11727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D77982-DD9C-40C1-A044-EFA59B7F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F21835-EF4E-40C5-8C58-BAA8EFD9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78996D-1143-46B6-865D-3D36F549C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144F81-D4BD-48BF-B0E8-3FDAA90B6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9B66D0-C472-4F41-844F-2A722287A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450999-30B9-4791-809C-1F5A01CF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E4592E-E577-4446-AF25-5DEACDA9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215640-5976-41DA-9741-A103E014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D0C70D-AD27-4322-BF6A-ADD3C5B2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8648-791B-47EB-8743-EC7650B6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0FBAB3-3DC3-4572-BECC-4A2C8F0E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8657C8-84C2-43A5-AFA1-65D2BBE2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79C741-2AEA-4C68-83F3-F44E89A7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563713-C772-4DA1-A233-234C0773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946FC0-08A6-4299-B588-ED698E67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321D98-C2CA-487D-B3C2-558647F65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A8E820-786C-4432-B042-AB76E716E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B72EE2-2FDC-4A1E-B13E-AEBC70215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8CA076-6EFF-43CB-B4D8-EE22CCBA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F0CA4F-4228-4A58-9C44-39522EBC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0A62-C521-460C-BB65-4FE4CFD5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C67B5D-263F-41F9-BDC9-C13578D3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C7AC71-B19F-433C-8B03-8DA3C915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94F584-34A1-4E5F-82AC-95A7980A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590F9D-04AC-4D9D-96C1-28602969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240ED4-4C88-459A-BE07-A8F72604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74745C-BA11-4040-B021-D89A06B8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5E67C8-8922-4873-90C0-0C8BA15F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C3AD4D-FFFE-4104-886F-719750C0E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BB6A5C-302F-4338-B943-E8B3842B9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4B799B-EEDD-4D32-B5E5-8FF49ABDB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2B9ED-666F-482A-AC72-C8696A60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2AA8AE-B1B6-4A29-8927-DC0259C9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0F71E7-F39F-4F85-8E3E-0035358D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B3A00C-D927-49FF-A9E0-8A6735E4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B150BF-B5B2-4731-8184-D18C545E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54C5AA-4D5A-477D-BD44-77289E1C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E7CC77-2D11-4B5A-9EFE-CA589D7A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BDAB3C-4066-42DD-9722-62E85474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A278B1-1D18-44FF-9362-A16FE1FD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2EA5BD-D212-4A39-A779-B4D3122B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343148-A1EA-40E5-B752-13195A621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EA77-B38E-4B26-B667-FC2CAF7B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D35DE6-B239-4764-A666-CB852608A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9B4225-F0D5-4AF3-8F8E-3BAF57050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857D51-BFA6-4A84-BFAE-7A1CE13A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AC9082-0A44-42D2-A486-B64EF201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6BE1F7-CA0A-409D-8C15-CA2CEFBA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A653F7-7851-4825-AEE5-FE0E959B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B3B848-3F3B-4362-B8AF-54972F3B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4CF600-DB50-4A5A-B910-5B14712F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D5191B-CDC6-45A4-B253-350B5313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5258DB-BA01-4458-A11E-D5BD35B3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3C69-3A9D-46E8-AFDC-A8A91F36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8D92B9-8597-43CB-88C8-7E2EE507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C31B34-71E0-4CF9-8E71-87387723A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0D1149-38A3-4A5C-84B0-B65A0700E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EBDACE-E6DC-4B56-B283-64D68391D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AEF803-5717-4905-B47A-1A35F144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9BC84C-9B55-4E4D-AA37-B80DAC80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7A3FE2-C506-46BB-8EF2-97658D53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C96BE4-B94B-4DFB-8A44-6C62D352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ED7CCC-C58C-43CC-ACDB-8E9DDE36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88E6B7-E8D7-48DA-B3A5-AF9FEFB7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75E3-D7BD-4735-8B25-1AEA0752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D229-173E-4119-8BAC-72E7C307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BA3CB1-61BC-43C2-8657-72FEDB3A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F658EE-8577-4480-BE61-7F2F4E9C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4B451B-55CA-40FF-999A-FEB76A52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2FA46E-7939-41B9-8B5C-064EDDA18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A3D4A9-9F9E-40CA-82FD-5E681A284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41FE79-437C-471D-97A6-91B4E0E58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CF7015-3399-4B7E-AF53-1B0BB252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B52A4F-ED78-4C3A-96A8-4CFC6310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3DB0C1-D0E7-4BE4-91B1-4FCE9596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602858-F21A-4814-94C2-C9818C48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BE06-00E3-4D72-82FF-5C3E62F0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89F79C-BFBE-436A-823D-2E425328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D89812-9566-4A43-8BCA-E3F850B3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0FAAE1-DD82-46DF-8C44-328BA41A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454902-D89B-496F-8A23-A985F295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DE74C3-0368-4521-8932-DDF47D93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99B674-A159-4F21-8736-4F3EFE859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A07C27-12A5-4CB0-87EB-4DFBC1D54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5C0155-9763-4636-9A2D-F9895897A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75E224-ACFB-4438-9797-1A5BA0A4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466EB1-5928-4617-A670-42734410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9D72-A2A5-4425-A1D9-5526AE71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BDCA79-57B8-4924-9836-6E67BF5F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3E73A0-EA79-4EB9-A8D2-C92F982C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FCAE02-E59F-43DC-B7BD-6A905EF5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0A4A0F-FE31-49AA-92FA-F2D04C65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74DDC8-950F-4783-B150-03E5982F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0F3179-4EB0-44E2-8205-4B64842E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3B0AB3-2A2C-45F1-92CD-87538B23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A26B2C-A4D6-46CE-AD82-3CE5B5D20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1F995B-E296-42DE-9BE2-8C35EC15F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90F163-8131-4A4A-8422-5CE72D46E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60200-9D3D-4394-B721-7B1237B19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9403A0-652F-4ED8-A212-702E7A63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39F190-9E37-4871-BC9C-1BA6BC7B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506C3E-218B-4B5A-9806-A791B131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37C045-2CF3-4F36-8F68-EE680FD3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73C986-1FA8-43A8-AB11-968B777A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3F299E-E971-43B1-B6D3-0BED3A67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C16073-F6C0-4ADA-9D32-6F260C65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F804FA-B0B0-4570-B79C-DBCD2F1D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F52068-F225-47A6-95F5-0D720802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FF53C8-B637-4F4B-BB1D-F6905AAB7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55F32-D054-4EAE-8330-6E2F59B59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CE8C8F-5B6E-481F-954F-3F6919B48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684844-739A-4752-B3FD-7FD4E5FCA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0E808B-BCD1-4F5B-A40F-8875DAA2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9B0425-9BBB-4A8B-9C42-32F688C7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6F7211-43E5-4608-93A5-433A2E59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AADF23-05E5-4A4B-9CCD-10074DCA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650FB0-393B-4548-88E4-9F809FF6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4522EF-EFCE-4E64-B5D6-B9E94812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FE3BB1-0C8A-4AD1-BA8C-6E4985CD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629BF8-A066-44A1-ACEA-43D7E8C1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FA36E-B607-4C0E-AFC3-165975B53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66DD09-1DEE-45A7-9349-98E57F29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1B4878-B5E0-4295-B751-9C39A1932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51C05D-0001-404A-83B8-B46684EDA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A4B072-A19A-45F0-AA36-E065CBF43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B453D4-2A60-42F4-AEEA-8F55349B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F42D22-03F4-4A53-8C2A-210618C8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2CA999-184E-4F40-B81A-1B4DCC29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07B2CC-C954-4FA1-9000-6FB46A4F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8C3083-004C-4540-8C16-875AC625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1E4C32-8415-44C9-9C87-4450E0F9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07668-7BC5-4F8F-B880-CC0F7660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8C3A65-3741-47E5-B4C0-99807B43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590ECD-E207-4917-A480-7A926EFE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F8AB09-4FF0-4D76-9D02-D8DA79F6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616A44-5771-436E-AA60-165C166B0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225B99-F726-4EA5-B2A5-999D42864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9E151F-6CBC-4063-9CB4-DBC307738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91A207-3C61-417C-9E6D-C1D13D53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C73A52-1AEE-40C3-B152-0DFB33D3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86F3AD-AA00-4C82-8D42-4596396C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99E193-3F9B-42EF-9D98-A6A908AD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BAE9E-D145-45DA-9C6C-4749C8E2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7CBD06-FEDA-4FE9-9A55-FC54E3B8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5F97D2-FBBF-484F-A97A-70E44733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EE3DC7-BC9A-44B4-9D51-AD6346A1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D017D3-1728-470C-B02D-A3882BE9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6C85AB-B985-4D16-8A2A-31DEB9F2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B1B286-AAD5-4D4C-B858-B7EED7FC1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9E3351-194B-4182-A3AF-78336B2A0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CC6D83D-7861-4B4C-ACD7-49A4487FA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B72B32-E49B-4D10-AAF6-F9830EF2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4F18CA-5C6B-4149-8C9E-650B5BA0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A54D3-3567-4D98-B78B-D12CBEC6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16BA1D6-6EB2-4A71-B1EB-4CB88F57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FDF17F-4D07-4CA5-A915-B251D543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9F6339-EE53-4F01-83B9-98BA9F72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61E0B6-5BF0-4C45-B84C-962AA8AB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4F2276-BD70-40A5-AC40-E6D839AA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FCB8D62-4DF9-4C19-ABAE-49583743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B8865E4-A38F-4F6C-8B2E-893EC441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8249A8-5D0E-4EEB-A634-FEDFE989E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14AE94-30E1-4DFD-81B1-4D0556EDE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C1285E-DE53-41BF-93CD-31FA2AD09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B0BD3-09E5-45F9-B83B-B3872372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DE519B9-4A5F-473F-A15D-1D08631B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F140B35-3D2D-4126-98DB-458D02DA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C5CF7CC-8FC3-49B1-B92F-91635946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5A4A31F-6040-4165-B897-827C112E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7E2705F-BBED-4E68-8AB6-DCEC0B3C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9204BE7-731E-48C2-B56C-0DEEAC90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277CD06-8A53-459D-8B15-E6BE053B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DC6952E-32FA-4804-B2DB-0812D735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7168267-372C-44B0-BCBF-8A69DA6E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B4F7127-9A98-4FE1-AAD6-D9E482C10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B2CA-279C-4E6E-ADCA-BE7F8C6E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705F4-3C6A-4521-8E46-7863E6EC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89612ED-5451-43F8-B80C-2DB191F3F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5B86A61-D552-4E53-AD06-66702B921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FB8F7C1-8F32-444A-8D4C-9E76CBE8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2C490A3-860F-4ABE-B2B1-5E647D12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E1B9ACA-570D-4D95-9E6F-19E764D7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721991C-0A0B-47D5-851F-5AEB47F7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C96C94D-7CAC-4AD2-BC28-E6ED9115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47BB07E-D20B-4FE7-9ACC-0F1C42A4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B6BFD7E-6BBF-438A-A38A-E76056D7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C61BCDD-0875-4497-B771-34D8D1C8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2149E-6C92-493D-B2A9-83F1626A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FD81B17-8C34-4CEE-BCD3-8F447855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0F41B97-FAE4-4F7B-A3D2-6673920DD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E791C1B-9181-43A1-B309-26EB9CE59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2B189AB-2975-400E-9C33-6F0267D2F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5B1805A-5E64-441C-9DA3-28EB8921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419FA44-EE70-4CF0-9327-17166039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B69F0B5-A27E-4829-951A-0E8D9DA2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6E214B8-6871-4612-97B8-920024E9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D3AA8A7-0007-44C6-9591-3284BA37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53FBB41-3BE5-4BFB-9E4C-05257901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124DB-A3EC-42DB-AE55-B089B8FD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7D04A5B-AE65-40F5-9F5F-28A93B92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68690A8-8884-4994-8AE1-EA7671DF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A28D42A-C0E9-4868-958F-0B80C72E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259394D-BBF0-4081-9DF1-D8F3DD432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D061EBD-090B-43B0-AE32-07DC6F27B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8725BF9-0A02-4062-9293-5AEB6A3B2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930FF8D-379A-4BCE-9EAF-D52BAA98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39729F3-4B46-414E-A2EC-AFF12CB8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5717E8F-F212-487C-BD71-152BD2D1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D44A512-0D2D-463F-BD59-E42BE857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1E2B0-3273-4F2B-A6FD-DDD5AFDA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7BC8CA0-FAF5-4290-8474-90F8AAB6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87C2ECF-61F0-4BC2-8BDC-A46FD5CF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74E0566-43C4-4296-974A-E1D353E6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FE41920-C045-4F5A-A959-E047D67A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8D177D0-2986-4819-B483-8EB21CB1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CC5D243-6B76-4D61-B499-FAF4F7006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AFB399E-FF63-48ED-B5DD-C0AD3C806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22FF451-EE09-4EDA-BB44-34A7A446A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42CB7B0-3C5C-4BE1-BEB3-A6580C1C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EF41D66-8DD0-4AB0-A463-B279BCC7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DA615-7E93-419E-87B8-0B10D07B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60A8E40-318B-41B8-82A7-1DC3904B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B752641-62CE-4BC4-9F56-9CC05E5B0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BF761F1-3C86-42A8-A076-C995F806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3B30281-C3DA-4528-BF72-BBDB4B01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6A5F968-F187-48EF-94BA-7BB81DE0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688E721-1042-43E2-9C14-C4D3D66C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F88C80A-F2D9-425F-87F5-2484AA98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B491E82-22CD-4C49-8D76-AFB01D1DE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FDF5B5C-B2CD-40E3-81AA-4D6693E37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30B1CB8-91A7-4128-BDEB-2D1B2054C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8ED3F-8D37-4B41-B4A6-F0A7D6C5C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7D499B1-6279-4092-846B-ACA455C2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DA64716-1F08-4157-AC18-D2C16424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15E9475-7F15-485C-BDEF-F3CB0745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31B0B5D-AB0F-4125-B869-6D1063F0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4FC464C-D514-4249-B0BF-54913827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13C753E-2F74-4B38-9855-A122B045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B86DE8A-DEDF-49FD-8FBA-608A223B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C6C2454-E596-46A0-BCF5-312F8828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0C73FB9-F038-436F-B924-1BB99A7A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D8EB629-58FE-4357-BC78-DEDC052FF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35990-40FD-474E-9F45-C68AF54CE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D6C5E8D-23E8-47EE-9927-063879ADA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C076224-F8B2-45CA-91AB-0C16FF569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5CF0F49-A371-4136-B407-5C1D3010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D78B800-947A-4246-9CF0-7F8DF627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BCA6464-D16E-4AE0-9372-103A42AC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D8CB8C4-B34D-4E51-AD33-34408921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E46C085-9FAA-436A-AA2D-16D41931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8CD5283-A9B7-417E-82E4-47A07F55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EB61A24-6A09-462B-8A37-45BAA2B3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CCF0EE6-327A-40B0-A8BC-4A0F1DF1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A8FE6-A305-4F90-965F-26F20BD2D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E9C5818-9BFD-4F4A-99E5-A4A6A3E2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757C320-DB50-414F-A94C-D15C284C7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69354B0-19B6-4217-A617-826D8B1A0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36DF75A-6269-48C3-BDA7-A150F0387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559CAE9-3F49-486F-968E-62FFE9C0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A5417C8-B52F-46CF-813D-FCC4658E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562B6B9-23E8-475E-A87A-7F62D098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2A1B999-C1CF-4326-BB74-9DB35F8F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D9A5D57-6640-4068-9DBF-D5A76230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2585BE6-F222-4BB8-8A90-26180310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75852-9D6F-4A2A-A8A7-F171510E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5B67046-3202-4D95-88A5-E372B62B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6CC7BE7-1841-4066-ADEB-F3ABA4D5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23D43AC-1D60-475D-B607-D897860E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5328033-285C-4998-82EC-EC2913F05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AD9AC91-803A-4156-AFB3-D7481B130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FE153-DC33-4742-BF43-99DFC120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9FFB-7A13-4462-AECA-3FC4FCEE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85B7A-5173-4CF5-B06B-D76A5FE6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188CC-10A8-4AE2-98D3-5F5D863D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5146F-C83C-4655-9338-D39DABAC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4D886-8F2A-4A05-9E06-38B9D3B3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455B5-13F6-462F-8314-8C86D180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557C5-DC50-46D5-905C-51F8493F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5B5DC-571A-45B8-92D5-6197B293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7BE43-3B1A-491A-9624-8F3B366F9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8A8A1-7D9F-48CE-ACA7-2EF0E9C23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19D7D-9F82-405F-9E5A-1FCE532DA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8E84-8BF0-4FC5-8B50-DC438960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04E59-91E3-427A-8B34-BE0F5757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DAC9E-0490-4359-BEC6-D3DECC8B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3E1C9-E445-4035-8806-EAB0A691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FE5BB-32C0-4EC4-8520-50999493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FF4CB-E054-497F-BC93-6A58B655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5A90C-3DC4-4B93-89CE-B8386258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C1491-7547-4D92-AD91-8C7645D3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E0A4F-667E-4FEC-B918-D8FF0969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A5AEA-7226-4C21-BAB2-F60C899D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3F31C-7959-41E8-A435-D2269707D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1546-9F9B-4213-8311-5686F0EE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61EB1-24DE-41D8-9D54-264F0B023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64FF6-B5F5-4030-A2B0-226669937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F25D0-DB0E-4E83-B4F2-C0762B13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59D3E-1C32-4DD3-A5BD-2965F82F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B4EA6-1B28-495E-A91D-F464B816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1A47D-44FA-4CB4-A14C-2A03B7A2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520D8-F439-4054-B42A-8CAE534B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9BBA0-D23D-4AD8-8F20-579D9483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3F73F-5856-421A-B476-9A7282AE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29D55-6FB2-4378-89AC-95211B3D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7CC7-F0A9-403F-8A24-06635670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0953B-756A-48FF-96D4-DDC8C5012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FB22D-0BC8-423C-B632-005795FB3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17F1F-B1B8-4127-B3BE-385B96441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23446-C9F8-494B-A619-5B76F6041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BBC80-FD9D-473D-8DE6-7AF00974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C869F-37BB-4B75-A4E8-FBE45DBD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2C64A-7E0E-4EFD-A896-B069267B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CBC0A-312F-4620-A8EE-4849A5C4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FFE73-2401-4917-871E-6E0E0E2A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AAB94-687C-45A9-B74D-6316E511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7438-C66E-493F-8DC9-DA296B2A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05ACB-669E-4BC2-A7FC-FFE61FB9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FB8C0-B782-4DCB-B24C-E391452D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F807D-584F-4EFF-A877-332061DD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CC3FE-CE01-4772-806A-E338A3D44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79D30-3E01-4527-85EE-AE770F54C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6CD54-D70F-48B9-A2F3-AA59D9051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BB5EC-74B1-45E6-A067-EB2289B7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D12CA-C04B-4759-B9D5-D97E4EF4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C0C9D-EAB2-439B-BAF2-1B2C2574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F38E7-55CE-4EE8-9240-013DF0FA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2F87-C84D-4345-922D-0DEFA5D8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C3B04-80C2-4C71-9D0C-D4E83BBA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41974-F561-40F2-9983-2156A255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C6805-066B-4694-8C96-4B603179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35D5C-5EB8-45D0-8C79-B1DB3E42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6031F-C65A-4E9E-BDB4-363F243F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9C7F6-A8B8-4D2A-B48B-7C638023E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21D93-6C14-4CEE-955B-6F0D3C782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ECB7D2-2027-4AC1-BA3E-BDCF47795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76846D-57F4-4B1F-90A3-FDABAB06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56D496-9337-4E3D-A54B-759B1685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F5A5-E97B-42B8-8979-31AE9FD97B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167F-77CF-466C-B500-BA7C0928B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8891-49E8-4516-93CC-DF0A8B4D9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B4B7-4B85-4031-86C4-E28BC291B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F64D-07EB-40F1-B148-AD23B2186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2378-C875-497A-835B-0CA67FB83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35AE-FF24-40B7-A210-1CD95BF9E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525E-E92E-47DD-8C69-1BAEB37D0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1FFF-DBF9-4E84-9289-52BB62F40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B9AD-E4E1-43DB-8A31-15F8753E5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3DD0-46D6-43CA-8CEC-11A78E5E0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4809-122A-42C0-9BE2-0545D6AEB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00C7-336E-4CB7-B37C-64D56EEA9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0FDE-7450-4B8F-BB5E-D2F207BC7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BAA7-1CD4-4F1E-BD57-AFB95B64B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9DFA-D138-4799-8F3D-B1825B01A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2A3A-17B4-4DA5-AC7F-C6B338025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B41D-281A-432E-B12B-BE523B391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79E1-CA5C-4F42-AA7B-37CCC470E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D0AD-6FD3-488A-BBED-87D7DAC5D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07C2-7A18-439F-95AC-446CCBA13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57BA-2C6C-4CC4-9D7D-DC5C5C0FF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2E60-B98F-4654-BF60-013789EE8F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F45F-0C01-4599-BAE6-899C33587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98B6-1084-41C4-B73F-7462DB41E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66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61C5-1233-409E-B239-204E461DA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0666-16FE-4E01-996A-185CBC697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A447-0FAC-43AD-8F6F-451460C323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66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99AC-5150-43F7-86EC-F8450C118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3AEF-62E5-4A16-A9F8-366ACF30E7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6B8F-33F8-4635-9B71-7CF0DCB04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7043-B18F-4389-87A8-37A56653F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hyperlink" Target="http://img-fotki.yandex.ru/get/5410/89635038.621/0_6fcab_3b49a553_XL" TargetMode="External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18.gif"/><Relationship Id="rId7" Type="http://schemas.openxmlformats.org/officeDocument/2006/relationships/slideLayout" Target="../slideLayouts/slideLayout31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image" Target="../media/image18.gif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1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4521/96146698.1c/0_79fad_845c1b5c_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5204/svetudina.16/0_447e6_177b2aba_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900igr.net/datas/o-zhivotnykh/Zvuki-lesa.files/0012-012-V-lesu-zhivut-raznye-zhivotnye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5801/mariflesh.8/0_4f674_8d1a5811_L.jpg" TargetMode="External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005.radikal.ru/i209/1101/c2/4a943bc4e624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68000" y="4868640"/>
            <a:ext cx="8458200" cy="198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lang="ru-RU" sz="2000" spc="-1" strike="noStrike">
                <a:solidFill>
                  <a:srgbClr val="2a3b69"/>
                </a:solidFill>
                <a:latin typeface="Arial"/>
              </a:rPr>
              <a:t>Подготовила и провела</a:t>
            </a:r>
            <a:br>
              <a:rPr sz="2000"/>
            </a:br>
            <a:r>
              <a:rPr b="1" lang="ru-RU" sz="2000" spc="-1" strike="noStrike">
                <a:solidFill>
                  <a:srgbClr val="2a3b69"/>
                </a:solidFill>
                <a:latin typeface="Arial"/>
              </a:rPr>
              <a:t>Ефимова Галина Викторовна, </a:t>
            </a:r>
            <a:br>
              <a:rPr sz="2000"/>
            </a:br>
            <a:r>
              <a:rPr b="1" lang="ru-RU" sz="2000" spc="-1" strike="noStrike">
                <a:solidFill>
                  <a:srgbClr val="2a3b69"/>
                </a:solidFill>
                <a:latin typeface="Arial"/>
              </a:rPr>
              <a:t>воспитатель МБДОУ детский сад </a:t>
            </a:r>
            <a:br>
              <a:rPr sz="2000"/>
            </a:br>
            <a:r>
              <a:rPr b="1" lang="ru-RU" sz="2000" spc="-1" strike="noStrike">
                <a:solidFill>
                  <a:srgbClr val="2a3b69"/>
                </a:solidFill>
                <a:latin typeface="Arial"/>
              </a:rPr>
              <a:t>комбинированного вида № 347 г.о.Самара.</a:t>
            </a:r>
            <a:br>
              <a:rPr sz="2000"/>
            </a:b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 type="subTitle"/>
          </p:nvPr>
        </p:nvSpPr>
        <p:spPr>
          <a:xfrm>
            <a:off x="1500120" y="1785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a3b69"/>
                </a:solidFill>
                <a:latin typeface="Arial"/>
              </a:rPr>
              <a:t>Презентация  к НОД «Дикие животные»  во второй младшей групп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7" name="Picture 2" descr="F:\9a3719a29eddb02923dbeb019bf.jpg"/>
          <p:cNvPicPr/>
          <p:nvPr/>
        </p:nvPicPr>
        <p:blipFill>
          <a:blip r:embed="rId1"/>
          <a:stretch/>
        </p:blipFill>
        <p:spPr>
          <a:xfrm>
            <a:off x="395280" y="260280"/>
            <a:ext cx="8461440" cy="6221520"/>
          </a:xfrm>
          <a:prstGeom prst="rect">
            <a:avLst/>
          </a:prstGeom>
          <a:ln w="0">
            <a:noFill/>
          </a:ln>
        </p:spPr>
      </p:pic>
      <p:pic>
        <p:nvPicPr>
          <p:cNvPr id="1338" name="Picture 7" descr="zajats48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7574040" y="4581360"/>
            <a:ext cx="1569960" cy="1182960"/>
          </a:xfrm>
          <a:prstGeom prst="rect">
            <a:avLst/>
          </a:prstGeom>
          <a:ln w="0">
            <a:noFill/>
          </a:ln>
        </p:spPr>
      </p:pic>
      <p:pic>
        <p:nvPicPr>
          <p:cNvPr id="1339" name="Picture 26" descr="Картинка 91 из 3055">
            <a:hlinkClick r:id="rId3"/>
          </p:cNvPr>
          <p:cNvPicPr/>
          <p:nvPr/>
        </p:nvPicPr>
        <p:blipFill>
          <a:blip r:embed="rId4">
            <a:lum bright="-20000"/>
          </a:blip>
          <a:stretch/>
        </p:blipFill>
        <p:spPr>
          <a:xfrm>
            <a:off x="3708360" y="5732640"/>
            <a:ext cx="1936800" cy="982440"/>
          </a:xfrm>
          <a:prstGeom prst="rect">
            <a:avLst/>
          </a:prstGeom>
          <a:ln w="0">
            <a:noFill/>
          </a:ln>
        </p:spPr>
      </p:pic>
      <p:pic>
        <p:nvPicPr>
          <p:cNvPr id="1340" name="Picture 6" descr="Картинка 54 из 35220"/>
          <p:cNvPicPr/>
          <p:nvPr/>
        </p:nvPicPr>
        <p:blipFill>
          <a:blip r:embed="rId5"/>
          <a:stretch/>
        </p:blipFill>
        <p:spPr>
          <a:xfrm>
            <a:off x="5292720" y="2997360"/>
            <a:ext cx="4282920" cy="3495600"/>
          </a:xfrm>
          <a:prstGeom prst="rect">
            <a:avLst/>
          </a:prstGeom>
          <a:ln w="0">
            <a:noFill/>
          </a:ln>
        </p:spPr>
      </p:pic>
      <p:pic>
        <p:nvPicPr>
          <p:cNvPr id="1341" name="Picture 7" descr="zajats48"/>
          <p:cNvPicPr/>
          <p:nvPr/>
        </p:nvPicPr>
        <p:blipFill>
          <a:blip r:embed="rId6"/>
          <a:stretch/>
        </p:blipFill>
        <p:spPr>
          <a:xfrm flipH="1">
            <a:off x="324000" y="4309920"/>
            <a:ext cx="129528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2" name="Picture 2" descr="F:\9a3719a29eddb02923dbeb019bf.jpg"/>
          <p:cNvPicPr/>
          <p:nvPr/>
        </p:nvPicPr>
        <p:blipFill>
          <a:blip r:embed="rId1"/>
          <a:stretch/>
        </p:blipFill>
        <p:spPr>
          <a:xfrm>
            <a:off x="395280" y="260280"/>
            <a:ext cx="8244000" cy="6062760"/>
          </a:xfrm>
          <a:prstGeom prst="rect">
            <a:avLst/>
          </a:prstGeom>
          <a:ln w="0">
            <a:noFill/>
          </a:ln>
        </p:spPr>
      </p:pic>
      <p:pic>
        <p:nvPicPr>
          <p:cNvPr id="1343" name="Picture 7" descr="zajats48"/>
          <p:cNvPicPr/>
          <p:nvPr/>
        </p:nvPicPr>
        <p:blipFill>
          <a:blip r:embed="rId2">
            <a:lum bright="-10000"/>
          </a:blip>
          <a:stretch/>
        </p:blipFill>
        <p:spPr>
          <a:xfrm flipH="1">
            <a:off x="7905600" y="4581360"/>
            <a:ext cx="1238400" cy="1182960"/>
          </a:xfrm>
          <a:prstGeom prst="rect">
            <a:avLst/>
          </a:prstGeom>
          <a:ln w="0">
            <a:noFill/>
          </a:ln>
        </p:spPr>
      </p:pic>
      <p:pic>
        <p:nvPicPr>
          <p:cNvPr id="1344" name="Picture 26" descr="Картинка 91 из 3055"/>
          <p:cNvPicPr/>
          <p:nvPr/>
        </p:nvPicPr>
        <p:blipFill>
          <a:blip r:embed="rId3">
            <a:lum bright="-20000"/>
          </a:blip>
          <a:stretch/>
        </p:blipFill>
        <p:spPr>
          <a:xfrm>
            <a:off x="3708360" y="5661000"/>
            <a:ext cx="1936800" cy="982800"/>
          </a:xfrm>
          <a:prstGeom prst="rect">
            <a:avLst/>
          </a:prstGeom>
          <a:ln w="0">
            <a:noFill/>
          </a:ln>
        </p:spPr>
      </p:pic>
      <p:pic>
        <p:nvPicPr>
          <p:cNvPr id="1345" name="Picture 7" descr="zajats48"/>
          <p:cNvPicPr/>
          <p:nvPr/>
        </p:nvPicPr>
        <p:blipFill>
          <a:blip r:embed="rId4"/>
          <a:stretch/>
        </p:blipFill>
        <p:spPr>
          <a:xfrm flipH="1">
            <a:off x="3924000" y="4653000"/>
            <a:ext cx="1238040" cy="1184400"/>
          </a:xfrm>
          <a:prstGeom prst="rect">
            <a:avLst/>
          </a:prstGeom>
          <a:ln w="0">
            <a:noFill/>
          </a:ln>
        </p:spPr>
      </p:pic>
      <p:pic>
        <p:nvPicPr>
          <p:cNvPr id="1346" name="Picture 6" descr="Картинка 54 из 35220"/>
          <p:cNvPicPr/>
          <p:nvPr/>
        </p:nvPicPr>
        <p:blipFill>
          <a:blip r:embed="rId5"/>
          <a:stretch/>
        </p:blipFill>
        <p:spPr>
          <a:xfrm>
            <a:off x="5219640" y="2852640"/>
            <a:ext cx="43243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7" name="Picture 2" descr="Картинка 362 из 5974"/>
          <p:cNvPicPr/>
          <p:nvPr/>
        </p:nvPicPr>
        <p:blipFill>
          <a:blip r:embed="rId1"/>
          <a:stretch/>
        </p:blipFill>
        <p:spPr>
          <a:xfrm>
            <a:off x="971640" y="333360"/>
            <a:ext cx="756432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8" name="Picture 2" descr="Картинка 3 из 11434"/>
          <p:cNvPicPr/>
          <p:nvPr/>
        </p:nvPicPr>
        <p:blipFill>
          <a:blip r:embed="rId1"/>
          <a:stretch/>
        </p:blipFill>
        <p:spPr>
          <a:xfrm>
            <a:off x="1258920" y="289080"/>
            <a:ext cx="685800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9" name="Picture 2" descr="Картинка 45 из 2839"/>
          <p:cNvPicPr/>
          <p:nvPr/>
        </p:nvPicPr>
        <p:blipFill>
          <a:blip r:embed="rId1"/>
          <a:stretch/>
        </p:blipFill>
        <p:spPr>
          <a:xfrm>
            <a:off x="539640" y="476280"/>
            <a:ext cx="7983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0" name="Picture 2" descr="Картинка 52 из 17829"/>
          <p:cNvPicPr/>
          <p:nvPr/>
        </p:nvPicPr>
        <p:blipFill>
          <a:blip r:embed="rId1"/>
          <a:stretch/>
        </p:blipFill>
        <p:spPr>
          <a:xfrm>
            <a:off x="539640" y="549360"/>
            <a:ext cx="8207640" cy="57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1" name="Picture 4" descr="Картинка 5 из 5974"/>
          <p:cNvPicPr/>
          <p:nvPr/>
        </p:nvPicPr>
        <p:blipFill>
          <a:blip r:embed="rId1"/>
          <a:stretch/>
        </p:blipFill>
        <p:spPr>
          <a:xfrm>
            <a:off x="826920" y="404640"/>
            <a:ext cx="7777440" cy="62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2" name="Picture 2" descr="Картинка 238 из 3265"/>
          <p:cNvPicPr/>
          <p:nvPr/>
        </p:nvPicPr>
        <p:blipFill>
          <a:blip r:embed="rId1"/>
          <a:stretch/>
        </p:blipFill>
        <p:spPr>
          <a:xfrm>
            <a:off x="468360" y="333360"/>
            <a:ext cx="8359560" cy="6308640"/>
          </a:xfrm>
          <a:prstGeom prst="rect">
            <a:avLst/>
          </a:prstGeom>
          <a:ln w="0">
            <a:noFill/>
          </a:ln>
        </p:spPr>
      </p:pic>
      <p:sp>
        <p:nvSpPr>
          <p:cNvPr id="1353" name="TextBox 2"/>
          <p:cNvSpPr/>
          <p:nvPr/>
        </p:nvSpPr>
        <p:spPr>
          <a:xfrm>
            <a:off x="740520" y="5661000"/>
            <a:ext cx="789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ccff"/>
                </a:solidFill>
                <a:latin typeface="Franklin Gothic Book"/>
              </a:rPr>
              <a:t>Спасибо за внимание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TextBox 1"/>
          <p:cNvSpPr/>
          <p:nvPr/>
        </p:nvSpPr>
        <p:spPr>
          <a:xfrm>
            <a:off x="755640" y="549360"/>
            <a:ext cx="763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Используемые  интернет -  ресур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1.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http: img – fotki.  yandex. 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2. http: s005 radiral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3. http: images. templamonster. 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4. http: www. megabook. r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5. http: www. artzveri. 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6. http: alexnet 3000. narod. 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7. http: photos. lifesphoto. 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8. http: www. abs – color. 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9. http: mistergid. 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7" name="Picture 2" descr="Картинка 120 из 358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260280"/>
            <a:ext cx="835344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8" name="Picture 2" descr="Картинка 45 из 573">
            <a:hlinkClick r:id="rId1"/>
          </p:cNvPr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395280" y="260280"/>
            <a:ext cx="83534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9" name="Picture 10" descr="http://900igr.net/datas/zhivotnye/Dikie-1.files/0013-013-Lisitsa.jpg"/>
          <p:cNvPicPr/>
          <p:nvPr/>
        </p:nvPicPr>
        <p:blipFill>
          <a:blip r:embed="rId1"/>
          <a:stretch/>
        </p:blipFill>
        <p:spPr>
          <a:xfrm>
            <a:off x="5076720" y="2708280"/>
            <a:ext cx="3240360" cy="3816360"/>
          </a:xfrm>
          <a:prstGeom prst="rect">
            <a:avLst/>
          </a:prstGeom>
          <a:ln w="0">
            <a:noFill/>
          </a:ln>
        </p:spPr>
      </p:pic>
      <p:pic>
        <p:nvPicPr>
          <p:cNvPr id="1330" name="Picture 6" descr="Картинка 1077 из 1955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189000"/>
            <a:ext cx="37958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Picture 2" descr="Картинка 1186 из 1142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3394080"/>
            <a:ext cx="3456000" cy="3059280"/>
          </a:xfrm>
          <a:prstGeom prst="rect">
            <a:avLst/>
          </a:prstGeom>
          <a:ln w="0">
            <a:noFill/>
          </a:ln>
        </p:spPr>
      </p:pic>
      <p:pic>
        <p:nvPicPr>
          <p:cNvPr id="1332" name="Picture 6" descr="http://farm4.static.flickr.com/3110/3252280193_36fda09434.jpg"/>
          <p:cNvPicPr/>
          <p:nvPr/>
        </p:nvPicPr>
        <p:blipFill>
          <a:blip r:embed="rId3"/>
          <a:stretch/>
        </p:blipFill>
        <p:spPr>
          <a:xfrm>
            <a:off x="4716360" y="260280"/>
            <a:ext cx="381816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3" name="Picture 2" descr="http://img1.liveinternet.ru/images/foto/b/3/33/2558033/f_18674160.jpg"/>
          <p:cNvPicPr/>
          <p:nvPr/>
        </p:nvPicPr>
        <p:blipFill>
          <a:blip r:embed="rId1"/>
          <a:stretch/>
        </p:blipFill>
        <p:spPr>
          <a:xfrm>
            <a:off x="468360" y="333360"/>
            <a:ext cx="7991280" cy="61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4" name="Picture 2" descr="Картинка 28 из 9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333360"/>
            <a:ext cx="8064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5" name="Picture 2" descr="F:\24014157 - копия.jpg"/>
          <p:cNvPicPr/>
          <p:nvPr/>
        </p:nvPicPr>
        <p:blipFill>
          <a:blip r:embed="rId1"/>
          <a:srcRect l="-19" t="0" r="0" b="0"/>
          <a:stretch/>
        </p:blipFill>
        <p:spPr>
          <a:xfrm>
            <a:off x="755640" y="333360"/>
            <a:ext cx="799308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6" name="Picture 2" descr="http://hunterrussia.ru/images/stories/food/vstat/zayac.jpg"/>
          <p:cNvPicPr/>
          <p:nvPr/>
        </p:nvPicPr>
        <p:blipFill>
          <a:blip r:embed="rId1"/>
          <a:stretch/>
        </p:blipFill>
        <p:spPr>
          <a:xfrm>
            <a:off x="395280" y="404640"/>
            <a:ext cx="8209080" cy="591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1T03:36:26Z</dcterms:created>
  <dc:creator>РОССИЯ</dc:creator>
  <dc:description/>
  <dc:language>en-US</dc:language>
  <cp:lastModifiedBy>дом</cp:lastModifiedBy>
  <dcterms:modified xsi:type="dcterms:W3CDTF">2014-11-08T21:03:54Z</dcterms:modified>
  <cp:revision>55</cp:revision>
  <dc:subject/>
  <dc:title>Слайд 1</dc:title>
</cp:coreProperties>
</file>