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21.gif" ContentType="image/gif"/>
  <Override PartName="/ppt/media/image10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7.jpeg" ContentType="image/jpeg"/>
  <Override PartName="/ppt/media/image12.gif" ContentType="image/gif"/>
  <Override PartName="/ppt/media/image3.png" ContentType="image/png"/>
  <Override PartName="/ppt/media/image24.jpeg" ContentType="image/jpeg"/>
  <Override PartName="/ppt/media/image30.jpeg" ContentType="image/jpeg"/>
  <Override PartName="/ppt/media/image44.png" ContentType="image/pn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6.png" ContentType="image/png"/>
  <Override PartName="/ppt/media/image37.jpeg" ContentType="image/jpeg"/>
  <Override PartName="/ppt/media/image13.png" ContentType="image/png"/>
  <Override PartName="/ppt/media/image32.jpeg" ContentType="image/jpeg"/>
  <Override PartName="/ppt/media/image38.jpeg" ContentType="image/jpeg"/>
  <Override PartName="/ppt/media/image31.jpeg" ContentType="image/jpeg"/>
  <Override PartName="/ppt/media/image25.jpeg" ContentType="image/jpeg"/>
  <Override PartName="/ppt/media/image2.png" ContentType="image/png"/>
  <Override PartName="/ppt/media/image41.png" ContentType="image/png"/>
  <Override PartName="/ppt/media/image43.png" ContentType="image/png"/>
  <Override PartName="/ppt/media/image39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gif" ContentType="image/gi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1.jpeg" ContentType="image/jpeg"/>
  <Override PartName="/ppt/media/image4.jpeg" ContentType="image/jpeg"/>
  <Override PartName="/ppt/media/image4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80F0-2C24-4570-8540-50A784141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EB44-B990-4C2F-8497-9822702E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3559-59EC-48A3-B3C6-08D90F9C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0DC4-5DB4-4A6E-A1DB-32D4CBF7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C767-C549-4CA0-A844-BD94BF0A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885E-6EF8-469D-89D7-5F7AC9EF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796E-9738-42C6-B59F-7D4282C5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556B-32ED-4048-8CE1-F2E66881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6167-6713-4492-8487-FED68727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B4FA-406F-434A-AF1E-07CC8AF4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03FE-01BA-4C0B-B708-FDA9629F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1528-9A77-461B-82B9-DAA30D35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7488-902A-475B-BFA2-0741145052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1585_&#1075;&#1086;&#1076;" TargetMode="External"/><Relationship Id="rId3" Type="http://schemas.openxmlformats.org/officeDocument/2006/relationships/hyperlink" Target="https://ru.wikipedia.org/wiki/1585" TargetMode="External"/><Relationship Id="rId4" Type="http://schemas.openxmlformats.org/officeDocument/2006/relationships/hyperlink" Target="https://ru.wikipedia.org/wiki/1586_&#1075;&#1086;&#1076;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gif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2.gi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1.gif"/><Relationship Id="rId5" Type="http://schemas.openxmlformats.org/officeDocument/2006/relationships/image" Target="../media/image12.gif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12.gif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16.png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12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13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12.gif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13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http://gigabaza.ru/images/57/112027/566837b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стим патриотов Самары Проек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От истоков- до современност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642960" y="1000080"/>
            <a:ext cx="7929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ыполнил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ущина Любовь Михайловна воспита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БДОУ«Детский сад комбинированного вида №383» г. о. Сама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6" descr="Flag_Samara.png"/>
          <p:cNvPicPr/>
          <p:nvPr/>
        </p:nvPicPr>
        <p:blipFill>
          <a:blip r:embed="rId2"/>
          <a:stretch/>
        </p:blipFill>
        <p:spPr>
          <a:xfrm>
            <a:off x="6357960" y="4357800"/>
            <a:ext cx="2060640" cy="1269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http://gigabaza.ru/images/57/112027/566837b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ключительный этап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священие «Мы- юные самарцы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тоальбом «Моя Самара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ыставка совместного творчества родителей и детей «Рисую Самару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Users\Егор\Desktop\маленькие москвичи\MERIT.jpg"/>
          <p:cNvPicPr/>
          <p:nvPr/>
        </p:nvPicPr>
        <p:blipFill>
          <a:blip r:embed="rId2"/>
          <a:stretch/>
        </p:blipFill>
        <p:spPr>
          <a:xfrm>
            <a:off x="3286080" y="3857760"/>
            <a:ext cx="2286000" cy="2493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http://gigabaza.ru/images/57/112027/566837b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сторическая справк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13840" y="1071720"/>
            <a:ext cx="8472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стория Самарского края уходит в глубокую древность. Первое историческое упоминание о местности, на которой позже возникла Самара, относится к 1357 году. Идея строительства русских городов-крепостей на великом волжском пути между Казанью и Астраханью появилась после присоединения края к русскому государству.  В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1585 году</a:t>
            </a:r>
            <a:r>
              <a:rPr b="0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в Самарское урочище прислали подьячих из Разрядного приказа. Они осмотрели местность и выбрали место для строительства крепости, были составлены чертежи и сметы, а указ возглавить экспедицию был послан в конце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1585</a:t>
            </a:r>
            <a:r>
              <a:rPr b="0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— начале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1586 года</a:t>
            </a:r>
            <a:r>
              <a:rPr b="0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алатырскому воеводе князю Григорию Осифовичу Засекину, происходившему из древнего рода князей Ярославских, ведущих свой род от Владимира Мономаха Князь Засекин был первым Самарским воеводой и основателем креп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http://gigabaza.ru/images/57/112027/566837b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99680" y="713880"/>
            <a:ext cx="818676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живленный перекресток торговых путей и плодородные черноземы, богатые пастбища и обильный рыбный промысел стимулировали приток населения и ускоренную колонизацию этих земель. Выделенная в 1850 г. в самостоятельную административную единицу, Самарская губерния славилась по всей России как крупнейший центр хлеботорговли и сельскохозяйственного производства. Здесь творили крупнейшие деятели отечественной и зарубежной культуры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. Н. Толстой, В. Г. Короленко, Н. М. Гарин-Михайловский, А. М. Горький, И. Е. Репин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Я. Гашек и многие друг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http://gigabaza.ru/images/57/112027/566837b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раматические коллизии, переживавшиеся Россией в первые десятилетия ХХ века, не обошли стороной самарскую землю. Три революции, первая мировая и гражданская война оставили глубокий след в истории края. В 1935 г., в соответствии с практикой тех лет, город Самара получил наименование Куйбышев в честь советского партийного и государственного деятеля Валериана Владимировича Куйбышева, соответствующе была переименована и вся область. В своих нынешних границах область существует с декабря 1936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http://gigabaza.ru/images/57/112027/566837b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1000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85840" y="785880"/>
            <a:ext cx="84009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дним из крупнейших индустриальных центров страны она стала в годы второй мировой войны в результате эвакуации сюда с запада ряда машиностроительных и авиационных предприятий. А после переезда в конце 1941 г. в Куйбышев основных правительственных учреждений и дипломатического корпуса город с полным правом стал называться столицей тыла. В послевоенный период область продолжала наращивать свой экономический потенциал, развивая нефтяную и аэрокосмическую промышленность, машиностроение, гидроэнергетику, автомобилестроение. Сегодня, наряду с Москвой, Петербургом, Уралом, Самарская область является одной из несущих опор индустриальной мощи держав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1990 г. городу и области было возвращено историческое название - Самара и Самарская облас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http://gigabaza.ru/images/57/112027/566837b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лаг Самарской обла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6" descr="Flag_Samara.png"/>
          <p:cNvPicPr/>
          <p:nvPr/>
        </p:nvPicPr>
        <p:blipFill>
          <a:blip r:embed="rId2"/>
          <a:stretch/>
        </p:blipFill>
        <p:spPr>
          <a:xfrm>
            <a:off x="714240" y="1500120"/>
            <a:ext cx="7704360" cy="4413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http://gigabaza.ru/images/57/112027/566837b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ерб Самарской обла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Содержимое 5" descr="MERIT.jpg"/>
          <p:cNvPicPr/>
          <p:nvPr/>
        </p:nvPicPr>
        <p:blipFill>
          <a:blip r:embed="rId2"/>
          <a:stretch/>
        </p:blipFill>
        <p:spPr>
          <a:xfrm>
            <a:off x="2496960" y="1600200"/>
            <a:ext cx="4150080" cy="452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http://gigabaza.ru/images/57/112027/566837b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имн Самарской области</a:t>
            </a:r>
            <a:br>
              <a:rPr sz="4000"/>
            </a:b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</a:t>
            </a:r>
            <a:r>
              <a:rPr b="0" i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лова О.Бычкова    Музыка Л.Вохмянина)</a:t>
            </a:r>
            <a:br>
              <a:rPr sz="40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4288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амара, рожденная в сердце России,-</a:t>
            </a:r>
            <a:br>
              <a:rPr sz="1800"/>
            </a:b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родов Поволжья большая семья,</a:t>
            </a:r>
            <a:br>
              <a:rPr sz="1800"/>
            </a:b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веках своё гордое имя носила</a:t>
            </a:r>
            <a:br>
              <a:rPr sz="1800"/>
            </a:b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юбимая наша,</a:t>
            </a:r>
            <a:br>
              <a:rPr sz="1800"/>
            </a:b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амарская наша,</a:t>
            </a:r>
            <a:br>
              <a:rPr sz="1800"/>
            </a:b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 веки священная наша земля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яты раздольной Самарской Лукою</a:t>
            </a:r>
            <a:br>
              <a:rPr sz="1800"/>
            </a:b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одные просторы, леса и поля,</a:t>
            </a:r>
            <a:br>
              <a:rPr sz="1800"/>
            </a:b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венчана гор Жигулевских грядою</a:t>
            </a:r>
            <a:br>
              <a:rPr sz="1800"/>
            </a:b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юбимая наша, </a:t>
            </a:r>
            <a:br>
              <a:rPr sz="1800"/>
            </a:b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амарская наша,</a:t>
            </a:r>
            <a:br>
              <a:rPr sz="1800"/>
            </a:b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 веки священная наша земля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рядущей Победе в суровые годы</a:t>
            </a:r>
            <a:br>
              <a:rPr sz="1800"/>
            </a:b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амара надежные крылья дала!</a:t>
            </a:r>
            <a:br>
              <a:rPr sz="1800"/>
            </a:b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льна и трудом, и талантом народа</a:t>
            </a:r>
            <a:br>
              <a:rPr sz="1800"/>
            </a:b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юбимая наша,</a:t>
            </a:r>
            <a:br>
              <a:rPr sz="1800"/>
            </a:b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амарская наша,</a:t>
            </a:r>
            <a:br>
              <a:rPr sz="1800"/>
            </a:b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 веки священная наша земля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 веки священная</a:t>
            </a:r>
            <a:br>
              <a:rPr sz="1800"/>
            </a:b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лавься, любимая,</a:t>
            </a:r>
            <a:br>
              <a:rPr sz="1800"/>
            </a:b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лавься, Самарская наша земля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5" descr="http://player.myshared.ru/622835/data/images/img9.gif"/>
          <p:cNvPicPr/>
          <p:nvPr/>
        </p:nvPicPr>
        <p:blipFill>
          <a:blip r:embed="rId2"/>
          <a:stretch/>
        </p:blipFill>
        <p:spPr>
          <a:xfrm>
            <a:off x="7143840" y="4714920"/>
            <a:ext cx="1328760" cy="13921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7" descr="http://player.myshared.ru/622835/data/images/img9.gif"/>
          <p:cNvPicPr/>
          <p:nvPr/>
        </p:nvPicPr>
        <p:blipFill>
          <a:blip r:embed="rId3"/>
          <a:stretch/>
        </p:blipFill>
        <p:spPr>
          <a:xfrm>
            <a:off x="7143840" y="1714680"/>
            <a:ext cx="1328760" cy="13921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8" descr="http://player.myshared.ru/622835/data/images/img9.gif"/>
          <p:cNvPicPr/>
          <p:nvPr/>
        </p:nvPicPr>
        <p:blipFill>
          <a:blip r:embed="rId4"/>
          <a:stretch/>
        </p:blipFill>
        <p:spPr>
          <a:xfrm>
            <a:off x="5572080" y="4000680"/>
            <a:ext cx="1328760" cy="13921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9" descr="http://player.myshared.ru/622835/data/images/img9.gif"/>
          <p:cNvPicPr/>
          <p:nvPr/>
        </p:nvPicPr>
        <p:blipFill>
          <a:blip r:embed="rId5"/>
          <a:stretch/>
        </p:blipFill>
        <p:spPr>
          <a:xfrm>
            <a:off x="4643280" y="1571760"/>
            <a:ext cx="1328760" cy="1392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http://gigabaza.ru/images/57/112027/566837b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50004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амара вч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C:\Users\Егор\Desktop\маленькие москвичи\pamyatnik_aleksandru_ii_-_samare_original.jpg"/>
          <p:cNvPicPr/>
          <p:nvPr/>
        </p:nvPicPr>
        <p:blipFill>
          <a:blip r:embed="rId2"/>
          <a:stretch/>
        </p:blipFill>
        <p:spPr>
          <a:xfrm>
            <a:off x="642960" y="1428840"/>
            <a:ext cx="3841560" cy="2357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Егор\Desktop\маленькие москвичи\0caf7646b6178218166ced651f6bf941620d5cf2.jpg"/>
          <p:cNvPicPr/>
          <p:nvPr/>
        </p:nvPicPr>
        <p:blipFill>
          <a:blip r:embed="rId3"/>
          <a:stretch/>
        </p:blipFill>
        <p:spPr>
          <a:xfrm>
            <a:off x="4286160" y="3851280"/>
            <a:ext cx="4214880" cy="2282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Охотничий магазин, купить ружье, оружейный магазин Москвы, купить оружие"/>
          <p:cNvPicPr/>
          <p:nvPr/>
        </p:nvPicPr>
        <p:blipFill>
          <a:blip r:embed="rId4"/>
          <a:stretch/>
        </p:blipFill>
        <p:spPr>
          <a:xfrm>
            <a:off x="1214280" y="3286080"/>
            <a:ext cx="3009960" cy="2800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http://stat17.privet.ru/lr/092f72535930b3cf8b0dd55dc948196e"/>
          <p:cNvPicPr/>
          <p:nvPr/>
        </p:nvPicPr>
        <p:blipFill>
          <a:blip r:embed="rId5"/>
          <a:stretch/>
        </p:blipFill>
        <p:spPr>
          <a:xfrm>
            <a:off x="5000760" y="185724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http://stat17.privet.ru/lr/092f72535930b3cf8b0dd55dc948196e"/>
          <p:cNvPicPr/>
          <p:nvPr/>
        </p:nvPicPr>
        <p:blipFill>
          <a:blip r:embed="rId6"/>
          <a:stretch/>
        </p:blipFill>
        <p:spPr>
          <a:xfrm>
            <a:off x="7238880" y="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1" descr="http://gigabaza.ru/images/57/112027/566837b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амара вч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C:\Users\Егор\Desktop\маленькие москвичи\83549_4.jpg"/>
          <p:cNvPicPr/>
          <p:nvPr/>
        </p:nvPicPr>
        <p:blipFill>
          <a:blip r:embed="rId2"/>
          <a:stretch/>
        </p:blipFill>
        <p:spPr>
          <a:xfrm>
            <a:off x="571680" y="1428840"/>
            <a:ext cx="3929040" cy="2941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Егор\Desktop\маленькие москвичи\i (4).jpg"/>
          <p:cNvPicPr/>
          <p:nvPr/>
        </p:nvPicPr>
        <p:blipFill>
          <a:blip r:embed="rId3"/>
          <a:stretch/>
        </p:blipFill>
        <p:spPr>
          <a:xfrm>
            <a:off x="4572000" y="3714840"/>
            <a:ext cx="3870360" cy="2428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Охотничий магазин, купить ружье, оружейный магазин Москвы, купить оружие"/>
          <p:cNvPicPr/>
          <p:nvPr/>
        </p:nvPicPr>
        <p:blipFill>
          <a:blip r:embed="rId4"/>
          <a:stretch/>
        </p:blipFill>
        <p:spPr>
          <a:xfrm>
            <a:off x="5715000" y="714240"/>
            <a:ext cx="3009960" cy="2800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http://i.pixs.ru/storage/8/0/5/imgfotkiya_8793115_9745805.gif"/>
          <p:cNvPicPr/>
          <p:nvPr/>
        </p:nvPicPr>
        <p:blipFill>
          <a:blip r:embed="rId5"/>
          <a:stretch/>
        </p:blipFill>
        <p:spPr>
          <a:xfrm rot="2836800">
            <a:off x="1090080" y="366192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http://gigabaza.ru/images/57/112027/566837b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56760" y="1000080"/>
            <a:ext cx="8286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зможно, со временем возникнут города на земле во сто крат многолюдней и обширней, но наша Самара не повторится никогда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6" descr="Flag_Samara.png"/>
          <p:cNvPicPr/>
          <p:nvPr/>
        </p:nvPicPr>
        <p:blipFill>
          <a:blip r:embed="rId2"/>
          <a:stretch/>
        </p:blipFill>
        <p:spPr>
          <a:xfrm>
            <a:off x="2643120" y="3857760"/>
            <a:ext cx="371016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http://gigabaza.ru/images/57/112027/566837b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амара вчер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C:\Users\Егор\Desktop\маленькие москвичи\1uUck7ceEow.jpg"/>
          <p:cNvPicPr/>
          <p:nvPr/>
        </p:nvPicPr>
        <p:blipFill>
          <a:blip r:embed="rId2"/>
          <a:stretch/>
        </p:blipFill>
        <p:spPr>
          <a:xfrm>
            <a:off x="857160" y="1643040"/>
            <a:ext cx="3630600" cy="2286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Users\Егор\Desktop\маленькие москвичи\032a.jpg"/>
          <p:cNvPicPr/>
          <p:nvPr/>
        </p:nvPicPr>
        <p:blipFill>
          <a:blip r:embed="rId3"/>
          <a:stretch/>
        </p:blipFill>
        <p:spPr>
          <a:xfrm>
            <a:off x="4643280" y="3571920"/>
            <a:ext cx="3857760" cy="2428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http://stat17.privet.ru/lr/092f72535930b3cf8b0dd55dc948196e"/>
          <p:cNvPicPr/>
          <p:nvPr/>
        </p:nvPicPr>
        <p:blipFill>
          <a:blip r:embed="rId4"/>
          <a:stretch/>
        </p:blipFill>
        <p:spPr>
          <a:xfrm>
            <a:off x="2714760" y="392904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http://stat17.privet.ru/lr/092f72535930b3cf8b0dd55dc948196e"/>
          <p:cNvPicPr/>
          <p:nvPr/>
        </p:nvPicPr>
        <p:blipFill>
          <a:blip r:embed="rId5"/>
          <a:stretch/>
        </p:blipFill>
        <p:spPr>
          <a:xfrm>
            <a:off x="357120" y="46432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8" descr="http://player.myshared.ru/622835/data/images/img9.gif"/>
          <p:cNvPicPr/>
          <p:nvPr/>
        </p:nvPicPr>
        <p:blipFill>
          <a:blip r:embed="rId6"/>
          <a:stretch/>
        </p:blipFill>
        <p:spPr>
          <a:xfrm>
            <a:off x="5643720" y="1714680"/>
            <a:ext cx="1328760" cy="139212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9" descr="http://player.myshared.ru/622835/data/images/img9.gif"/>
          <p:cNvPicPr/>
          <p:nvPr/>
        </p:nvPicPr>
        <p:blipFill>
          <a:blip r:embed="rId7"/>
          <a:stretch/>
        </p:blipFill>
        <p:spPr>
          <a:xfrm>
            <a:off x="7215120" y="642960"/>
            <a:ext cx="1328760" cy="1392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" descr="http://gigabaza.ru/images/57/112027/566837b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амара сегодн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C:\Users\Егор\Desktop\маленькие москвичи\i (2).jpg"/>
          <p:cNvPicPr/>
          <p:nvPr/>
        </p:nvPicPr>
        <p:blipFill>
          <a:blip r:embed="rId2"/>
          <a:stretch/>
        </p:blipFill>
        <p:spPr>
          <a:xfrm>
            <a:off x="1000080" y="1857240"/>
            <a:ext cx="3333960" cy="2500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:\Users\Егор\Desktop\маленькие москвичи\i (6).jpg"/>
          <p:cNvPicPr/>
          <p:nvPr/>
        </p:nvPicPr>
        <p:blipFill>
          <a:blip r:embed="rId3"/>
          <a:stretch/>
        </p:blipFill>
        <p:spPr>
          <a:xfrm>
            <a:off x="4572000" y="3357720"/>
            <a:ext cx="3691080" cy="2768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http://stat17.privet.ru/lr/092f72535930b3cf8b0dd55dc948196e"/>
          <p:cNvPicPr/>
          <p:nvPr/>
        </p:nvPicPr>
        <p:blipFill>
          <a:blip r:embed="rId4"/>
          <a:stretch/>
        </p:blipFill>
        <p:spPr>
          <a:xfrm>
            <a:off x="723888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http://stat17.privet.ru/lr/092f72535930b3cf8b0dd55dc948196e"/>
          <p:cNvPicPr/>
          <p:nvPr/>
        </p:nvPicPr>
        <p:blipFill>
          <a:blip r:embed="rId5"/>
          <a:stretch/>
        </p:blipFill>
        <p:spPr>
          <a:xfrm>
            <a:off x="5286240" y="1357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http://smiles24.ru/data/smiles/anime-zvezdy-387.gif"/>
          <p:cNvPicPr/>
          <p:nvPr/>
        </p:nvPicPr>
        <p:blipFill>
          <a:blip r:embed="rId6"/>
          <a:stretch/>
        </p:blipFill>
        <p:spPr>
          <a:xfrm>
            <a:off x="1428840" y="3143160"/>
            <a:ext cx="2476440" cy="2928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1" descr="http://gigabaza.ru/images/57/112027/566837b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амара сегодн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C:\Users\Егор\Desktop\маленькие москвичи\0_6f3d1_6902a5de_XL.jpg"/>
          <p:cNvPicPr/>
          <p:nvPr/>
        </p:nvPicPr>
        <p:blipFill>
          <a:blip r:embed="rId2"/>
          <a:stretch/>
        </p:blipFill>
        <p:spPr>
          <a:xfrm>
            <a:off x="4357800" y="3071880"/>
            <a:ext cx="4071960" cy="2928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C:\Users\Егор\Desktop\маленькие москвичи\b829c15b2112.jpg"/>
          <p:cNvPicPr/>
          <p:nvPr/>
        </p:nvPicPr>
        <p:blipFill>
          <a:blip r:embed="rId3"/>
          <a:stretch/>
        </p:blipFill>
        <p:spPr>
          <a:xfrm>
            <a:off x="785880" y="1571760"/>
            <a:ext cx="3357360" cy="4476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http://smiles24.ru/data/smiles/anime-zvezdy-387.gif"/>
          <p:cNvPicPr/>
          <p:nvPr/>
        </p:nvPicPr>
        <p:blipFill>
          <a:blip r:embed="rId4"/>
          <a:stretch/>
        </p:blipFill>
        <p:spPr>
          <a:xfrm>
            <a:off x="155520" y="-5475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Охотничий магазин, купить ружье, оружейный магазин Москвы, купить оружие"/>
          <p:cNvPicPr/>
          <p:nvPr/>
        </p:nvPicPr>
        <p:blipFill>
          <a:blip r:embed="rId5"/>
          <a:stretch/>
        </p:blipFill>
        <p:spPr>
          <a:xfrm>
            <a:off x="5929200" y="214200"/>
            <a:ext cx="3009960" cy="2800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http://i.pixs.ru/storage/8/0/5/imgfotkiya_8793115_9745805.gif"/>
          <p:cNvPicPr/>
          <p:nvPr/>
        </p:nvPicPr>
        <p:blipFill>
          <a:blip r:embed="rId6"/>
          <a:stretch/>
        </p:blipFill>
        <p:spPr>
          <a:xfrm rot="2836800">
            <a:off x="1233000" y="366192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1" descr="http://gigabaza.ru/images/57/112027/566837b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амара сегодн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C:\Users\Егор\Desktop\маленькие москвичи\Samara_ladya.jpg"/>
          <p:cNvPicPr/>
          <p:nvPr/>
        </p:nvPicPr>
        <p:blipFill>
          <a:blip r:embed="rId2"/>
          <a:stretch/>
        </p:blipFill>
        <p:spPr>
          <a:xfrm>
            <a:off x="642960" y="135720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:\Users\Егор\Desktop\маленькие москвичи\90549271_24a39bb7a6ae.jpg"/>
          <p:cNvPicPr/>
          <p:nvPr/>
        </p:nvPicPr>
        <p:blipFill>
          <a:blip r:embed="rId3"/>
          <a:stretch/>
        </p:blipFill>
        <p:spPr>
          <a:xfrm>
            <a:off x="4572000" y="3286080"/>
            <a:ext cx="3905280" cy="2941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Охотничий магазин, купить ружье, оружейный магазин Москвы, купить оружие"/>
          <p:cNvPicPr/>
          <p:nvPr/>
        </p:nvPicPr>
        <p:blipFill>
          <a:blip r:embed="rId4"/>
          <a:stretch/>
        </p:blipFill>
        <p:spPr>
          <a:xfrm>
            <a:off x="5786280" y="500040"/>
            <a:ext cx="3009960" cy="2800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http://stat17.privet.ru/lr/092f72535930b3cf8b0dd55dc948196e"/>
          <p:cNvPicPr/>
          <p:nvPr/>
        </p:nvPicPr>
        <p:blipFill>
          <a:blip r:embed="rId5"/>
          <a:stretch/>
        </p:blipFill>
        <p:spPr>
          <a:xfrm>
            <a:off x="1428840" y="44290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1" descr="http://gigabaza.ru/images/57/112027/566837b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амара сегодн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C:\Users\Егор\Desktop\маленькие москвичи\i (7).jpg"/>
          <p:cNvPicPr/>
          <p:nvPr/>
        </p:nvPicPr>
        <p:blipFill>
          <a:blip r:embed="rId2"/>
          <a:stretch/>
        </p:blipFill>
        <p:spPr>
          <a:xfrm>
            <a:off x="785880" y="1571760"/>
            <a:ext cx="3000240" cy="3000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C:\Users\Егор\Desktop\маленькие москвичи\main18212379_de8eb0b41c2b1a31834f93061fcf6e22.jpg"/>
          <p:cNvPicPr/>
          <p:nvPr/>
        </p:nvPicPr>
        <p:blipFill>
          <a:blip r:embed="rId3"/>
          <a:stretch/>
        </p:blipFill>
        <p:spPr>
          <a:xfrm>
            <a:off x="4143240" y="3071880"/>
            <a:ext cx="4199040" cy="3008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http://i.pixs.ru/storage/8/0/5/imgfotkiya_8793115_9745805.gif"/>
          <p:cNvPicPr/>
          <p:nvPr/>
        </p:nvPicPr>
        <p:blipFill>
          <a:blip r:embed="rId4"/>
          <a:stretch/>
        </p:blipFill>
        <p:spPr>
          <a:xfrm rot="2836800">
            <a:off x="428400" y="357192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7" descr="http://player.myshared.ru/622835/data/images/img9.gif"/>
          <p:cNvPicPr/>
          <p:nvPr/>
        </p:nvPicPr>
        <p:blipFill>
          <a:blip r:embed="rId5"/>
          <a:stretch/>
        </p:blipFill>
        <p:spPr>
          <a:xfrm>
            <a:off x="5500800" y="1571760"/>
            <a:ext cx="1328760" cy="139212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8" descr="http://player.myshared.ru/622835/data/images/img9.gif"/>
          <p:cNvPicPr/>
          <p:nvPr/>
        </p:nvPicPr>
        <p:blipFill>
          <a:blip r:embed="rId6"/>
          <a:stretch/>
        </p:blipFill>
        <p:spPr>
          <a:xfrm>
            <a:off x="7500960" y="357120"/>
            <a:ext cx="1328760" cy="1392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1" descr="http://gigabaza.ru/images/57/112027/566837b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амара завтр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Егор\Desktop\маленькие москвичи\0142348.jpg"/>
          <p:cNvPicPr/>
          <p:nvPr/>
        </p:nvPicPr>
        <p:blipFill>
          <a:blip r:embed="rId2"/>
          <a:stretch/>
        </p:blipFill>
        <p:spPr>
          <a:xfrm>
            <a:off x="857160" y="1714680"/>
            <a:ext cx="3621240" cy="2357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C:\Users\Егор\Desktop\маленькие москвичи\i (8).jpg"/>
          <p:cNvPicPr/>
          <p:nvPr/>
        </p:nvPicPr>
        <p:blipFill>
          <a:blip r:embed="rId3"/>
          <a:stretch/>
        </p:blipFill>
        <p:spPr>
          <a:xfrm>
            <a:off x="4703760" y="3357720"/>
            <a:ext cx="3751200" cy="2786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Охотничий магазин, купить ружье, оружейный магазин Москвы, купить оружие"/>
          <p:cNvPicPr/>
          <p:nvPr/>
        </p:nvPicPr>
        <p:blipFill>
          <a:blip r:embed="rId4"/>
          <a:stretch/>
        </p:blipFill>
        <p:spPr>
          <a:xfrm>
            <a:off x="5857920" y="571680"/>
            <a:ext cx="3009960" cy="280008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7" descr="http://player.myshared.ru/622835/data/images/img9.gif"/>
          <p:cNvPicPr/>
          <p:nvPr/>
        </p:nvPicPr>
        <p:blipFill>
          <a:blip r:embed="rId5"/>
          <a:stretch/>
        </p:blipFill>
        <p:spPr>
          <a:xfrm rot="4917600">
            <a:off x="2617560" y="4487400"/>
            <a:ext cx="1328760" cy="13924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8" descr="http://player.myshared.ru/622835/data/images/img9.gif"/>
          <p:cNvPicPr/>
          <p:nvPr/>
        </p:nvPicPr>
        <p:blipFill>
          <a:blip r:embed="rId6"/>
          <a:stretch/>
        </p:blipFill>
        <p:spPr>
          <a:xfrm>
            <a:off x="1214280" y="4429080"/>
            <a:ext cx="1328760" cy="1392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1" descr="http://gigabaza.ru/images/57/112027/566837b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амара завтр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3" descr="C:\Users\Егор\Desktop\маленькие москвичи\3d_046-crop.jpg"/>
          <p:cNvPicPr/>
          <p:nvPr/>
        </p:nvPicPr>
        <p:blipFill>
          <a:blip r:embed="rId2"/>
          <a:stretch/>
        </p:blipFill>
        <p:spPr>
          <a:xfrm>
            <a:off x="714240" y="1643040"/>
            <a:ext cx="3714840" cy="2784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C:\Users\Егор\Desktop\маленькие москвичи\image67166338.jpg"/>
          <p:cNvPicPr/>
          <p:nvPr/>
        </p:nvPicPr>
        <p:blipFill>
          <a:blip r:embed="rId3"/>
          <a:stretch/>
        </p:blipFill>
        <p:spPr>
          <a:xfrm>
            <a:off x="4714920" y="3387600"/>
            <a:ext cx="3690720" cy="269892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7" descr="http://player.myshared.ru/622835/data/images/img9.gif"/>
          <p:cNvPicPr/>
          <p:nvPr/>
        </p:nvPicPr>
        <p:blipFill>
          <a:blip r:embed="rId4"/>
          <a:stretch/>
        </p:blipFill>
        <p:spPr>
          <a:xfrm rot="6286200">
            <a:off x="5500080" y="1571400"/>
            <a:ext cx="1328760" cy="139248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8" descr="http://player.myshared.ru/622835/data/images/img9.gif"/>
          <p:cNvPicPr/>
          <p:nvPr/>
        </p:nvPicPr>
        <p:blipFill>
          <a:blip r:embed="rId5"/>
          <a:stretch/>
        </p:blipFill>
        <p:spPr>
          <a:xfrm>
            <a:off x="7429680" y="500040"/>
            <a:ext cx="1328400" cy="139212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9" descr="http://player.myshared.ru/622835/data/images/img9.gif"/>
          <p:cNvPicPr/>
          <p:nvPr/>
        </p:nvPicPr>
        <p:blipFill>
          <a:blip r:embed="rId6"/>
          <a:stretch/>
        </p:blipFill>
        <p:spPr>
          <a:xfrm>
            <a:off x="3000240" y="4714920"/>
            <a:ext cx="1328760" cy="13921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0" descr="http://player.myshared.ru/622835/data/images/img9.gif"/>
          <p:cNvPicPr/>
          <p:nvPr/>
        </p:nvPicPr>
        <p:blipFill>
          <a:blip r:embed="rId7"/>
          <a:stretch/>
        </p:blipFill>
        <p:spPr>
          <a:xfrm rot="17987400">
            <a:off x="1071360" y="4857120"/>
            <a:ext cx="1328760" cy="1392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1" descr="http://gigabaza.ru/images/57/112027/566837b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ы  патриоты Самар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C:\Users\Егор\Desktop\маленькие москвичи\image (3).jpg"/>
          <p:cNvPicPr/>
          <p:nvPr/>
        </p:nvPicPr>
        <p:blipFill>
          <a:blip r:embed="rId2"/>
          <a:stretch/>
        </p:blipFill>
        <p:spPr>
          <a:xfrm>
            <a:off x="857160" y="1500120"/>
            <a:ext cx="3321000" cy="4429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C:\Users\Егор\Desktop\маленькие москвичи\image.jpg"/>
          <p:cNvPicPr/>
          <p:nvPr/>
        </p:nvPicPr>
        <p:blipFill>
          <a:blip r:embed="rId3"/>
          <a:stretch/>
        </p:blipFill>
        <p:spPr>
          <a:xfrm>
            <a:off x="4929120" y="1500120"/>
            <a:ext cx="3322800" cy="4429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http://stat17.privet.ru/lr/092f72535930b3cf8b0dd55dc948196e"/>
          <p:cNvPicPr/>
          <p:nvPr/>
        </p:nvPicPr>
        <p:blipFill>
          <a:blip r:embed="rId4"/>
          <a:stretch/>
        </p:blipFill>
        <p:spPr>
          <a:xfrm>
            <a:off x="7238880" y="214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http://i.pixs.ru/storage/8/0/5/imgfotkiya_8793115_9745805.gif"/>
          <p:cNvPicPr/>
          <p:nvPr/>
        </p:nvPicPr>
        <p:blipFill>
          <a:blip r:embed="rId5"/>
          <a:stretch/>
        </p:blipFill>
        <p:spPr>
          <a:xfrm rot="2836800">
            <a:off x="2376000" y="401904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1" descr="http://gigabaza.ru/images/57/112027/566837b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ы  патриоты Самар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C:\Users\Егор\Desktop\маленькие москвичи\aGN_IKGAWGs.jpg"/>
          <p:cNvPicPr/>
          <p:nvPr/>
        </p:nvPicPr>
        <p:blipFill>
          <a:blip r:embed="rId2"/>
          <a:stretch/>
        </p:blipFill>
        <p:spPr>
          <a:xfrm>
            <a:off x="571680" y="1357200"/>
            <a:ext cx="4071600" cy="2706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C:\Users\Егор\Desktop\маленькие москвичи\image (2).jpg"/>
          <p:cNvPicPr/>
          <p:nvPr/>
        </p:nvPicPr>
        <p:blipFill>
          <a:blip r:embed="rId3"/>
          <a:stretch/>
        </p:blipFill>
        <p:spPr>
          <a:xfrm>
            <a:off x="4714920" y="33577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Охотничий магазин, купить ружье, оружейный магазин Москвы, купить оружие"/>
          <p:cNvPicPr/>
          <p:nvPr/>
        </p:nvPicPr>
        <p:blipFill>
          <a:blip r:embed="rId4"/>
          <a:stretch/>
        </p:blipFill>
        <p:spPr>
          <a:xfrm>
            <a:off x="5929200" y="214200"/>
            <a:ext cx="3009960" cy="2800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Чемпионат Мира и Спешиалити Шоу Зенненхундов - Страница 61 - BernClub - все о зенненхундах"/>
          <p:cNvPicPr/>
          <p:nvPr/>
        </p:nvPicPr>
        <p:blipFill>
          <a:blip r:embed="rId5"/>
          <a:stretch/>
        </p:blipFill>
        <p:spPr>
          <a:xfrm>
            <a:off x="785880" y="3895560"/>
            <a:ext cx="2700360" cy="2962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1" descr="http://gigabaza.ru/images/57/112027/566837b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ы  патриоты Самар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C:\Users\Егор\Desktop\маленькие москвичи\image (4).jpg"/>
          <p:cNvPicPr/>
          <p:nvPr/>
        </p:nvPicPr>
        <p:blipFill>
          <a:blip r:embed="rId2"/>
          <a:stretch/>
        </p:blipFill>
        <p:spPr>
          <a:xfrm>
            <a:off x="714240" y="1547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C:\Users\Егор\Desktop\с фотика\CIMG7036.JPG"/>
          <p:cNvPicPr/>
          <p:nvPr/>
        </p:nvPicPr>
        <p:blipFill>
          <a:blip r:embed="rId3"/>
          <a:stretch/>
        </p:blipFill>
        <p:spPr>
          <a:xfrm>
            <a:off x="4714920" y="1571760"/>
            <a:ext cx="3268440" cy="4357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http://stat17.privet.ru/lr/092f72535930b3cf8b0dd55dc948196e"/>
          <p:cNvPicPr/>
          <p:nvPr/>
        </p:nvPicPr>
        <p:blipFill>
          <a:blip r:embed="rId4"/>
          <a:stretch/>
        </p:blipFill>
        <p:spPr>
          <a:xfrm>
            <a:off x="7429680" y="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http://i.pixs.ru/storage/8/0/5/imgfotkiya_8793115_9745805.gif"/>
          <p:cNvPicPr/>
          <p:nvPr/>
        </p:nvPicPr>
        <p:blipFill>
          <a:blip r:embed="rId5"/>
          <a:stretch/>
        </p:blipFill>
        <p:spPr>
          <a:xfrm rot="2836800">
            <a:off x="2947680" y="40194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http://gigabaza.ru/images/57/112027/566837b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частники проекта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спитатель групп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ети старшей группы №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одители воспитан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ид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знавательно-творческ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должительнос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раткосроч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6" descr="Flag_Samara.png"/>
          <p:cNvPicPr/>
          <p:nvPr/>
        </p:nvPicPr>
        <p:blipFill>
          <a:blip r:embed="rId2"/>
          <a:stretch/>
        </p:blipFill>
        <p:spPr>
          <a:xfrm>
            <a:off x="6572160" y="5000760"/>
            <a:ext cx="2060640" cy="1269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Рисунок 1" descr="http://gigabaza.ru/images/57/112027/566837b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ы  патриоты Самар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3" descr="C:\Users\Егор\Desktop\маленькие москвичи\image (1).jpg"/>
          <p:cNvPicPr/>
          <p:nvPr/>
        </p:nvPicPr>
        <p:blipFill>
          <a:blip r:embed="rId2"/>
          <a:stretch/>
        </p:blipFill>
        <p:spPr>
          <a:xfrm>
            <a:off x="1571760" y="1500120"/>
            <a:ext cx="6000480" cy="4500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http://stat17.privet.ru/lr/092f72535930b3cf8b0dd55dc948196e"/>
          <p:cNvPicPr/>
          <p:nvPr/>
        </p:nvPicPr>
        <p:blipFill>
          <a:blip r:embed="rId3"/>
          <a:stretch/>
        </p:blipFill>
        <p:spPr>
          <a:xfrm>
            <a:off x="7238880" y="214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http://stat17.privet.ru/lr/092f72535930b3cf8b0dd55dc948196e"/>
          <p:cNvPicPr/>
          <p:nvPr/>
        </p:nvPicPr>
        <p:blipFill>
          <a:blip r:embed="rId4"/>
          <a:stretch/>
        </p:blipFill>
        <p:spPr>
          <a:xfrm>
            <a:off x="0" y="214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http://stat17.privet.ru/lr/092f72535930b3cf8b0dd55dc948196e"/>
          <p:cNvPicPr/>
          <p:nvPr/>
        </p:nvPicPr>
        <p:blipFill>
          <a:blip r:embed="rId5"/>
          <a:stretch/>
        </p:blipFill>
        <p:spPr>
          <a:xfrm>
            <a:off x="7238880" y="4952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http://stat17.privet.ru/lr/092f72535930b3cf8b0dd55dc948196e"/>
          <p:cNvPicPr/>
          <p:nvPr/>
        </p:nvPicPr>
        <p:blipFill>
          <a:blip r:embed="rId6"/>
          <a:stretch/>
        </p:blipFill>
        <p:spPr>
          <a:xfrm>
            <a:off x="0" y="4952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Рисунок 1" descr="http://gigabaza.ru/images/57/112027/566837b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5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 rot="10800000">
            <a:off x="457200" y="2927880"/>
            <a:ext cx="822960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" descr="Чемпионат Мира и Спешиалити Шоу Зенненхундов - Страница 61 - BernClub - все о зенненхундах"/>
          <p:cNvPicPr/>
          <p:nvPr/>
        </p:nvPicPr>
        <p:blipFill>
          <a:blip r:embed="rId2"/>
          <a:stretch/>
        </p:blipFill>
        <p:spPr>
          <a:xfrm>
            <a:off x="5286240" y="0"/>
            <a:ext cx="4572000" cy="3633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Чемпионат Мира и Спешиалити Шоу Зенненхундов - Страница 61 - BernClub - все о зенненхундах"/>
          <p:cNvPicPr/>
          <p:nvPr/>
        </p:nvPicPr>
        <p:blipFill>
          <a:blip r:embed="rId3"/>
          <a:stretch/>
        </p:blipFill>
        <p:spPr>
          <a:xfrm>
            <a:off x="-428760" y="214200"/>
            <a:ext cx="3386160" cy="37148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Чемпионат Мира и Спешиалити Шоу Зенненхундов - Страница 61 - BernClub - все о зенненхундах"/>
          <p:cNvPicPr/>
          <p:nvPr/>
        </p:nvPicPr>
        <p:blipFill>
          <a:blip r:embed="rId4"/>
          <a:stretch/>
        </p:blipFill>
        <p:spPr>
          <a:xfrm>
            <a:off x="2500200" y="857160"/>
            <a:ext cx="3500640" cy="2276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Чемпионат Мира и Спешиалити Шоу Зенненхундов - Страница 61 - BernClub - все о зенненхундах"/>
          <p:cNvPicPr/>
          <p:nvPr/>
        </p:nvPicPr>
        <p:blipFill>
          <a:blip r:embed="rId5"/>
          <a:stretch/>
        </p:blipFill>
        <p:spPr>
          <a:xfrm>
            <a:off x="0" y="3071880"/>
            <a:ext cx="4548240" cy="42051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Чемпионат Мира и Спешиалити Шоу Зенненхундов - Страница 61 - BernClub - все о зенненхундах"/>
          <p:cNvPicPr/>
          <p:nvPr/>
        </p:nvPicPr>
        <p:blipFill>
          <a:blip r:embed="rId6"/>
          <a:stretch/>
        </p:blipFill>
        <p:spPr>
          <a:xfrm>
            <a:off x="5643720" y="3071880"/>
            <a:ext cx="3500280" cy="31431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Чемпионат Мира и Спешиалити Шоу Зенненхундов - Страница 61 - BernClub - все о зенненхундах"/>
          <p:cNvPicPr/>
          <p:nvPr/>
        </p:nvPicPr>
        <p:blipFill>
          <a:blip r:embed="rId7"/>
          <a:stretch/>
        </p:blipFill>
        <p:spPr>
          <a:xfrm>
            <a:off x="3429000" y="3500280"/>
            <a:ext cx="3311640" cy="3633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1" descr="http://gigabaza.ru/images/57/112027/566837b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исок используемой литератур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нтернет источник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. city.samara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 protown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 ru.wikipedia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. samaraart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Рисунок 10" descr="http://player.myshared.ru/622835/data/images/img9.gif"/>
          <p:cNvPicPr/>
          <p:nvPr/>
        </p:nvPicPr>
        <p:blipFill>
          <a:blip r:embed="rId2"/>
          <a:stretch/>
        </p:blipFill>
        <p:spPr>
          <a:xfrm>
            <a:off x="6215040" y="2000160"/>
            <a:ext cx="1328760" cy="139248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11" descr="http://player.myshared.ru/622835/data/images/img9.gif"/>
          <p:cNvPicPr/>
          <p:nvPr/>
        </p:nvPicPr>
        <p:blipFill>
          <a:blip r:embed="rId3"/>
          <a:stretch/>
        </p:blipFill>
        <p:spPr>
          <a:xfrm>
            <a:off x="6286680" y="4500720"/>
            <a:ext cx="1328400" cy="13921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12" descr="http://player.myshared.ru/622835/data/images/img9.gif"/>
          <p:cNvPicPr/>
          <p:nvPr/>
        </p:nvPicPr>
        <p:blipFill>
          <a:blip r:embed="rId4"/>
          <a:stretch/>
        </p:blipFill>
        <p:spPr>
          <a:xfrm>
            <a:off x="2857680" y="4714920"/>
            <a:ext cx="1328400" cy="139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http://gigabaza.ru/images/57/112027/566837b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ель проект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огащать духовный мир детей через историческое прошлое Самар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должать воспитывать любовь к родной Самар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крепить знания о символике гор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6" descr="Flag_Samara.png"/>
          <p:cNvPicPr/>
          <p:nvPr/>
        </p:nvPicPr>
        <p:blipFill>
          <a:blip r:embed="rId2"/>
          <a:stretch/>
        </p:blipFill>
        <p:spPr>
          <a:xfrm>
            <a:off x="6429240" y="4929120"/>
            <a:ext cx="2060640" cy="12700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http://gigabaza.ru/images/57/112027/566837b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чи проект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спитывать любовь к Самаре, умение видеть прекрасно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ать знания детям о родном городе, его истории, символике, достопримечательностя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интересовать родителей, показать важность воспитания нравственных основ гражданских качеств де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Егор\Desktop\маленькие москвичи\MERIT.jpg"/>
          <p:cNvPicPr/>
          <p:nvPr/>
        </p:nvPicPr>
        <p:blipFill>
          <a:blip r:embed="rId2"/>
          <a:stretch/>
        </p:blipFill>
        <p:spPr>
          <a:xfrm>
            <a:off x="7429680" y="571680"/>
            <a:ext cx="1143000" cy="1245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http://gigabaza.ru/images/57/112027/566837b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ктуальность проект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спитание любви и уважения к своему городу является важнейшей составляющей нравственно-патриотического воспитания. Чтобы воспитать патриота своего города, надо знать свой гор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6" descr="Flag_Samara.png"/>
          <p:cNvPicPr/>
          <p:nvPr/>
        </p:nvPicPr>
        <p:blipFill>
          <a:blip r:embed="rId2"/>
          <a:stretch/>
        </p:blipFill>
        <p:spPr>
          <a:xfrm>
            <a:off x="6286680" y="4714920"/>
            <a:ext cx="2060280" cy="127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http://gigabaza.ru/images/57/112027/566837b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едполагаемый результа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спитать маленького гражданина своего город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вить желание посещать достопримечательности Самары, получать моральное, эстетическое удовлетвор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6" descr="Flag_Samara.png"/>
          <p:cNvPicPr/>
          <p:nvPr/>
        </p:nvPicPr>
        <p:blipFill>
          <a:blip r:embed="rId2"/>
          <a:stretch/>
        </p:blipFill>
        <p:spPr>
          <a:xfrm>
            <a:off x="6572160" y="5000760"/>
            <a:ext cx="2060640" cy="1269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http://gigabaza.ru/images/57/112027/566837b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едварительный этап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зучение проблемы по данному вопросу через изучение методической литератур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дбор демонстрационного материал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дбор литературного материала по данной тем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ведение занятий, игр, чтение художественной литератур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снащение предметно-развивающей сред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нкетирование родителей по данной те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Users\Егор\Desktop\маленькие москвичи\MERIT.jpg"/>
          <p:cNvPicPr/>
          <p:nvPr/>
        </p:nvPicPr>
        <p:blipFill>
          <a:blip r:embed="rId2"/>
          <a:stretch/>
        </p:blipFill>
        <p:spPr>
          <a:xfrm>
            <a:off x="7429680" y="571680"/>
            <a:ext cx="1143000" cy="1245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http://gigabaza.ru/images/57/112027/566837b0.jpg"/>
          <p:cNvPicPr/>
          <p:nvPr/>
        </p:nvPicPr>
        <p:blipFill>
          <a:blip r:embed="rId1"/>
          <a:stretch/>
        </p:blipFill>
        <p:spPr>
          <a:xfrm>
            <a:off x="-223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сновной этап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4000" y="1417320"/>
            <a:ext cx="79023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еседы с детьми о истории города и его основателя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слушивание аудиозаписей песен о Самар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учивание стихов о родном кра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формление альбома «Моя Самар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6" descr="Flag_Samara.png"/>
          <p:cNvPicPr/>
          <p:nvPr/>
        </p:nvPicPr>
        <p:blipFill>
          <a:blip r:embed="rId2"/>
          <a:stretch/>
        </p:blipFill>
        <p:spPr>
          <a:xfrm>
            <a:off x="6143760" y="4714920"/>
            <a:ext cx="2319120" cy="1430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9T13:25:38Z</dcterms:created>
  <dc:creator>Егор Гущин</dc:creator>
  <dc:description/>
  <dc:language>en-US</dc:language>
  <cp:lastModifiedBy>Егор Гущин</cp:lastModifiedBy>
  <dcterms:modified xsi:type="dcterms:W3CDTF">2014-11-08T09:42:05Z</dcterms:modified>
  <cp:revision>93</cp:revision>
  <dc:subject/>
  <dc:title>Слайд 1</dc:title>
</cp:coreProperties>
</file>