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6D5-2D87-4BBE-B4AD-4BE62752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8E0-EEC4-4DD4-9D9D-5BE118C8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8B3-36FC-4E83-A0B9-032D2308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333-254A-4ADA-AEC1-9A7F5D9A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6E38-74A9-44C4-9926-09595A1A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5A61-21B6-48FE-86DB-6EA387AE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329C-3C7E-438E-BAF4-B4FA66BF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B0D4-C657-4496-A264-E53E7370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255B-3FF8-4AFD-8B34-485D0C62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4740-E8E0-4584-B73B-FC883C09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2143-BB97-419D-BD3A-D7A76E7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376-8060-4BEF-A125-591CC584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BBC3-7BCD-49B1-9353-D90EDAF7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1A63-2281-4A7D-9F3C-B73A7A2A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BA0A-FA3B-4A35-BE67-AE38FB93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ABFB-01EA-405B-A227-0926C6BD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9D36-C43E-46B6-AFD2-8E3DCDE6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C19-05FB-43A2-BAFA-C791B7DF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240-8AA1-4B28-AC8A-30D6F5E5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44C-CECE-469B-9666-8BB98352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124-1E45-442D-8440-89DD7490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261-3A86-496C-987A-AC3459C2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C2C-D09D-47D9-A551-1C493911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C33-9E3A-4298-9584-A23D1CAA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2788-04D8-4724-AD03-111970D2111C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1955-A410-4145-8954-B79DA1E14DA7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18288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ijaya"/>
              </a:rPr>
              <a:t>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Vijaya"/>
              </a:rPr>
              <a:t>Социальный проект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Vijaya"/>
              </a:rPr>
              <a:t>      Речевой портрет учащихся</a:t>
            </a:r>
            <a:r>
              <a:rPr b="0" i="1" lang="ru-RU" sz="2800" spc="-1" strike="noStrike">
                <a:solidFill>
                  <a:srgbClr val="ffffff"/>
                </a:solidFill>
                <a:latin typeface="Vijay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Vijaya"/>
              </a:rPr>
              <a:t>нашей школы</a:t>
            </a:r>
            <a:r>
              <a:rPr b="0" i="1" lang="ru-RU" sz="2800" spc="-1" strike="noStrike">
                <a:solidFill>
                  <a:srgbClr val="ffffff"/>
                </a:solidFill>
                <a:latin typeface="Vijay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выполнила: Михайлова Анастас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ница 11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Алексейковская СО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: Серебрякова Татьяна Василье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1" descr="DSCF0180"/>
          <p:cNvPicPr/>
          <p:nvPr/>
        </p:nvPicPr>
        <p:blipFill>
          <a:blip r:embed="rId1"/>
          <a:stretch/>
        </p:blipFill>
        <p:spPr>
          <a:xfrm>
            <a:off x="152280" y="32004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DSCF0206 - копия"/>
          <p:cNvPicPr/>
          <p:nvPr/>
        </p:nvPicPr>
        <p:blipFill>
          <a:blip r:embed="rId2"/>
          <a:stretch/>
        </p:blipFill>
        <p:spPr>
          <a:xfrm>
            <a:off x="6629400" y="0"/>
            <a:ext cx="2286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В официальной обстановке учащиеся контролируют свою речь, стараясь держаться в рамках литературной нор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Фразеологизмы не входят в активный словарный запас школьников, что говорит о небольшом речевом опыте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Метафорический смысл фразеологизмов большинству опрошенных непонят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пьютерная лексика – это слова, тематически связанные с компьютерной сферой и сферой компьютерного общ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ые представленные в анкетах слов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и компьютера (7 слов): монитор, мышка, процессор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йствия компьютера (11 слов): завис, глючит, форматнуть, грузит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пьютерные игры (9 слов): сонька, стратегии, стрелялки, гонки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сители информации (4 слова): флешка, флеха, болванка, жесткий дис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вание глобальной сети (4 слова): нэт, инет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-F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аут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именование компьютера (3 слова): комп, компик, ноу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сем не указали учащиеся таких слов, как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ртал, чат, ник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айт, бло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говорит о том, что активными пользователями социальных сетей учащиеся пока не являю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ь слов, используемых ребятами, являются компьютерными терминами (монитор, клавиатура, процессор, принтер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инство компьютерных слов сленговые: клава, флеха, винда, виста, болванка, компи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им образом, компьютерная лексика – важная составляющая лексического портрета учащихся нашей школ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489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Жаргонные слова и выражения (сленг)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лен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разновидность речи, используемая преимущественно в устном общении относительно устойчивой социальной группой, объединяюще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людей по профессии или возраст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Сленг используется большинством учащихся, но 26 % понимают значение термина на уровне интуиции, 26 % знают его научное определение, 42 % затрудняются определить это поняти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На вопрос: «Употребляете ли вы в своей речи сленг?»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Ответ: «Да» - 50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«Нет» - 8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«Иногда» - 26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«Не знаю» - 9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енгом учащиеся пользуются в разных ситуациях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«В кругу друзей» - 53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«В школе» - 39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«На улице» - 39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«Среди сверстников» - 3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Настроение на использование сленга не влияет, это отметили 48%, в хорошем настроении употребляют сленг 21%, в плохом 21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924680" y="6171840"/>
            <a:ext cx="76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 мнению учащихся одобряют сленг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дноклассники и сверстники» - 4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никто не одобряет» – 1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все одобряют» – 10,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богащает ли сленг русский язык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нет» - 2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скорее да, чем нет» - 2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скорее нет, чем да» - 1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аличие сленговых слов и выражений говорит 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ринадлежности к молодёжной субкультуре – 32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желании быть как все – 2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желании выделиться из толпы – 1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затруднились ответить – 2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ы свидетельствуют о том, что учащиеся употребляют сленг, чтобы вписаться в молодёжный круг общ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бсолютное большинство ребят считает, что у сленга есть будущее - 42%; другие уверены, что сленг изменится, но сохранится как язык молодёжи – 34%; а 13% предполагают, что будущего у сленга н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ми составлен словарь сленговых слов и выражений учащихся, в котором представлены слова различных тематических групп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1.Сфера школ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наименования предметов: природа, физра, матика, немец, фра, руссиш, геша, литер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наименования оценок: пара, кол, тройбан, трояк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менования учителей и учеников: училка, козёл, ботаник, лошара, очкарик, лох, чувак, пацан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2.Сфера оценк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ложительная оценка: классно, жесть, офигенно, клёво, круто, прикольно, здорово, да ты чё, ваще, класс, всё о,кей, сто пудово,всё чётко, нормуль, супер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трицательная оценка: фигня, накосячил, печалька, ни о чём, отсто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3.Сфера досуга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бухать, тусить, бабло, косяк, сталкер, зажигать, отрываться, ужратьс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4.Жаргон сферы быт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лова, называющие части тела: башка, грабли, лыжи, пузо, мамон, хавальник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дежда, обувь: прикид, кросы, труселя, портки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лова, называющие технику: комп, клава, тачка, буфер, ноут, моби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арь сленговых слов и выраж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ловарь активного сленга подростков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енг обновляется с течением времени, появление новых понятий и исчезновение старых происходит довольно быстро. В ходе работы мы сравнили словарь активного сленга подростков (100 слов) и словарь сленга учащихся 5-11 классов нашей школы. Заметные изменения произошли в составе сленг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лось сленговое значение у 87% сл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ська – социальная се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лин – разочарование, неудач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зар – разговор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ухло – алкогольные напит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бло – деньг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сечь – увиде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драл – надое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ёво – отлич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осы – кроссов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хануться – сделать что-то не так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олетово – безразлич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сленговых выражений (7%) изменили значение полностью или частичн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ч (заразный) – бомж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ендриваться (придираться) – выпендриваться, борзе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як (ошибка, неудача) – сигарета с наркотик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нь (пентиум) – глупый человек, дяте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лит (всё контролирует) – ведёт, круче все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употребляются учащимися следующие сленговые выражения (5%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лимо – мног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ивой- некрасивы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рявый – некрасивы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л – хорошо, отлич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нер- главны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ют ученики слова-паразиты: блин, ну, типа, короче, что говорит о бедности словарного запа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исследования мы выяснили, что в состав речевого портрета учащихся нашей школы (5-11 кл.) на уровне лексики входя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000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общеупотребительные сл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специальная лексика, терми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школьный слен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компьютерная лекси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сниженная грубая лекси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реди источников пополнения лексикона выделены следующи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общение со взрослыми в школе (42%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фильмы и телепередачи (42%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общение со сверстниками в школе(39%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общение в семье (37%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ниги (34%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общение со сверстниками вне школы (29%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общение с интересными людьми (26%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5448240" y="2819520"/>
          <a:ext cx="23986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8240" y="2819520"/>
                    <a:ext cx="23986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4191120" y="1447920"/>
          <a:ext cx="4800600" cy="518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447920"/>
                    <a:ext cx="4800600" cy="51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вод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двинутая гипотеза оказалась вер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ечи учащихся используется лексика, различная по сфере употребления: литературная, просторечная, жаргонная, табуированна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чь, близкая к литературной, в основном используется учащимися в официальной обстановке: на уроке, в общении с учителями и другими взрослы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арный запас школьников ограничен, фразеологизмы не входят в активный словар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цессы, происходящие в лексике., также отразились в речи школьников: использование языка компьютера, иностранных слов, сниженной лекс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чительную роль в лексическом портрете учеников играет школьный сленг, что объясняется желанием отделить себя от мира взрослых, дать знак «я свой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прошенные отметили, что считают жаргонизацию речи неотъемлемой частью общения среди сверстников. Такие слова помогают им самоутверждаться, поддерживать хорошие отношения с товарищами по школе, обмениваться информацией и узнавать ново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ование слов-паразитов говорит о бедности словарного запаса, эти слова употребляются тогда, когда учащиеся волнуются или затрудняются подобрать нужное слово. Это приводит к упрощению язы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-3803400"/>
            <a:ext cx="1522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28600" y="17280"/>
            <a:ext cx="8667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Валгина Н.С. Активные процессы в современном русском языке.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тр дистанционного образования МПГУ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ok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bol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Гордеева М.Н. Речевой портрет и способы его опис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gli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Гольдин В.Е., Сдобнова А.П. Языковое сознание школьников в современной коммуникативной ситуаци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ldin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ro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m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Мамаева С.В. своеобразие речевой культуры школьника-подростк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 emissi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lin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2007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Жилинская А.Л. Критерии понимания школьниками-подростками метафорического значения, 2004 г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p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s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подростковая субкультура и её влияние на развитие личност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a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Сленг. Русский язык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suro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туальность 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туальность выбранной темы очевидна. В последние годы активно обновляется лексика языка, его фразеология, появилось много заимствованных слов. Речь россиян становится всё менее литературной. Русский язык засоряется разнообразными сленговыми выражениями, просторечными словами, табуированной лекси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кольники – это возрастная группа, которая наиболее открыта изменениям. Их речь содержит большое количество собственно подростковых сл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 время обучения в школе ребёнок формируется как языковая личность. Наша работа посвящена исследованию особенностей речевого портрета современного подростка. Именно сегодняшние школьники будут оказывать в дальнейшем влияние на отбор и сохранение норм языка. В этом заключается актуальность исслед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ило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-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572040" y="442440"/>
            <a:ext cx="739836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Анкета для учащихся №1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1.Используете ли вы в повседневной речи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: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9. Одобряют ли вашу сленговую речь …?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А) общеупотребительную лексику;                                                                     А) родители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Б) специальную лексику; какую, приведите примеры слов;                        Б) учителя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В) посторонние люди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Г) одноклассники и сверстники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В) школьный сленг; приведите 2-3 примера                                                     Д) никто не одобряет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Е) все одобряют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Ж) свой вариант ответа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Г) табуированную лексику                                                 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10.Понимаете ли вы сленг окружающих вас людей?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2. Как ты считаешь, определяет ли речь уровень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А) да    Б) нет    В) иногда    Г) всегда    Д) свой вариант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спитанности ученика?                                                                                        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3. Влияет ли речь на взаимоотношения с одноклассниками?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11. В каком настроении вы употребляете сленг?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4. Откуда ты пополняешь свой словарь?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А) в хорошем        Г) не зависит от настроения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А) Общение со взрослыми в школе;                                                                   Б) в плохом            Д) свой вариант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Б) общение со сверстниками в школе;                                                               В) всегда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В) общение со сверстниками в компании (во дворе, в секции и т.д.)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12. Как вы думаете, обогащает ли сленг русский язык?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Г) общение с интересными людьми;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А) да         В) скорее да, чем нет      Д) сленг обедняет речь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Д) общение в семье;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Б) нет        Г) скорее нет, чем да       Е) сленг делает речь более 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Е) из книг;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яркой, выразительной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Ж) из фильмов и телепередач?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13.Наличие сленговых слов в речи говорит о …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80880" y="3659400"/>
            <a:ext cx="914400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5. Твоё «любимое» словечко: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А) недостаточной образованности человека;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6. Как вы понимаете значение слова «сленг»?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Б) высокой культуре общения человека;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А) не знаю его значения;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В) принадлежности к молодёжной субкультуре;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Б) понимаю на уровне интуиции;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Г) речевой небрежности;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В) знаю его научное определение;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Д) желании быть как все;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Г) затрудняюсь ответить                                                                                         Е) желании выделиться из толпы;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7. Употребляете ли вы сленговые слова?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Ж) затрудняюсь ответить;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А) да   Б) нет   В) иногда    Г) не знаю                                                                 З) свой вариант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8. В каких ситуациях вы употребляете сленг?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14. Как вы думаете, есть ли у сленга будущее?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А) дома при общении с родителями;                                                                 А) да   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Б) в школе;                                                                                                                 Б) нет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В) на улице;                                                                                                                В) сленг изменится, но сохранится как язык молодёжи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Г) в общественных местах;                                                                                     Г) затрудняюсь ответить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Д) в кругу друзей;                                                                                                       Д) свой вариант ответа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Е) среди сверстников;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Ж) в общении с людьми, которые старше меня на 2-7 лет;   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З) при разговоре с учителями;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И) везде;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К) нигде</a:t>
            </a: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ъект исследовани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стная речь учащихся Алексейковской СОШ и материал анкетировани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мет исследовани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собенности лексикона современного школьника в процессе общени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ли работы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исать и проанализировать коллективный речевой портрет учащихся Алексейковской СОШ на уровне лексики и фразеологи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дачи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1. Ознакомиться с работами, посвящёнными анализу процессов в                                                                        современной лексик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2.Изучить лексикон школьников и выявить его особенност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3.Определить степень влияния различных факторов на речь подростк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ипотеза исследования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Процессы, происходящие в лексике современного русского языка, отражаются в речи учащихся Алексейковской СОШ в большей или меньшей степен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Школьники используют в своей речи лексику различных сфер употребле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Значительную часть словарного запаса учеников составляет школьный сленг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В официальном общении в школе учащиеся стараются придерживаться норм литературного языка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ные понятия: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Языковая личность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бой носитель того или иного языка, охарактеризованный на основе созданных им текстов.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Речевой портрет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площённая в речи языковая личность.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оллективный речевой портрет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исание языковых явлений, присущих определённому кругу людей, объединённых по какому-либо признаку (национальному,возрастному,социальному).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ленг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новидность речи, используемой преимущественно в устном общении относительно устойчивой социальной группой, объединяющей людей по профессии или возрасту.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оциолект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чь одной социальной группы.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диолект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чь индивидуального л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esli-rebenok-skvernoslovit-460x308"/>
          <p:cNvPicPr/>
          <p:nvPr/>
        </p:nvPicPr>
        <p:blipFill>
          <a:blip r:embed="rId1"/>
          <a:stretch/>
        </p:blipFill>
        <p:spPr>
          <a:xfrm>
            <a:off x="228600" y="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 (1)"/>
          <p:cNvPicPr/>
          <p:nvPr/>
        </p:nvPicPr>
        <p:blipFill>
          <a:blip r:embed="rId2"/>
          <a:stretch/>
        </p:blipFill>
        <p:spPr>
          <a:xfrm>
            <a:off x="6095880" y="685800"/>
            <a:ext cx="2819520" cy="18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ивные процессы в современной лексике русского языка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Язы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явление, постоянно меняющееся и развивающеес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05640" y="1294560"/>
            <a:ext cx="75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ходят из употреб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устаревшие или устаревающие слова. 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28600" y="1752120"/>
            <a:ext cx="67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Возвращаются:   а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ие слова, связанные с религией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514600" y="21330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лова, которые долго не были в употреблении(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убернатор, департамент и т.д.)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514600" y="27432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ая фразеология (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икий рынок, шоковая терапия, средний класс, лицо кавказской национальности, потребительская корзина и т.д.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ми в таких фразеологизмах являются именно сочетания слов, а не слова как таковые. 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ленг, жаргонизмы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 клёво, прикинь, стопэ и т.д.)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35" name="Picture 9" descr="img1"/>
          <p:cNvPicPr/>
          <p:nvPr/>
        </p:nvPicPr>
        <p:blipFill>
          <a:blip r:embed="rId1"/>
          <a:stretch/>
        </p:blipFill>
        <p:spPr>
          <a:xfrm>
            <a:off x="83808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img2"/>
          <p:cNvPicPr/>
          <p:nvPr/>
        </p:nvPicPr>
        <p:blipFill>
          <a:blip r:embed="rId2"/>
          <a:stretch/>
        </p:blipFill>
        <p:spPr>
          <a:xfrm>
            <a:off x="5943600" y="4600440"/>
            <a:ext cx="2362320" cy="22575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1"/>
          <p:cNvSpPr/>
          <p:nvPr/>
        </p:nvSpPr>
        <p:spPr>
          <a:xfrm>
            <a:off x="3352680" y="5486400"/>
            <a:ext cx="2438640" cy="533520"/>
          </a:xfrm>
          <a:prstGeom prst="leftRightArrow">
            <a:avLst>
              <a:gd name="adj1" fmla="val 50000"/>
              <a:gd name="adj2" fmla="val 90994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916200" y="2742480"/>
            <a:ext cx="17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ётс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 Развитие компьютерных технологий в современном мире привело к созданию специального языка, который состоит из собственно компьютерного сленга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клава, хакер, комп, ноут и т.д.)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В настоящее время развивается всеобщая тенденция к огрублению речи. Внелитературная и даже табуированная лексика (русский мат) всё чаще проникают в язык печати, радио и телевидения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Активно развивается процесс заимствования иноязычных слов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ной работе одна из задач: пронаблюдать, какие из этих процессов нашли наибольшее отражение в лексиконе школь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i"/>
          <p:cNvPicPr/>
          <p:nvPr/>
        </p:nvPicPr>
        <p:blipFill>
          <a:blip r:embed="rId1"/>
          <a:stretch/>
        </p:blipFill>
        <p:spPr>
          <a:xfrm>
            <a:off x="6400800" y="495288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-15228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Речевой портр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оплощённая в речи языковая лич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5562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анализировав анкеты учащихся, мы выяснили что для их лексики свойственны единицы всех форм речи: литературной, просторечной, жаргонной. Также школьниками используются термины, заимствованные слова, слова-парази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 данным анкетного опроса учащих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щеупотребительной лексикой пользуются 100 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пециальные слова употребляю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0,52 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енг 78,94 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буированную лексику используют 26,31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5676840" y="1752480"/>
          <a:ext cx="346716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76840" y="1752480"/>
                    <a:ext cx="346716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9"/>
          <p:cNvSpPr/>
          <p:nvPr/>
        </p:nvSpPr>
        <p:spPr>
          <a:xfrm>
            <a:off x="152280" y="48769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щеупотребительной лексикой, речью, приближенной к литературной, школьники пользуются при устных ответах на уроках, в письменных работах, разговорах с учителями и другими взрослыми, а из учеников, отметивших использование слов-терминов, 76 % приводят примеры, но некоторые путают специальное слово с общеупотребительным или жаргонизмом. Такой вывод позволяет сделать анализ анкет, выполненных учащимися нашей школы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жной характеристикой лексического портрета учёные считают знание и использование в речи фразеологических выраж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исследования этой части лексического портрета учащимся были предложены 20 фразеологизмов, взятых из учебника русского язы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щиеся должны были объяснить фразеологизмы на собственном лексическом уровне. Верно были объяснены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ьшее количество правильных объяснений дано выражения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олосы дыбом (28 челов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лать из мухи слона (24 челов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бвести вокруг пальца (24 челов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рот воды набрал (22 челов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ак рыба в воде (15 челов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аметать следы (14 челов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труднились объяснить следующие выраже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) Вылететь в труб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) Ум за разум заход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) Заткнуть за поя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г) Не на жизнь, а на смер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десяти современных фразеологических единиц учащимся оказались понятны следующие выраж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) Новый русский (11 челов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)Лицо кавказской национальности(6 челов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) Силовые министерства (3 челов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ызвали затрудн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редний класс, дикий рынок, шоковая терап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07:49:01Z</dcterms:created>
  <dc:creator>vaio</dc:creator>
  <dc:description/>
  <dc:language>en-US</dc:language>
  <cp:lastModifiedBy>Катюша</cp:lastModifiedBy>
  <dcterms:modified xsi:type="dcterms:W3CDTF">2014-11-03T08:20:0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