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9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A7E-EEFF-4A9F-9B1B-30ED5615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209-14F7-47FF-8E54-A5ABF81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636-B3FB-47CB-A7A7-3C358D7E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94B-279B-4BDA-A1E1-1E0983A8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D731-E34E-4B53-A8B4-B12D79E3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C59D-ECA0-4AC4-980B-3CCD35F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EE09-645C-4B3B-AB81-E23A793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526-E053-4231-9F04-93CE03A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E4C-E625-4D72-88AE-4B7B2B0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1CF-0D2D-4303-BCBE-09662C3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8832-84DF-4106-B50E-B02A720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9AF-2A4A-4113-9D23-2F9AD088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176-F3E5-41CF-B34B-E1C9C7B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4B16-7F85-4FBA-8255-EC07DE8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3867-2211-44E9-A9C4-C085DBA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D18-180E-4297-948C-646365FD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4CA-828A-473B-98A7-460429A1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2AA-080C-4852-A0E4-A8DC90A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DEB-BBB1-46F3-9E23-B6B91BCA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4F1-94DD-4A9C-82C5-E8B03933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139-21F5-4645-A66E-83800B55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41F-6F99-45D9-A251-D1DA5CB0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AAF-752E-43BC-8B0F-AE5177B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9B3-FE36-44AE-A5F4-CA18E65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9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401-73A4-4450-BB06-75B9B40B3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9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2CBC-2042-4B51-BE20-85A17AB70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b49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71800" y="4214880"/>
            <a:ext cx="50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Исследовательская работа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Мягкий камень или великий, важный, вездесущий микроэлемент кальций</a:t>
            </a: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Выполнена учеником 4 «Б» класса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АЙСИНЫМ ВЛАДИСЛАВОМ</a:t>
            </a:r>
            <a:endParaRPr b="0" lang="en-US" sz="2000" spc="-1" strike="noStrike">
              <a:solidFill>
                <a:srgbClr val="2159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14360" y="414360"/>
            <a:ext cx="824868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DSC02673.JPG"/>
          <p:cNvPicPr/>
          <p:nvPr/>
        </p:nvPicPr>
        <p:blipFill>
          <a:blip r:embed="rId2"/>
          <a:stretch/>
        </p:blipFill>
        <p:spPr>
          <a:xfrm>
            <a:off x="3500280" y="1714680"/>
            <a:ext cx="2071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0840" y="365040"/>
            <a:ext cx="8242200" cy="1000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омещаем яйцо в 9 % уксус</a:t>
            </a:r>
            <a:endParaRPr b="0" lang="en-US" sz="18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Яйцо через 2 дня полностью очистилось от скорлупы</a:t>
            </a:r>
            <a:endParaRPr b="0" lang="en-US" sz="18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115" name="Содержимое 6" descr="DSC02622.JPG"/>
          <p:cNvPicPr/>
          <p:nvPr/>
        </p:nvPicPr>
        <p:blipFill>
          <a:blip r:embed="rId2"/>
          <a:stretch/>
        </p:blipFill>
        <p:spPr>
          <a:xfrm>
            <a:off x="1571760" y="271476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7" descr="DSC02639.JPG"/>
          <p:cNvPicPr/>
          <p:nvPr/>
        </p:nvPicPr>
        <p:blipFill>
          <a:blip r:embed="rId3"/>
          <a:stretch/>
        </p:blipFill>
        <p:spPr>
          <a:xfrm>
            <a:off x="5929200" y="271476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94428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DSC02720.JPG"/>
          <p:cNvPicPr/>
          <p:nvPr/>
        </p:nvPicPr>
        <p:blipFill>
          <a:blip r:embed="rId2"/>
          <a:stretch/>
        </p:blipFill>
        <p:spPr>
          <a:xfrm>
            <a:off x="2286000" y="2071800"/>
            <a:ext cx="51436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20840" y="365040"/>
            <a:ext cx="8242200" cy="1000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1.Фикус с обесцвеченными листьями</a:t>
            </a:r>
            <a:endParaRPr b="0" lang="en-US" sz="18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Этот же фикус, «пролеченный» кальциевой селитрой</a:t>
            </a:r>
            <a:endParaRPr b="0" lang="en-US" sz="18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122" name="Содержимое 6" descr="DSC02490.JPG"/>
          <p:cNvPicPr/>
          <p:nvPr/>
        </p:nvPicPr>
        <p:blipFill>
          <a:blip r:embed="rId2"/>
          <a:stretch/>
        </p:blipFill>
        <p:spPr>
          <a:xfrm>
            <a:off x="1428840" y="3429000"/>
            <a:ext cx="178596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7" descr="DSC02439.JPG"/>
          <p:cNvPicPr/>
          <p:nvPr/>
        </p:nvPicPr>
        <p:blipFill>
          <a:blip r:embed="rId3"/>
          <a:stretch/>
        </p:blipFill>
        <p:spPr>
          <a:xfrm>
            <a:off x="5369040" y="3786120"/>
            <a:ext cx="198900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517680" y="219240"/>
            <a:ext cx="8242200" cy="140148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C:\Users\Пользователь\Documents\Влад\DSC02540.JPG"/>
          <p:cNvPicPr/>
          <p:nvPr/>
        </p:nvPicPr>
        <p:blipFill>
          <a:blip r:embed="rId2"/>
          <a:stretch/>
        </p:blipFill>
        <p:spPr>
          <a:xfrm>
            <a:off x="3429000" y="2571840"/>
            <a:ext cx="271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Таблетки  глюконата кальция  кладем на горючее</a:t>
            </a:r>
            <a:endParaRPr b="0" lang="en-US" sz="20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ачинается термическое разложение таблеток</a:t>
            </a:r>
            <a:endParaRPr b="0" lang="en-US" sz="20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129" name="Содержимое 6" descr="DSC02505.JPG"/>
          <p:cNvPicPr/>
          <p:nvPr/>
        </p:nvPicPr>
        <p:blipFill>
          <a:blip r:embed="rId2"/>
          <a:stretch/>
        </p:blipFill>
        <p:spPr>
          <a:xfrm>
            <a:off x="1357200" y="24289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7" descr="DSC02521.JPG"/>
          <p:cNvPicPr/>
          <p:nvPr/>
        </p:nvPicPr>
        <p:blipFill>
          <a:blip r:embed="rId3"/>
          <a:stretch/>
        </p:blipFill>
        <p:spPr>
          <a:xfrm>
            <a:off x="5000760" y="2357280"/>
            <a:ext cx="2071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78560" cy="94428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DSC02523.JPG"/>
          <p:cNvPicPr/>
          <p:nvPr/>
        </p:nvPicPr>
        <p:blipFill>
          <a:blip r:embed="rId2"/>
          <a:stretch/>
        </p:blipFill>
        <p:spPr>
          <a:xfrm>
            <a:off x="3286080" y="1857240"/>
            <a:ext cx="2928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30880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20840" y="365040"/>
            <a:ext cx="824220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"/>
          <p:cNvPicPr/>
          <p:nvPr/>
        </p:nvPicPr>
        <p:blipFill>
          <a:blip r:embed="rId2"/>
          <a:stretch/>
        </p:blipFill>
        <p:spPr>
          <a:xfrm>
            <a:off x="428760" y="1428840"/>
            <a:ext cx="1230120" cy="85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1147680" cy="793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2876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Г.Н. Буслаева Значение кальция для организ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Г.Н. Буслаева Педиатр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009, №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.Л.Смолянский Лечебное питание,- ЭКСМО, 2010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нциклопедический словарь Ф.А.Брокгауза и И.А. Ефр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Геологический словарь в 2-х томах,Москва, 1978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.А.Доронин Кальций ,Госхимиздат,196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59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Цель исследования: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Раскрыть великую тайну привычного кальц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                                                   Задачи :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1. Узнать , что такое кальций и где он содержится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2. Раскрыть все свойства кальция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3. Выяснить, какую роль играет кальций в жизни человека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4. Определить значение кальция для растений и других живых организмов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5. Доказать, что кальций является минералом №1 </a:t>
            </a:r>
            <a:endParaRPr b="0" lang="en-US" sz="2400" spc="-1" strike="noStrike">
              <a:solidFill>
                <a:srgbClr val="2159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704376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: кальций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Предмет исследования: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влияние кальция на живые организмы и здоровье человека 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Гипотеза: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предположим, что кальций  важен и нужен для человеческого организма и для живых существ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Методы исследования: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1. Практические (наблюдения, опыты)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2. Работа с научной литературой.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3. Работа с Интернет-ресурсами.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4. Анализ полученных данных.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59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14360" y="3357720"/>
            <a:ext cx="2500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КАЛЬЦИТ</a:t>
            </a:r>
            <a:endParaRPr b="0" lang="en-US" sz="28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90" name="Рисунок 4" descr="DSC02486.JPG"/>
          <p:cNvPicPr/>
          <p:nvPr/>
        </p:nvPicPr>
        <p:blipFill>
          <a:blip r:embed="rId1"/>
          <a:srcRect l="10466" t="0" r="10466" b="0"/>
          <a:stretch/>
        </p:blipFill>
        <p:spPr>
          <a:xfrm>
            <a:off x="2500200" y="1714680"/>
            <a:ext cx="2428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3429000"/>
            <a:ext cx="5486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АРАГОНИТ</a:t>
            </a:r>
            <a:endParaRPr b="0" lang="en-US" sz="28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93" name="Рисунок 4" descr="DSC02454.JPG"/>
          <p:cNvPicPr/>
          <p:nvPr/>
        </p:nvPicPr>
        <p:blipFill>
          <a:blip r:embed="rId1"/>
          <a:srcRect l="4005" t="0" r="4005" b="0"/>
          <a:stretch/>
        </p:blipFill>
        <p:spPr>
          <a:xfrm>
            <a:off x="2571840" y="1000080"/>
            <a:ext cx="300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2857680"/>
            <a:ext cx="54864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ФАТЕРИТ</a:t>
            </a:r>
            <a:endParaRPr b="0" lang="en-US" sz="28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96" name="Рисунок 4" descr="DSC02465.JPG"/>
          <p:cNvPicPr/>
          <p:nvPr/>
        </p:nvPicPr>
        <p:blipFill>
          <a:blip r:embed="rId1"/>
          <a:srcRect l="0" t="19" r="0" b="19"/>
          <a:stretch/>
        </p:blipFill>
        <p:spPr>
          <a:xfrm>
            <a:off x="2714760" y="612720"/>
            <a:ext cx="31431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633240" y="480960"/>
            <a:ext cx="8242560" cy="10987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4" descr="DSC02401.JPG"/>
          <p:cNvPicPr/>
          <p:nvPr/>
        </p:nvPicPr>
        <p:blipFill>
          <a:blip r:embed="rId2"/>
          <a:stretch/>
        </p:blipFill>
        <p:spPr>
          <a:xfrm>
            <a:off x="1071720" y="2143080"/>
            <a:ext cx="242856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5" descr="DSC02415.JPG"/>
          <p:cNvPicPr/>
          <p:nvPr/>
        </p:nvPicPr>
        <p:blipFill>
          <a:blip r:embed="rId3"/>
          <a:stretch/>
        </p:blipFill>
        <p:spPr>
          <a:xfrm>
            <a:off x="5214960" y="3286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20840" y="365040"/>
            <a:ext cx="8242200" cy="1000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285560"/>
            <a:ext cx="397188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Появились пузырьки. Это уксусная кислота вступила в реакцию с кальцием</a:t>
            </a:r>
            <a:endParaRPr b="0" lang="en-US" sz="16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РЕЗУЛЬТАТ ОПЫТА: косточки стали мягкие, словно резиновые</a:t>
            </a:r>
            <a:endParaRPr b="0" lang="en-US" sz="16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103" name="Содержимое 6" descr="DSC02425.JPG"/>
          <p:cNvPicPr/>
          <p:nvPr/>
        </p:nvPicPr>
        <p:blipFill>
          <a:blip r:embed="rId2"/>
          <a:stretch/>
        </p:blipFill>
        <p:spPr>
          <a:xfrm>
            <a:off x="1087560" y="3286080"/>
            <a:ext cx="169848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7" descr="DSC02619.JPG"/>
          <p:cNvPicPr/>
          <p:nvPr/>
        </p:nvPicPr>
        <p:blipFill>
          <a:blip r:embed="rId3"/>
          <a:stretch/>
        </p:blipFill>
        <p:spPr>
          <a:xfrm>
            <a:off x="4645080" y="3214800"/>
            <a:ext cx="1927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20840" y="365040"/>
            <a:ext cx="8242200" cy="1000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5840" y="1571400"/>
            <a:ext cx="421488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ормальная костная тка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стеопороз</a:t>
            </a:r>
            <a:endParaRPr b="0" lang="en-US" sz="2000" spc="-1" strike="noStrike">
              <a:solidFill>
                <a:srgbClr val="2159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2400" spc="-1" strike="noStrike">
              <a:solidFill>
                <a:srgbClr val="215968"/>
              </a:solidFill>
              <a:latin typeface="Arial"/>
            </a:endParaRPr>
          </a:p>
        </p:txBody>
      </p:sp>
      <p:pic>
        <p:nvPicPr>
          <p:cNvPr id="108" name="Содержимое 6" descr="stryktyra-kostei-v-norme-i-pri-osteoporoze.jpg"/>
          <p:cNvPicPr/>
          <p:nvPr/>
        </p:nvPicPr>
        <p:blipFill>
          <a:blip r:embed="rId2"/>
          <a:stretch/>
        </p:blipFill>
        <p:spPr>
          <a:xfrm>
            <a:off x="457200" y="2500200"/>
            <a:ext cx="24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7" descr="9578.jpeg"/>
          <p:cNvPicPr/>
          <p:nvPr/>
        </p:nvPicPr>
        <p:blipFill>
          <a:blip r:embed="rId3"/>
          <a:stretch/>
        </p:blipFill>
        <p:spPr>
          <a:xfrm>
            <a:off x="5357880" y="2357280"/>
            <a:ext cx="24289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7:17:20Z</dcterms:created>
  <dc:creator>Comp</dc:creator>
  <dc:description/>
  <dc:language>en-US</dc:language>
  <cp:lastModifiedBy>Пользователь</cp:lastModifiedBy>
  <dcterms:modified xsi:type="dcterms:W3CDTF">2014-11-08T17:35:48Z</dcterms:modified>
  <cp:revision>18</cp:revision>
  <dc:subject/>
  <dc:title>Слайд 1</dc:title>
</cp:coreProperties>
</file>