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3EB-43FE-48F9-ABF2-3B6D4FA4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73B-CC34-48F8-94FB-BB5B904D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0BC-688D-4DFD-8BDB-56A41696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44F-A1DF-459D-A927-5678CD96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A166-4D90-4635-B182-0F41D04B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3635-5F51-416C-B2AA-D13E840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2F52-5869-44F7-A26D-0A4487D8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D9F6-C5FA-47F7-9F2A-E228343C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C8A6-AE20-4598-9257-51DF3077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B6C9-27C8-48E4-866F-3D6FC3E6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91E4-6B1E-4D9E-A32E-4126A88E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174-D6FE-4402-9606-901182F7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9FF1-B649-4BC0-B48D-52E19BE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A3F7-E10F-4312-A6EC-ADE89A9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6108-A114-4178-B7A4-E76CA9B6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9E89-592B-4A60-9DF6-F74B5491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8DF9-A6B1-40C9-97E1-3A5EEFA6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E9EC-63ED-485F-BB08-6352ED05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FF25-D00D-43F5-871D-DC909917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A3C8-CAD0-4100-9331-1B105DB6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A467-25D3-42DC-9C94-75E51D0E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E927-EA79-4CDD-A623-542BA991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C03-BD18-4A3B-8F85-23FF9457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960B-A649-4E23-A8F5-EBA123D4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5C7E-4EFD-4ABD-AA9F-C043D75C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692E-2C4F-4F4D-99FA-50AA76A4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F66C-0DC0-4452-93A3-339A21B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FAEA-9795-4AF8-80C3-272E5329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B652-1ECB-423C-A10B-20D03D60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40D1-AFB9-411D-AEE2-A70D78D6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30E-047D-4FCD-980C-7C30BC83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752-C97A-4BE8-9A7E-3F9EF917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A7E-0D00-4285-A8AD-A3B29353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D3C-C17F-4293-8E15-039773BF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122-0C8F-4F9C-9225-1761B0C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0C0-C8AD-48D8-8CE1-0B5BEAA8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73F1-9337-494E-B2F9-D23B5F95B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69F1-34C8-4973-998E-54C5FFC3875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F2D0-7A91-46D7-8A35-4C3397EBD37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партамент общего и профессионального образован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янской обла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МБОУ  Белоберезковская  СОШ №1</a:t>
            </a: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Урок черчения в 9 классе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на тему:</a:t>
            </a: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ПРОЕКЦИИ ВЕРШИН, РЕБЕР И ГРАНЕЙ ПРЕДМЕ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240" y="4495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ИЗО и чер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ивалина Е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АРИАНТ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219320" y="1025640"/>
            <a:ext cx="6629400" cy="5611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askerville Old Face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Symbol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Начертите три вида данной дета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полн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- проекции вершин А, В,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- проекцию ребра АВ, 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- проекцию  выделен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4"/>
          <p:cNvSpPr/>
          <p:nvPr/>
        </p:nvSpPr>
        <p:spPr>
          <a:xfrm rot="10800000">
            <a:off x="8561520" y="6171840"/>
            <a:ext cx="582480" cy="482760"/>
          </a:xfrm>
          <a:custGeom>
            <a:avLst/>
            <a:gdLst>
              <a:gd name="textAreaLeft" fmla="*/ 30960 w 582480"/>
              <a:gd name="textAreaRight" fmla="*/ 551520 w 582480"/>
              <a:gd name="textAreaTop" fmla="*/ 30960 h 482760"/>
              <a:gd name="textAreaBottom" fmla="*/ 451800 h 482760"/>
            </a:gdLst>
            <a:ahLst/>
            <a:rect l="textAreaLeft" t="textAreaTop" r="textAreaRight" b="textAreaBottom"/>
            <a:pathLst>
              <a:path w="26058" h="21600">
                <a:moveTo>
                  <a:pt x="0" y="0"/>
                </a:moveTo>
                <a:lnTo>
                  <a:pt x="26058" y="0"/>
                </a:lnTo>
                <a:lnTo>
                  <a:pt x="26058" y="21600"/>
                </a:lnTo>
                <a:lnTo>
                  <a:pt x="0" y="21600"/>
                </a:lnTo>
                <a:close/>
              </a:path>
              <a:path fill="lightenLess" w="26058" h="21600">
                <a:moveTo>
                  <a:pt x="0" y="0"/>
                </a:moveTo>
                <a:lnTo>
                  <a:pt x="26058" y="0"/>
                </a:lnTo>
                <a:lnTo>
                  <a:pt x="24658" y="1400"/>
                </a:lnTo>
                <a:lnTo>
                  <a:pt x="1400" y="1400"/>
                </a:lnTo>
                <a:close/>
              </a:path>
              <a:path fill="darken" w="26058" h="21600">
                <a:moveTo>
                  <a:pt x="26058" y="0"/>
                </a:moveTo>
                <a:lnTo>
                  <a:pt x="26058" y="21600"/>
                </a:lnTo>
                <a:lnTo>
                  <a:pt x="24658" y="20200"/>
                </a:lnTo>
                <a:lnTo>
                  <a:pt x="24658" y="1400"/>
                </a:lnTo>
                <a:close/>
              </a:path>
              <a:path fill="darkenLess" w="26058" h="21600">
                <a:moveTo>
                  <a:pt x="26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8" y="20200"/>
                </a:lnTo>
                <a:close/>
              </a:path>
              <a:path fill="lighten" w="26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8" h="21600">
                <a:moveTo>
                  <a:pt x="6023" y="3794"/>
                </a:moveTo>
                <a:lnTo>
                  <a:pt x="20036" y="10800"/>
                </a:lnTo>
                <a:lnTo>
                  <a:pt x="60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4" descr="C:\Users\Андрей\Pictures\2007-02-27 прполол\прполол 001.jpg"/>
          <p:cNvPicPr/>
          <p:nvPr/>
        </p:nvPicPr>
        <p:blipFill>
          <a:blip r:embed="rId1"/>
          <a:stretch/>
        </p:blipFill>
        <p:spPr>
          <a:xfrm>
            <a:off x="3124080" y="1828800"/>
            <a:ext cx="35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295280" y="1712880"/>
            <a:ext cx="6424560" cy="47642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82880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1. п.12 (с. 69-71)- прочита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2. Знать элементы поверхности предмета, уметь их проецирова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3. с. 72, упр. 21 (рис. 87-а)- в тетрад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262673"/>
                </a:solidFill>
                <a:latin typeface="Arial"/>
              </a:rPr>
              <a:t>.* с.72, упр.21(рис. 87-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1116000" y="249228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99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ции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99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2268360" y="342900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99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шин,</a:t>
            </a:r>
            <a:endParaRPr b="0" lang="en-US" sz="2800" spc="1" strike="noStrike">
              <a:ln w="19080">
                <a:solidFill>
                  <a:srgbClr val="003366"/>
                </a:solidFill>
                <a:miter/>
              </a:ln>
              <a:solidFill>
                <a:srgbClr val="99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3276720" y="414972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99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ёбер,</a:t>
            </a:r>
            <a:endParaRPr b="0" lang="en-US" sz="2800" spc="1" strike="noStrike">
              <a:ln w="19080">
                <a:solidFill>
                  <a:srgbClr val="003366"/>
                </a:solidFill>
                <a:miter/>
              </a:ln>
              <a:solidFill>
                <a:srgbClr val="99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4140360" y="4941720"/>
            <a:ext cx="252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99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ней</a:t>
            </a:r>
            <a:endParaRPr b="0" lang="en-US" sz="2800" spc="1" strike="noStrike">
              <a:ln w="19080">
                <a:solidFill>
                  <a:srgbClr val="003366"/>
                </a:solidFill>
                <a:miter/>
              </a:ln>
              <a:solidFill>
                <a:srgbClr val="99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5292720" y="5805360"/>
            <a:ext cx="33116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99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мета</a:t>
            </a:r>
            <a:endParaRPr b="0" lang="en-US" sz="2800" spc="1" strike="noStrike">
              <a:ln w="19080">
                <a:solidFill>
                  <a:srgbClr val="003366"/>
                </a:solidFill>
                <a:miter/>
              </a:ln>
              <a:solidFill>
                <a:srgbClr val="99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WordArt 7" descr=""/>
          <p:cNvPicPr/>
          <p:nvPr/>
        </p:nvPicPr>
        <p:blipFill>
          <a:blip r:embed="rId1"/>
          <a:stretch/>
        </p:blipFill>
        <p:spPr>
          <a:xfrm>
            <a:off x="1468440" y="895320"/>
            <a:ext cx="523728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-115920"/>
            <a:ext cx="6870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2511360"/>
            <a:ext cx="8704440" cy="317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5146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ЛАН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зучения нового материала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990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Познакомимся с понятиями  вершин, ребер, граней предмета. Научимся  находить и  считать их коли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Познакомимся со способом проецирования вершин, ребер и граней предмета на плоскости прое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Закрепим полученные знания на прак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Запишем 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ЭЛЕМЕНТЫ ПОВЕРХНОСТИ ПРЕД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ЕРШ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точка пересечения двух или более прямых линий, образующих уг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РЕБР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трезок соединяющий соседние верш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ГР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многоугольник, из которого состоит поверхность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2" descr=""/>
          <p:cNvPicPr/>
          <p:nvPr/>
        </p:nvPicPr>
        <p:blipFill>
          <a:blip r:embed="rId1"/>
          <a:stretch/>
        </p:blipFill>
        <p:spPr>
          <a:xfrm>
            <a:off x="7543800" y="2209680"/>
            <a:ext cx="122220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2"/>
          <p:cNvGraphicFramePr/>
          <p:nvPr/>
        </p:nvGraphicFramePr>
        <p:xfrm>
          <a:off x="685800" y="990720"/>
          <a:ext cx="6048360" cy="50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60483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Line 3"/>
          <p:cNvSpPr/>
          <p:nvPr/>
        </p:nvSpPr>
        <p:spPr>
          <a:xfrm flipH="1" flipV="1">
            <a:off x="6705720" y="4541760"/>
            <a:ext cx="914400" cy="6796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6477120" y="11430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6781680" y="3962520"/>
            <a:ext cx="43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6"/>
          <p:cNvSpPr txBox="1"/>
          <p:nvPr/>
        </p:nvSpPr>
        <p:spPr>
          <a:xfrm>
            <a:off x="2209680" y="6095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228600" y="50292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250920" y="3213000"/>
            <a:ext cx="42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9"/>
          <p:cNvSpPr txBox="1"/>
          <p:nvPr/>
        </p:nvSpPr>
        <p:spPr>
          <a:xfrm>
            <a:off x="1835280" y="2565360"/>
            <a:ext cx="276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2719440" y="425448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WordArt 11"/>
          <p:cNvSpPr txBox="1"/>
          <p:nvPr/>
        </p:nvSpPr>
        <p:spPr>
          <a:xfrm>
            <a:off x="2556000" y="1052640"/>
            <a:ext cx="42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12"/>
          <p:cNvSpPr txBox="1"/>
          <p:nvPr/>
        </p:nvSpPr>
        <p:spPr>
          <a:xfrm>
            <a:off x="4427640" y="333360"/>
            <a:ext cx="3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13"/>
          <p:cNvSpPr txBox="1"/>
          <p:nvPr/>
        </p:nvSpPr>
        <p:spPr>
          <a:xfrm>
            <a:off x="5076720" y="184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14"/>
          <p:cNvSpPr txBox="1"/>
          <p:nvPr/>
        </p:nvSpPr>
        <p:spPr>
          <a:xfrm>
            <a:off x="4643280" y="4005360"/>
            <a:ext cx="287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15"/>
          <p:cNvSpPr txBox="1"/>
          <p:nvPr/>
        </p:nvSpPr>
        <p:spPr>
          <a:xfrm>
            <a:off x="3851280" y="2781360"/>
            <a:ext cx="520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G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Line 16"/>
          <p:cNvSpPr/>
          <p:nvPr/>
        </p:nvSpPr>
        <p:spPr>
          <a:xfrm flipH="1" flipV="1">
            <a:off x="4724280" y="5333760"/>
            <a:ext cx="703440" cy="1019160"/>
          </a:xfrm>
          <a:prstGeom prst="line">
            <a:avLst/>
          </a:prstGeom>
          <a:ln w="76320">
            <a:solidFill>
              <a:srgbClr val="31a7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1447920" y="1752480"/>
            <a:ext cx="1035000" cy="524160"/>
          </a:xfrm>
          <a:prstGeom prst="line">
            <a:avLst/>
          </a:prstGeom>
          <a:ln w="76320">
            <a:solidFill>
              <a:srgbClr val="31a7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>
            <a:off x="684360" y="3068640"/>
            <a:ext cx="1223640" cy="792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 flipH="1">
            <a:off x="6686280" y="1425600"/>
            <a:ext cx="1143000" cy="5335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4495680" y="1057320"/>
            <a:ext cx="504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450072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450072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 flipH="1" flipV="1">
            <a:off x="5727240" y="4024440"/>
            <a:ext cx="92412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 flipH="1" flipV="1">
            <a:off x="4788000" y="364500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 flipV="1">
            <a:off x="755640" y="4652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7"/>
          <p:cNvSpPr/>
          <p:nvPr/>
        </p:nvSpPr>
        <p:spPr>
          <a:xfrm flipV="1">
            <a:off x="2050920" y="4149360"/>
            <a:ext cx="8654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V="1">
            <a:off x="3203640" y="3499920"/>
            <a:ext cx="12970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9"/>
          <p:cNvSpPr/>
          <p:nvPr/>
        </p:nvSpPr>
        <p:spPr>
          <a:xfrm>
            <a:off x="450072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4500720" y="3500280"/>
            <a:ext cx="15372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4"/>
          <p:cNvSpPr/>
          <p:nvPr/>
        </p:nvSpPr>
        <p:spPr>
          <a:xfrm flipV="1">
            <a:off x="2739960" y="4489560"/>
            <a:ext cx="3919680" cy="1487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6"/>
          <p:cNvSpPr/>
          <p:nvPr/>
        </p:nvSpPr>
        <p:spPr>
          <a:xfrm flipV="1">
            <a:off x="2222640" y="1778040"/>
            <a:ext cx="704880" cy="1520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8"/>
          <p:cNvSpPr/>
          <p:nvPr/>
        </p:nvSpPr>
        <p:spPr>
          <a:xfrm flipV="1">
            <a:off x="2224080" y="1752120"/>
            <a:ext cx="714240" cy="155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2"/>
          <p:cNvSpPr/>
          <p:nvPr/>
        </p:nvSpPr>
        <p:spPr>
          <a:xfrm>
            <a:off x="5486400" y="5105520"/>
            <a:ext cx="181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ер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ебер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ран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3"/>
          <p:cNvSpPr/>
          <p:nvPr/>
        </p:nvSpPr>
        <p:spPr>
          <a:xfrm>
            <a:off x="7238880" y="510552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6"/>
          <p:cNvSpPr/>
          <p:nvPr/>
        </p:nvSpPr>
        <p:spPr>
          <a:xfrm>
            <a:off x="8561520" y="6172200"/>
            <a:ext cx="582480" cy="482760"/>
          </a:xfrm>
          <a:custGeom>
            <a:avLst/>
            <a:gdLst>
              <a:gd name="textAreaLeft" fmla="*/ 30960 w 582480"/>
              <a:gd name="textAreaRight" fmla="*/ 551520 w 582480"/>
              <a:gd name="textAreaTop" fmla="*/ 30960 h 482760"/>
              <a:gd name="textAreaBottom" fmla="*/ 451800 h 482760"/>
            </a:gdLst>
            <a:ahLst/>
            <a:rect l="textAreaLeft" t="textAreaTop" r="textAreaRight" b="textAreaBottom"/>
            <a:pathLst>
              <a:path w="26058" h="21600">
                <a:moveTo>
                  <a:pt x="0" y="0"/>
                </a:moveTo>
                <a:lnTo>
                  <a:pt x="26058" y="0"/>
                </a:lnTo>
                <a:lnTo>
                  <a:pt x="26058" y="21600"/>
                </a:lnTo>
                <a:lnTo>
                  <a:pt x="0" y="21600"/>
                </a:lnTo>
                <a:close/>
              </a:path>
              <a:path fill="lightenLess" w="26058" h="21600">
                <a:moveTo>
                  <a:pt x="0" y="0"/>
                </a:moveTo>
                <a:lnTo>
                  <a:pt x="26058" y="0"/>
                </a:lnTo>
                <a:lnTo>
                  <a:pt x="24658" y="1400"/>
                </a:lnTo>
                <a:lnTo>
                  <a:pt x="1400" y="1400"/>
                </a:lnTo>
                <a:close/>
              </a:path>
              <a:path fill="darken" w="26058" h="21600">
                <a:moveTo>
                  <a:pt x="26058" y="0"/>
                </a:moveTo>
                <a:lnTo>
                  <a:pt x="26058" y="21600"/>
                </a:lnTo>
                <a:lnTo>
                  <a:pt x="24658" y="20200"/>
                </a:lnTo>
                <a:lnTo>
                  <a:pt x="24658" y="1400"/>
                </a:lnTo>
                <a:close/>
              </a:path>
              <a:path fill="darkenLess" w="26058" h="21600">
                <a:moveTo>
                  <a:pt x="26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8" y="20200"/>
                </a:lnTo>
                <a:close/>
              </a:path>
              <a:path fill="lighten" w="26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8" h="21600">
                <a:moveTo>
                  <a:pt x="6023" y="3794"/>
                </a:moveTo>
                <a:lnTo>
                  <a:pt x="20036" y="10800"/>
                </a:lnTo>
                <a:lnTo>
                  <a:pt x="60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8"/>
          <p:cNvSpPr/>
          <p:nvPr/>
        </p:nvSpPr>
        <p:spPr>
          <a:xfrm>
            <a:off x="6502320" y="187956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0"/>
          <p:cNvSpPr/>
          <p:nvPr/>
        </p:nvSpPr>
        <p:spPr>
          <a:xfrm>
            <a:off x="4343400" y="99072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1"/>
          <p:cNvSpPr/>
          <p:nvPr/>
        </p:nvSpPr>
        <p:spPr>
          <a:xfrm>
            <a:off x="4397400" y="3392640"/>
            <a:ext cx="204840" cy="21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2"/>
          <p:cNvSpPr/>
          <p:nvPr/>
        </p:nvSpPr>
        <p:spPr>
          <a:xfrm>
            <a:off x="609480" y="502920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4"/>
          <p:cNvSpPr/>
          <p:nvPr/>
        </p:nvSpPr>
        <p:spPr>
          <a:xfrm>
            <a:off x="5014800" y="262584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55"/>
          <p:cNvSpPr/>
          <p:nvPr/>
        </p:nvSpPr>
        <p:spPr>
          <a:xfrm>
            <a:off x="2630520" y="478800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6"/>
          <p:cNvSpPr/>
          <p:nvPr/>
        </p:nvSpPr>
        <p:spPr>
          <a:xfrm>
            <a:off x="2097000" y="321948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7"/>
          <p:cNvSpPr/>
          <p:nvPr/>
        </p:nvSpPr>
        <p:spPr>
          <a:xfrm>
            <a:off x="2854440" y="164952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8"/>
          <p:cNvSpPr/>
          <p:nvPr/>
        </p:nvSpPr>
        <p:spPr>
          <a:xfrm>
            <a:off x="644400" y="386244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9"/>
          <p:cNvSpPr/>
          <p:nvPr/>
        </p:nvSpPr>
        <p:spPr>
          <a:xfrm>
            <a:off x="4276800" y="412416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7"/>
          <p:cNvSpPr/>
          <p:nvPr/>
        </p:nvSpPr>
        <p:spPr>
          <a:xfrm flipV="1">
            <a:off x="2743200" y="4455720"/>
            <a:ext cx="3959280" cy="15130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3"/>
          <p:cNvSpPr/>
          <p:nvPr/>
        </p:nvSpPr>
        <p:spPr>
          <a:xfrm>
            <a:off x="2639880" y="5857920"/>
            <a:ext cx="20484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9"/>
          <p:cNvSpPr/>
          <p:nvPr/>
        </p:nvSpPr>
        <p:spPr>
          <a:xfrm>
            <a:off x="6515280" y="4363920"/>
            <a:ext cx="204480" cy="21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 flipH="1" flipV="1">
            <a:off x="5562720" y="4343400"/>
            <a:ext cx="1371600" cy="914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20052 0.089 C -0.02205 -0.000920000000000004 0.1566 -0.09061 0.18663 -0.10517 C 0.21702 -0.11951 0.01441 -0.01687 -0.02014 0.00116 E">
                                      <p:cBhvr>
                                        <p:cTn id="259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0.13754 C -0.00816 0.03953 0.02691 -0.05825 0.0335 -0.07651 C 0.0401 -0.09477 0.00243 0.01064 -0.00382 0.02797 E">
                                      <p:cBhvr>
                                        <p:cTn id="271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8333 0.23333 L 0.125 0.02292 E">
                                      <p:cBhvr>
                                        <p:cTn id="29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6 0.02291 L 0.11666 -0.34376 E">
                                      <p:cBhvr>
                                        <p:cTn id="29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6 -0.34376 L -0.04167 -0.24376 E">
                                      <p:cBhvr>
                                        <p:cTn id="301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4167 -0.24375 L -0.125 -0.01041 E">
                                      <p:cBhvr>
                                        <p:cTn id="30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25 -0.01042 L -0.30833 0.08148 E">
                                      <p:cBhvr>
                                        <p:cTn id="307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0503 0.0882 L -0.30503 0.23264 E">
                                      <p:cBhvr>
                                        <p:cTn id="310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3059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Параллельное прямоугольное</a:t>
            </a: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проецирование т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араллелограмм 2"/>
          <p:cNvSpPr/>
          <p:nvPr/>
        </p:nvSpPr>
        <p:spPr>
          <a:xfrm>
            <a:off x="1714680" y="3786120"/>
            <a:ext cx="5929200" cy="2500560"/>
          </a:xfrm>
          <a:prstGeom prst="parallelogram">
            <a:avLst>
              <a:gd name="adj" fmla="val 24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Блок-схема: узел 3"/>
          <p:cNvSpPr/>
          <p:nvPr/>
        </p:nvSpPr>
        <p:spPr>
          <a:xfrm>
            <a:off x="4932360" y="2421000"/>
            <a:ext cx="211320" cy="222120"/>
          </a:xfrm>
          <a:prstGeom prst="flowChartConnector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Прямая со стрелкой 5"/>
          <p:cNvCxnSpPr/>
          <p:nvPr/>
        </p:nvCxnSpPr>
        <p:spPr>
          <a:xfrm>
            <a:off x="5000760" y="2571840"/>
            <a:ext cx="216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6"/>
          <p:cNvSpPr/>
          <p:nvPr/>
        </p:nvSpPr>
        <p:spPr>
          <a:xfrm>
            <a:off x="5143680" y="19288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Блок-схема: узел 7"/>
          <p:cNvSpPr/>
          <p:nvPr/>
        </p:nvSpPr>
        <p:spPr>
          <a:xfrm>
            <a:off x="4857840" y="464328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5143680" y="457200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6643800" y="3786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– видимая верш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– невидимая вер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екция вершины на плоскость  – есть всегда точка (независимо от располо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Arial"/>
              </a:rPr>
              <a:t>Проекция ребра на плоскость – зависит от его рас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оекция грани на плоскость – зависит от ее  рас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114800" y="167652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114800" y="350532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7162920" y="167652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4114800" y="28195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6400800" y="16761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5486400" y="16765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V="1">
            <a:off x="4114800" y="2362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V="1">
            <a:off x="4114800" y="1676160"/>
            <a:ext cx="13716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4114800" y="3505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114800" y="46483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6400800" y="35049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4114800" y="35053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5410080" y="3505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7162920" y="16765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162920" y="28195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8381880" y="16761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7162920" y="16765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7162920" y="23623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4114800" y="1676520"/>
            <a:ext cx="1295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4114800" y="1676520"/>
            <a:ext cx="0" cy="642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6"/>
          <p:cNvGrpSpPr/>
          <p:nvPr/>
        </p:nvGrpSpPr>
        <p:grpSpPr>
          <a:xfrm>
            <a:off x="380520" y="1447920"/>
            <a:ext cx="3200760" cy="2590560"/>
            <a:chOff x="380520" y="1447920"/>
            <a:chExt cx="3200760" cy="2590560"/>
          </a:xfrm>
        </p:grpSpPr>
        <p:sp>
          <p:nvSpPr>
            <p:cNvPr id="231" name="Line 27"/>
            <p:cNvSpPr/>
            <p:nvPr/>
          </p:nvSpPr>
          <p:spPr>
            <a:xfrm flipV="1">
              <a:off x="1208520" y="2928240"/>
              <a:ext cx="2372760" cy="111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8"/>
            <p:cNvSpPr/>
            <p:nvPr/>
          </p:nvSpPr>
          <p:spPr>
            <a:xfrm flipV="1">
              <a:off x="3581280" y="1940760"/>
              <a:ext cx="0" cy="98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9"/>
            <p:cNvSpPr/>
            <p:nvPr/>
          </p:nvSpPr>
          <p:spPr>
            <a:xfrm flipH="1">
              <a:off x="2643120" y="1941120"/>
              <a:ext cx="93816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0"/>
            <p:cNvSpPr/>
            <p:nvPr/>
          </p:nvSpPr>
          <p:spPr>
            <a:xfrm flipV="1">
              <a:off x="1208520" y="360612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 flipV="1">
              <a:off x="1208520" y="2373120"/>
              <a:ext cx="1434240" cy="12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H="1" flipV="1">
              <a:off x="380520" y="3544200"/>
              <a:ext cx="827640" cy="493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 flipH="1" flipV="1">
              <a:off x="380520" y="3113280"/>
              <a:ext cx="827640" cy="49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 flipH="1" flipV="1">
              <a:off x="1806840" y="1891800"/>
              <a:ext cx="827640" cy="493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 flipH="1" flipV="1">
              <a:off x="2753280" y="1447920"/>
              <a:ext cx="827640" cy="49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380880" y="3113280"/>
              <a:ext cx="0" cy="43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 flipV="1">
              <a:off x="380880" y="1878840"/>
              <a:ext cx="1434240" cy="12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 flipV="1">
              <a:off x="1815120" y="1447920"/>
              <a:ext cx="938160" cy="43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Oval 39"/>
          <p:cNvSpPr/>
          <p:nvPr/>
        </p:nvSpPr>
        <p:spPr>
          <a:xfrm>
            <a:off x="2514600" y="2286000"/>
            <a:ext cx="1681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1752480" y="1803240"/>
            <a:ext cx="168480" cy="1605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41"/>
          <p:cNvSpPr txBox="1"/>
          <p:nvPr/>
        </p:nvSpPr>
        <p:spPr>
          <a:xfrm>
            <a:off x="2514600" y="17524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42"/>
          <p:cNvSpPr txBox="1"/>
          <p:nvPr/>
        </p:nvSpPr>
        <p:spPr>
          <a:xfrm>
            <a:off x="1676520" y="1371600"/>
            <a:ext cx="228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Oval 44"/>
          <p:cNvSpPr/>
          <p:nvPr/>
        </p:nvSpPr>
        <p:spPr>
          <a:xfrm>
            <a:off x="5334120" y="16002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5"/>
          <p:cNvSpPr/>
          <p:nvPr/>
        </p:nvSpPr>
        <p:spPr>
          <a:xfrm>
            <a:off x="5334120" y="45720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6"/>
          <p:cNvSpPr/>
          <p:nvPr/>
        </p:nvSpPr>
        <p:spPr>
          <a:xfrm>
            <a:off x="5334120" y="34290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49"/>
          <p:cNvSpPr txBox="1"/>
          <p:nvPr/>
        </p:nvSpPr>
        <p:spPr>
          <a:xfrm>
            <a:off x="5257800" y="4800600"/>
            <a:ext cx="2811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WordArt 50"/>
          <p:cNvSpPr txBox="1"/>
          <p:nvPr/>
        </p:nvSpPr>
        <p:spPr>
          <a:xfrm>
            <a:off x="5334120" y="30481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2" name="Oval 51"/>
          <p:cNvSpPr/>
          <p:nvPr/>
        </p:nvSpPr>
        <p:spPr>
          <a:xfrm>
            <a:off x="8305920" y="16002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52"/>
          <p:cNvSpPr/>
          <p:nvPr/>
        </p:nvSpPr>
        <p:spPr>
          <a:xfrm>
            <a:off x="7086600" y="16002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1892160" y="1944720"/>
            <a:ext cx="654120" cy="3762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6"/>
          <p:cNvSpPr/>
          <p:nvPr/>
        </p:nvSpPr>
        <p:spPr>
          <a:xfrm>
            <a:off x="5334120" y="1600200"/>
            <a:ext cx="152280" cy="166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7"/>
          <p:cNvSpPr/>
          <p:nvPr/>
        </p:nvSpPr>
        <p:spPr>
          <a:xfrm flipV="1">
            <a:off x="5410080" y="3546360"/>
            <a:ext cx="0" cy="1067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8"/>
          <p:cNvSpPr/>
          <p:nvPr/>
        </p:nvSpPr>
        <p:spPr>
          <a:xfrm flipH="1">
            <a:off x="7198920" y="167652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67"/>
          <p:cNvGrpSpPr/>
          <p:nvPr/>
        </p:nvGrpSpPr>
        <p:grpSpPr>
          <a:xfrm>
            <a:off x="380520" y="3276720"/>
            <a:ext cx="822960" cy="593280"/>
            <a:chOff x="380520" y="3276720"/>
            <a:chExt cx="822960" cy="593280"/>
          </a:xfrm>
        </p:grpSpPr>
        <p:sp>
          <p:nvSpPr>
            <p:cNvPr id="259" name="Line 59"/>
            <p:cNvSpPr/>
            <p:nvPr/>
          </p:nvSpPr>
          <p:spPr>
            <a:xfrm flipH="1">
              <a:off x="380520" y="3276720"/>
              <a:ext cx="22860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0"/>
            <p:cNvSpPr/>
            <p:nvPr/>
          </p:nvSpPr>
          <p:spPr>
            <a:xfrm flipH="1">
              <a:off x="380880" y="3352680"/>
              <a:ext cx="45720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 flipV="1">
              <a:off x="509760" y="3454200"/>
              <a:ext cx="452160" cy="16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 flipV="1">
              <a:off x="657360" y="3539880"/>
              <a:ext cx="452160" cy="16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65"/>
            <p:cNvSpPr/>
            <p:nvPr/>
          </p:nvSpPr>
          <p:spPr>
            <a:xfrm flipV="1">
              <a:off x="950760" y="3774600"/>
              <a:ext cx="252720" cy="9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6"/>
            <p:cNvSpPr/>
            <p:nvPr/>
          </p:nvSpPr>
          <p:spPr>
            <a:xfrm flipV="1">
              <a:off x="830160" y="3655800"/>
              <a:ext cx="360360" cy="120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Line 68"/>
          <p:cNvSpPr/>
          <p:nvPr/>
        </p:nvSpPr>
        <p:spPr>
          <a:xfrm flipV="1">
            <a:off x="228600" y="3733560"/>
            <a:ext cx="53352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9"/>
          <p:cNvSpPr/>
          <p:nvPr/>
        </p:nvSpPr>
        <p:spPr>
          <a:xfrm>
            <a:off x="4114800" y="23623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4114800" y="35053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0"/>
          <p:cNvGrpSpPr/>
          <p:nvPr/>
        </p:nvGrpSpPr>
        <p:grpSpPr>
          <a:xfrm>
            <a:off x="7162560" y="2362320"/>
            <a:ext cx="1177920" cy="482400"/>
            <a:chOff x="7162560" y="2362320"/>
            <a:chExt cx="1177920" cy="482400"/>
          </a:xfrm>
        </p:grpSpPr>
        <p:sp>
          <p:nvSpPr>
            <p:cNvPr id="269" name="Line 71"/>
            <p:cNvSpPr/>
            <p:nvPr/>
          </p:nvSpPr>
          <p:spPr>
            <a:xfrm flipH="1">
              <a:off x="7162560" y="2362320"/>
              <a:ext cx="1522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72"/>
            <p:cNvSpPr/>
            <p:nvPr/>
          </p:nvSpPr>
          <p:spPr>
            <a:xfrm flipH="1">
              <a:off x="7162920" y="2362320"/>
              <a:ext cx="3045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3"/>
            <p:cNvSpPr/>
            <p:nvPr/>
          </p:nvSpPr>
          <p:spPr>
            <a:xfrm flipH="1">
              <a:off x="7314840" y="2362320"/>
              <a:ext cx="304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74"/>
            <p:cNvSpPr/>
            <p:nvPr/>
          </p:nvSpPr>
          <p:spPr>
            <a:xfrm flipH="1">
              <a:off x="7467120" y="2362320"/>
              <a:ext cx="304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5"/>
            <p:cNvSpPr/>
            <p:nvPr/>
          </p:nvSpPr>
          <p:spPr>
            <a:xfrm flipH="1">
              <a:off x="7637400" y="2362320"/>
              <a:ext cx="287280" cy="465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76"/>
            <p:cNvSpPr/>
            <p:nvPr/>
          </p:nvSpPr>
          <p:spPr>
            <a:xfrm flipH="1">
              <a:off x="7823160" y="2362320"/>
              <a:ext cx="2541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77"/>
            <p:cNvSpPr/>
            <p:nvPr/>
          </p:nvSpPr>
          <p:spPr>
            <a:xfrm flipH="1">
              <a:off x="7958160" y="2362320"/>
              <a:ext cx="271440" cy="482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8"/>
            <p:cNvSpPr/>
            <p:nvPr/>
          </p:nvSpPr>
          <p:spPr>
            <a:xfrm flipH="1">
              <a:off x="8094240" y="2387520"/>
              <a:ext cx="219240" cy="439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79"/>
            <p:cNvSpPr/>
            <p:nvPr/>
          </p:nvSpPr>
          <p:spPr>
            <a:xfrm flipH="1">
              <a:off x="8229240" y="2556000"/>
              <a:ext cx="111240" cy="26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строения проекций вершин ребер и граней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3"/>
          <p:cNvSpPr/>
          <p:nvPr/>
        </p:nvSpPr>
        <p:spPr>
          <a:xfrm>
            <a:off x="8559720" y="6095880"/>
            <a:ext cx="584280" cy="482760"/>
          </a:xfrm>
          <a:custGeom>
            <a:avLst/>
            <a:gdLst>
              <a:gd name="textAreaLeft" fmla="*/ 30960 w 584280"/>
              <a:gd name="textAreaRight" fmla="*/ 553320 w 584280"/>
              <a:gd name="textAreaTop" fmla="*/ 30960 h 482760"/>
              <a:gd name="textAreaBottom" fmla="*/ 451800 h 482760"/>
            </a:gdLst>
            <a:ahLst/>
            <a:rect l="textAreaLeft" t="textAreaTop" r="textAreaRight" b="textAreaBottom"/>
            <a:pathLst>
              <a:path w="26139" h="21600">
                <a:moveTo>
                  <a:pt x="0" y="0"/>
                </a:moveTo>
                <a:lnTo>
                  <a:pt x="26139" y="0"/>
                </a:lnTo>
                <a:lnTo>
                  <a:pt x="26139" y="21600"/>
                </a:lnTo>
                <a:lnTo>
                  <a:pt x="0" y="21600"/>
                </a:lnTo>
                <a:close/>
              </a:path>
              <a:path fill="lightenLess" w="26139" h="21600">
                <a:moveTo>
                  <a:pt x="0" y="0"/>
                </a:moveTo>
                <a:lnTo>
                  <a:pt x="26139" y="0"/>
                </a:lnTo>
                <a:lnTo>
                  <a:pt x="24739" y="1400"/>
                </a:lnTo>
                <a:lnTo>
                  <a:pt x="1400" y="1400"/>
                </a:lnTo>
                <a:close/>
              </a:path>
              <a:path fill="darken" w="26139" h="21600">
                <a:moveTo>
                  <a:pt x="26139" y="0"/>
                </a:moveTo>
                <a:lnTo>
                  <a:pt x="26139" y="21600"/>
                </a:lnTo>
                <a:lnTo>
                  <a:pt x="24739" y="20200"/>
                </a:lnTo>
                <a:lnTo>
                  <a:pt x="24739" y="1400"/>
                </a:lnTo>
                <a:close/>
              </a:path>
              <a:path fill="darkenLess" w="26139" h="21600">
                <a:moveTo>
                  <a:pt x="26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9" y="20200"/>
                </a:lnTo>
                <a:close/>
              </a:path>
              <a:path fill="lighten" w="26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9" h="21600">
                <a:moveTo>
                  <a:pt x="6063" y="3794"/>
                </a:moveTo>
                <a:lnTo>
                  <a:pt x="20076" y="10800"/>
                </a:lnTo>
                <a:lnTo>
                  <a:pt x="60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97"/>
          <p:cNvGrpSpPr/>
          <p:nvPr/>
        </p:nvGrpSpPr>
        <p:grpSpPr>
          <a:xfrm>
            <a:off x="5257800" y="1066680"/>
            <a:ext cx="380880" cy="414360"/>
            <a:chOff x="5257800" y="1066680"/>
            <a:chExt cx="380880" cy="414360"/>
          </a:xfrm>
        </p:grpSpPr>
        <p:sp>
          <p:nvSpPr>
            <p:cNvPr id="281" name="WordArt 47"/>
            <p:cNvSpPr txBox="1"/>
            <p:nvPr/>
          </p:nvSpPr>
          <p:spPr>
            <a:xfrm>
              <a:off x="5257800" y="1219320"/>
              <a:ext cx="28116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а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82" name="WordArt 86"/>
            <p:cNvSpPr txBox="1"/>
            <p:nvPr/>
          </p:nvSpPr>
          <p:spPr>
            <a:xfrm>
              <a:off x="5486400" y="1066680"/>
              <a:ext cx="15228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Black"/>
                </a:rPr>
                <a:t>/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3" name="Group 98"/>
          <p:cNvGrpSpPr/>
          <p:nvPr/>
        </p:nvGrpSpPr>
        <p:grpSpPr>
          <a:xfrm>
            <a:off x="5638680" y="990720"/>
            <a:ext cx="433440" cy="533160"/>
            <a:chOff x="5638680" y="990720"/>
            <a:chExt cx="433440" cy="533160"/>
          </a:xfrm>
        </p:grpSpPr>
        <p:sp>
          <p:nvSpPr>
            <p:cNvPr id="284" name="WordArt 48"/>
            <p:cNvSpPr txBox="1"/>
            <p:nvPr/>
          </p:nvSpPr>
          <p:spPr>
            <a:xfrm>
              <a:off x="5638680" y="1143000"/>
              <a:ext cx="43344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(b)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85" name="WordArt 87"/>
            <p:cNvSpPr txBox="1"/>
            <p:nvPr/>
          </p:nvSpPr>
          <p:spPr>
            <a:xfrm>
              <a:off x="5867280" y="990720"/>
              <a:ext cx="1526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Black"/>
                </a:rPr>
                <a:t>/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6" name="Group 95"/>
          <p:cNvGrpSpPr/>
          <p:nvPr/>
        </p:nvGrpSpPr>
        <p:grpSpPr>
          <a:xfrm>
            <a:off x="7086600" y="1066680"/>
            <a:ext cx="380880" cy="457200"/>
            <a:chOff x="7086600" y="1066680"/>
            <a:chExt cx="380880" cy="457200"/>
          </a:xfrm>
        </p:grpSpPr>
        <p:sp>
          <p:nvSpPr>
            <p:cNvPr id="287" name="WordArt 54"/>
            <p:cNvSpPr txBox="1"/>
            <p:nvPr/>
          </p:nvSpPr>
          <p:spPr>
            <a:xfrm>
              <a:off x="7086600" y="1219320"/>
              <a:ext cx="228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b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288" name="Group 92"/>
            <p:cNvGrpSpPr/>
            <p:nvPr/>
          </p:nvGrpSpPr>
          <p:grpSpPr>
            <a:xfrm>
              <a:off x="7162920" y="1066680"/>
              <a:ext cx="304560" cy="152640"/>
              <a:chOff x="7162920" y="1066680"/>
              <a:chExt cx="304560" cy="152640"/>
            </a:xfrm>
          </p:grpSpPr>
          <p:sp>
            <p:nvSpPr>
              <p:cNvPr id="289" name="WordArt 88"/>
              <p:cNvSpPr txBox="1"/>
              <p:nvPr/>
            </p:nvSpPr>
            <p:spPr>
              <a:xfrm>
                <a:off x="7315200" y="1066680"/>
                <a:ext cx="152280" cy="15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 Black"/>
                  </a:rPr>
                  <a:t>/</a:t>
                </a:r>
                <a:endPara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290" name="WordArt 89"/>
              <p:cNvSpPr txBox="1"/>
              <p:nvPr/>
            </p:nvSpPr>
            <p:spPr>
              <a:xfrm>
                <a:off x="7162920" y="1066680"/>
                <a:ext cx="152280" cy="15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 Black"/>
                  </a:rPr>
                  <a:t>/</a:t>
                </a:r>
                <a:endPara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291" name="Group 96"/>
          <p:cNvGrpSpPr/>
          <p:nvPr/>
        </p:nvGrpSpPr>
        <p:grpSpPr>
          <a:xfrm>
            <a:off x="8229600" y="1066680"/>
            <a:ext cx="609480" cy="414360"/>
            <a:chOff x="8229600" y="1066680"/>
            <a:chExt cx="609480" cy="414360"/>
          </a:xfrm>
        </p:grpSpPr>
        <p:sp>
          <p:nvSpPr>
            <p:cNvPr id="292" name="WordArt 53"/>
            <p:cNvSpPr txBox="1"/>
            <p:nvPr/>
          </p:nvSpPr>
          <p:spPr>
            <a:xfrm>
              <a:off x="8229600" y="1219320"/>
              <a:ext cx="28116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а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293" name="Group 93"/>
            <p:cNvGrpSpPr/>
            <p:nvPr/>
          </p:nvGrpSpPr>
          <p:grpSpPr>
            <a:xfrm>
              <a:off x="8534520" y="1066680"/>
              <a:ext cx="304560" cy="152640"/>
              <a:chOff x="8534520" y="1066680"/>
              <a:chExt cx="304560" cy="152640"/>
            </a:xfrm>
          </p:grpSpPr>
          <p:sp>
            <p:nvSpPr>
              <p:cNvPr id="294" name="WordArt 90"/>
              <p:cNvSpPr txBox="1"/>
              <p:nvPr/>
            </p:nvSpPr>
            <p:spPr>
              <a:xfrm>
                <a:off x="8686800" y="1066680"/>
                <a:ext cx="152280" cy="15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 Black"/>
                  </a:rPr>
                  <a:t>/</a:t>
                </a:r>
                <a:endPara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295" name="WordArt 91"/>
              <p:cNvSpPr txBox="1"/>
              <p:nvPr/>
            </p:nvSpPr>
            <p:spPr>
              <a:xfrm>
                <a:off x="8534520" y="1066680"/>
                <a:ext cx="152280" cy="15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 Black"/>
                  </a:rPr>
                  <a:t>/</a:t>
                </a:r>
                <a:endPara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</p:spTree>
  </p:cSld>
  <p:transition spd="med">
    <p:push dir="r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066680" y="1227240"/>
            <a:ext cx="6824880" cy="50338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3-12-20T05:44:50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