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42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gif" ContentType="image/gif"/>
  <Override PartName="/ppt/media/image34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659-EB59-4325-862D-97D3A643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5C6-25FA-428A-BF58-594BEEA1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0AA-0F62-4641-A37D-377B3C31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68B-90C8-4741-BB32-BB0281F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46D-DC0D-4CC1-853C-A64EF4C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0010-E5C2-4ADD-A3AE-4B011A96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45F-C990-4527-9F0B-8B5ABD2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1089-49A3-4A73-9BF7-1FB4CED3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A11-757F-45D1-98BB-431524A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6C35-6407-47EE-899F-656BC4FD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1E63-34D2-4A00-AF5B-67C6DC3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44C-E884-4098-9D83-29B78A6C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640-D0FB-4A59-ACAF-7CDDFFB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9E7-5DEA-4901-AE34-450949F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916A-1A20-410C-9882-FF57CC10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EAC-62A3-4C78-B222-EC8E929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4AE-D28C-4330-A40F-98B4CB30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EF88-D07A-487E-8714-C2D3993D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5548-FCAA-4139-8E0D-69C8552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FA49-733A-4CFD-B8F2-86F24E17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ACCC-B48E-4E7D-AE93-8437E5C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6E35-F9F6-4FBF-97B4-DA63563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C35-B180-42C0-A76C-E465D57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1997-D413-4F26-A8FF-6D0D3FF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A56F-6E27-4664-9D19-D83C524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0918-A20F-4815-8147-EE38F08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2092-3E51-4863-8C5B-E4E2E5D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7339-BC4A-43E6-9B35-2C23352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AB20-CE2B-45CF-8417-86361941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BDE7-AAC4-4C64-A5E0-834081D2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2ACD-0B6C-4E7B-9BBA-1195B1F9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C43E-ABA2-4340-8FD1-6E1CCD02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5A465-A6D6-4CAF-9EB5-A08B8F4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28A-6D0D-49D9-8A3A-FC49590B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9513-2508-42E0-826B-FBF1769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D259-E660-462C-8AE5-F05EA8DF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23DA-251A-4D31-9DE1-A91C2C1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DFFF-8FFB-4C47-9DAA-0028A76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CE80-077C-464B-A780-A4E3BB3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2BDC-40F4-49C0-941D-D7E7A38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18D4-675C-4876-91AC-296D5EC4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D8F2-D63B-43F8-8F4B-8ED70817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0FDA-2F4F-4C7E-BDF6-51969BE6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ACA2-1EA8-4725-90D3-10EC56D0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D6B-32AF-4F18-B4C3-94EFF08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05BC-9043-4205-878C-D5E7EF58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1B00-A094-4126-BC07-F18E2A2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EEED1-F70F-49B8-88C4-594A438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734F-046B-4FD8-B71E-55398922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A1BC-D261-43D9-9814-E4277AE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78AF-BDA1-4102-B55D-159CD51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7D95-89F7-4298-8321-EABC58E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2A27-2867-4999-BFB1-F68731C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C6CC-D28C-4658-BFAD-BE0A205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A5A6-D5B3-428B-AE32-AC963D27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033-F6AF-4ADC-88FE-34DDA07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A632-FFB1-404A-8011-30756A49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D8E2-910B-4D7D-B5A2-3CFC0C25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3FCC-F7B6-4092-A500-2F0B42A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0027-6046-4D47-976F-6BBD961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94ADE-8D9F-4A80-859D-AF5CD2B2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B0B79-9F1E-47CC-B52E-B39A378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2B88-5220-410D-B385-D70F878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2F08-F3D9-47C2-B724-179FA34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1D589-FDFA-4EDC-A2EE-6EA7177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1C18F-4D51-4A5B-A9C3-1589C8D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750-F640-4CE1-BC17-F3B9F00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6919-E0E4-40ED-A7D4-021CC1B8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34EF-1B2D-4532-8D41-7CB819D2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C06B-61B5-42CC-B816-72BD78C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FE329-A377-46FA-9908-01685C1D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455D9-6330-49FC-A80F-98EBE9A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23694-77DF-4B81-93B8-DE6C9A0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D4F9F-14CA-4D57-A756-306E12F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C6943-391D-433A-AFCD-CF4B44D9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7AA89-0A31-4199-BD63-8E56690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2E50D-240D-4444-8802-B2F8BB2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A71-849F-403F-9B0F-68E8750C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08465-2AE2-46AD-9FF0-99C4259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DF071-15EC-42C0-8163-9C10FA2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791E6-A217-469E-9517-A6A241F4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16037-D291-4071-A527-359070DF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7EB31-C965-4BDA-9FD4-8166E094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FEF-9518-4CFD-A0FE-73D5662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5F8-938C-455C-81D6-00936A79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CF2-7DBA-48E2-9C79-A3F91395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E7B-5B12-4D0D-80BC-1FDFD205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E13-F635-43A2-93D2-F5FC5EE1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7FA-9B82-4F2A-997F-19AE1EF22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81D-550F-4287-91ED-0C089179C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673-F432-4A23-868C-D89F539D3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900000" y="47628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943280" cy="12794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1800360" cy="1434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484360" y="47242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48000" y="260280"/>
            <a:ext cx="255132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67640" y="90792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6000" y="62064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7672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1943280" cy="1454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516720" y="479736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414972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7640" y="5445000"/>
            <a:ext cx="18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88000" y="5300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88000" y="56610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51280" y="5084640"/>
            <a:ext cx="1724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Projekt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4360" y="501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547640" y="5734080"/>
            <a:ext cx="655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für den Deutschunterricht in der 7. Klass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"/>
          <p:cNvSpPr txBox="1"/>
          <p:nvPr/>
        </p:nvSpPr>
        <p:spPr>
          <a:xfrm rot="447000">
            <a:off x="3131640" y="1484280"/>
            <a:ext cx="34718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uss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utsch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Österrei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hwei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uxembu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echtenste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g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 rot="20974800">
            <a:off x="1042920" y="260280"/>
            <a:ext cx="89298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ir reisen durch verschiedene Länder und Städt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233440" cy="13651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211640" y="6453360"/>
            <a:ext cx="1314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otsc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43640" y="6237360"/>
            <a:ext cx="27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ерштенцвейг В.Р., г.  Сочи, МБОУ гимназия №15 им. Белоусова Н.Н., учитель иностранного язы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728720" cy="12175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7829640" y="0"/>
            <a:ext cx="1314360" cy="14288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92436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716280"/>
            <a:ext cx="4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35280" y="4221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348000" y="3789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5734080"/>
            <a:ext cx="1009440" cy="36684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268360" y="595008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5950080"/>
            <a:ext cx="1440000" cy="36648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9640" y="6453360"/>
            <a:ext cx="1224000" cy="36648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77080" y="5734080"/>
            <a:ext cx="790560" cy="36684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96360" y="342900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6360" y="350028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96360" y="342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96360" y="3429000"/>
            <a:ext cx="15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42920" y="2349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48360" y="3500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24360" y="3860640"/>
            <a:ext cx="208764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4221000"/>
            <a:ext cx="208764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27640" y="3141720"/>
            <a:ext cx="1368360" cy="36648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84720" y="3213000"/>
            <a:ext cx="287280" cy="2872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 rot="1383600">
            <a:off x="4643280" y="2997360"/>
            <a:ext cx="7621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rilsk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77080" y="2781360"/>
            <a:ext cx="1008000" cy="36648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67640" y="2852640"/>
            <a:ext cx="289080" cy="360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 rot="916200">
            <a:off x="6659280" y="2708280"/>
            <a:ext cx="9525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aga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32720" y="3500280"/>
            <a:ext cx="71892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88000" y="3573360"/>
            <a:ext cx="360360" cy="2890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16000" y="3068640"/>
            <a:ext cx="151308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16000" y="2781360"/>
            <a:ext cx="287280" cy="2872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 rot="586200">
            <a:off x="1186920" y="2923920"/>
            <a:ext cx="1800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ankt-Petersbu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3429000"/>
            <a:ext cx="122544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500280"/>
            <a:ext cx="360360" cy="62100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 rot="1216200">
            <a:off x="1331640" y="328428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oskau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3860640"/>
            <a:ext cx="158436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 rot="915000">
            <a:off x="1258560" y="3716280"/>
            <a:ext cx="1266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.Nowgor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5640" y="4221000"/>
            <a:ext cx="100800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076640"/>
            <a:ext cx="360360" cy="2872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4365720"/>
            <a:ext cx="287280" cy="21564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 rot="1540800">
            <a:off x="899640" y="4149720"/>
            <a:ext cx="7239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al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5640" y="4869000"/>
            <a:ext cx="1081080" cy="36648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5373720"/>
            <a:ext cx="79200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 rot="1245000">
            <a:off x="468000" y="5229360"/>
            <a:ext cx="7524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tsc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00000" y="5084640"/>
            <a:ext cx="287280" cy="28764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819000">
            <a:off x="610920" y="4723920"/>
            <a:ext cx="11239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olgogr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48360" y="4941720"/>
            <a:ext cx="122400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5157720"/>
            <a:ext cx="360360" cy="333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 rot="927000">
            <a:off x="6948000" y="4797000"/>
            <a:ext cx="1266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000000"/>
                </a:solidFill>
                <a:latin typeface="Arial"/>
              </a:rPr>
              <a:t>Chabarowsk</a:t>
            </a:r>
            <a:endParaRPr b="0" lang="en-US" sz="18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1640" y="5084640"/>
            <a:ext cx="115236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40360" y="5661000"/>
            <a:ext cx="107928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11280" y="5013360"/>
            <a:ext cx="144000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5300640"/>
            <a:ext cx="72072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5589720"/>
            <a:ext cx="432000" cy="36648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0" y="5805360"/>
            <a:ext cx="1081080" cy="36684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3640" y="5229360"/>
            <a:ext cx="216000" cy="360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 rot="1425000">
            <a:off x="3492360" y="5084280"/>
            <a:ext cx="6001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m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40000" y="4869000"/>
            <a:ext cx="216000" cy="43164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 rot="778200">
            <a:off x="2556000" y="4868640"/>
            <a:ext cx="14000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scheljabin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24360" y="5373720"/>
            <a:ext cx="216000" cy="2872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5589720"/>
            <a:ext cx="215640" cy="28728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 rot="765600">
            <a:off x="3419280" y="5734080"/>
            <a:ext cx="12189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wosibir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2" name=""/>
          <p:cNvSpPr txBox="1"/>
          <p:nvPr/>
        </p:nvSpPr>
        <p:spPr>
          <a:xfrm rot="1189200">
            <a:off x="4859280" y="5661000"/>
            <a:ext cx="676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rkut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5300640"/>
            <a:ext cx="289080" cy="360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 rot="723000">
            <a:off x="4284720" y="4941720"/>
            <a:ext cx="120960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rasnojar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88000" y="5516640"/>
            <a:ext cx="288720" cy="360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84360" y="0"/>
            <a:ext cx="4392720" cy="366840"/>
          </a:xfrm>
          <a:prstGeom prst="rect">
            <a:avLst/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11280" y="333360"/>
            <a:ext cx="4537080" cy="366840"/>
          </a:xfrm>
          <a:prstGeom prst="rect">
            <a:avLst/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11280" y="620640"/>
            <a:ext cx="4537080" cy="366840"/>
          </a:xfrm>
          <a:prstGeom prst="rect">
            <a:avLst/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42920" y="2276640"/>
            <a:ext cx="647640" cy="36036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63640" y="1700280"/>
            <a:ext cx="647640" cy="28872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87280" y="2205000"/>
            <a:ext cx="576360" cy="21600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92360" y="1916280"/>
            <a:ext cx="504720" cy="14436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2133720"/>
            <a:ext cx="358920" cy="14292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47640" y="2133720"/>
            <a:ext cx="505080" cy="7308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19280" y="2060640"/>
            <a:ext cx="504720" cy="14436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92360" y="1916280"/>
            <a:ext cx="287280" cy="288720"/>
          </a:xfrm>
          <a:prstGeom prst="ellipse">
            <a:avLst/>
          </a:prstGeom>
          <a:solidFill>
            <a:srgbClr val="fef9ea"/>
          </a:solidFill>
          <a:ln w="9360">
            <a:solidFill>
              <a:srgbClr val="fef9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8000" y="1916280"/>
            <a:ext cx="360360" cy="33336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68360" y="0"/>
            <a:ext cx="4680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ssland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"/>
          <p:cNvSpPr/>
          <p:nvPr/>
        </p:nvSpPr>
        <p:spPr>
          <a:xfrm>
            <a:off x="2268360" y="1916280"/>
            <a:ext cx="1079640" cy="36036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 rot="855600">
            <a:off x="2268000" y="1773360"/>
            <a:ext cx="10670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urman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2276640"/>
            <a:ext cx="718920" cy="28872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2276640"/>
            <a:ext cx="395280" cy="21564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2492280"/>
            <a:ext cx="647640" cy="21600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869000"/>
            <a:ext cx="179280" cy="108108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9280" y="5445000"/>
            <a:ext cx="71640" cy="50508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5734080"/>
            <a:ext cx="324000" cy="21600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4724280"/>
            <a:ext cx="108000" cy="43344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9280" y="5445000"/>
            <a:ext cx="289080" cy="21600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12000" y="3429000"/>
            <a:ext cx="1152720" cy="86364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24720" y="3357720"/>
            <a:ext cx="432000" cy="86328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885080" y="3933720"/>
            <a:ext cx="142920" cy="28728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 rot="1358400">
            <a:off x="6876720" y="3357360"/>
            <a:ext cx="7812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akut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740720" y="3429000"/>
            <a:ext cx="431640" cy="21600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5734080"/>
            <a:ext cx="71280" cy="35892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9280" y="5877000"/>
            <a:ext cx="71640" cy="21600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12000" y="4076640"/>
            <a:ext cx="289080" cy="14436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85080" y="6237360"/>
            <a:ext cx="289080" cy="216000"/>
          </a:xfrm>
          <a:prstGeom prst="star5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21360"/>
            <a:ext cx="610920" cy="216000"/>
          </a:xfrm>
          <a:prstGeom prst="ellipse">
            <a:avLst/>
          </a:prstGeom>
          <a:solidFill>
            <a:srgbClr val="d1e8ff"/>
          </a:solidFill>
          <a:ln w="936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667640" y="5950080"/>
            <a:ext cx="360360" cy="358560"/>
          </a:xfrm>
          <a:prstGeom prst="ellipse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028000" y="5950080"/>
            <a:ext cx="287280" cy="287280"/>
          </a:xfrm>
          <a:prstGeom prst="ellipse">
            <a:avLst/>
          </a:prstGeom>
          <a:solidFill>
            <a:srgbClr val="ffe4c9"/>
          </a:solidFill>
          <a:ln w="9360">
            <a:solidFill>
              <a:srgbClr val="ffe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 rot="855600">
            <a:off x="7596360" y="5805360"/>
            <a:ext cx="12855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ladiwost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51640" y="5877000"/>
            <a:ext cx="72720" cy="144360"/>
          </a:xfrm>
          <a:prstGeom prst="ellipse">
            <a:avLst/>
          </a:prstGeom>
          <a:solidFill>
            <a:srgbClr val="ffe4c9"/>
          </a:solidFill>
          <a:ln w="9360">
            <a:solidFill>
              <a:srgbClr val="ffe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27640" y="5516640"/>
            <a:ext cx="144360" cy="288720"/>
          </a:xfrm>
          <a:prstGeom prst="ellipse">
            <a:avLst/>
          </a:prstGeom>
          <a:solidFill>
            <a:srgbClr val="ffe4c9"/>
          </a:solidFill>
          <a:ln w="9360">
            <a:solidFill>
              <a:srgbClr val="ffe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59280" y="6093000"/>
            <a:ext cx="144360" cy="215640"/>
          </a:xfrm>
          <a:prstGeom prst="ellipse">
            <a:avLst/>
          </a:prstGeom>
          <a:solidFill>
            <a:srgbClr val="ffe4c9"/>
          </a:solidFill>
          <a:ln w="9360">
            <a:solidFill>
              <a:srgbClr val="ffe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 rot="20931000">
            <a:off x="900000" y="-171000"/>
            <a:ext cx="727416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skau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906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7524720" y="2637000"/>
            <a:ext cx="1530360" cy="18716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1897200" cy="2016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2195640" y="1413000"/>
            <a:ext cx="49910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oskau wurde im Jahre 1147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von Juri Dolgoruki gegründet.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6300720" y="4751280"/>
            <a:ext cx="2843280" cy="21067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5200560"/>
            <a:ext cx="1440000" cy="1657440"/>
          </a:xfrm>
          <a:custGeom>
            <a:avLst/>
            <a:gdLst>
              <a:gd name="textAreaLeft" fmla="*/ 338400 w 1440000"/>
              <a:gd name="textAreaRight" fmla="*/ 1100520 w 144000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268360" y="4941720"/>
            <a:ext cx="38880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Das Herz der Stadt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ist der Kreml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98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 rot="20723400">
            <a:off x="979200" y="468000"/>
            <a:ext cx="70675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ankt-Petersburg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381800" y="4149720"/>
            <a:ext cx="1762200" cy="27082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2050920" y="4149720"/>
            <a:ext cx="2448000" cy="16398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0" y="1700280"/>
            <a:ext cx="1325520" cy="16556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0" y="5465880"/>
            <a:ext cx="2195640" cy="13921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7"/>
          <a:stretch/>
        </p:blipFill>
        <p:spPr>
          <a:xfrm>
            <a:off x="2195640" y="5500800"/>
            <a:ext cx="2303280" cy="13572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8"/>
          <a:stretch/>
        </p:blipFill>
        <p:spPr>
          <a:xfrm>
            <a:off x="4500720" y="4149720"/>
            <a:ext cx="2050920" cy="2708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042920" y="220500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 rot="907800">
            <a:off x="1834920" y="836280"/>
            <a:ext cx="6330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ankt-Petersburg wurde 170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on Peter dem Ersten gegründe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9"/>
          <a:stretch/>
        </p:blipFill>
        <p:spPr>
          <a:xfrm>
            <a:off x="5867280" y="4149720"/>
            <a:ext cx="2000520" cy="27082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0" y="3500280"/>
            <a:ext cx="10429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er Smolny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alas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771640" y="3500280"/>
            <a:ext cx="12448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ie Kasan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Kathedra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508720" y="3573360"/>
            <a:ext cx="15127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Nowodewi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schi-Klost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11640" y="3573360"/>
            <a:ext cx="12970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er Newski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rospek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093080" y="3573360"/>
            <a:ext cx="10062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er Winter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alas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113680" y="3500280"/>
            <a:ext cx="1030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er Palast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latz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6400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42920" y="3429000"/>
            <a:ext cx="15526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ie Brücken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über die New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700360" y="476280"/>
            <a:ext cx="44640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otschi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6680" cy="13669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2305080" cy="17301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284560" cy="1822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7238880" y="4653000"/>
            <a:ext cx="1905120" cy="14349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79280" y="4508640"/>
            <a:ext cx="1440000" cy="1655640"/>
          </a:xfrm>
          <a:custGeom>
            <a:avLst/>
            <a:gdLst>
              <a:gd name="textAreaLeft" fmla="*/ 338400 w 1440000"/>
              <a:gd name="textAreaRight" fmla="*/ 1100520 w 1440000"/>
              <a:gd name="textAreaTop" fmla="*/ 194400 h 1655640"/>
              <a:gd name="textAreaBottom" fmla="*/ 1038600 h 165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43280" y="2060640"/>
            <a:ext cx="36385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otschi wurde im Jahre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838 gegründet.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5"/>
          <a:stretch/>
        </p:blipFill>
        <p:spPr>
          <a:xfrm>
            <a:off x="6983280" y="2205000"/>
            <a:ext cx="2160720" cy="14763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1692360" y="4437000"/>
            <a:ext cx="5448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as Herz des Kurortes ist Mazesta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1343160" cy="15573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4151160" y="0"/>
            <a:ext cx="499284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250920" y="328680"/>
            <a:ext cx="1873080" cy="1276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971640" y="2565360"/>
            <a:ext cx="2708280" cy="408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Deutsch-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land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24720" y="6093000"/>
            <a:ext cx="503280" cy="215640"/>
          </a:xfrm>
          <a:custGeom>
            <a:avLst/>
            <a:gdLst>
              <a:gd name="textAreaLeft" fmla="*/ 207360 w 503280"/>
              <a:gd name="textAreaRight" fmla="*/ 295920 w 50328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 rot="1479000">
            <a:off x="7443720" y="5487840"/>
            <a:ext cx="8650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ünc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56360" y="5516640"/>
            <a:ext cx="216000" cy="216000"/>
          </a:xfrm>
          <a:custGeom>
            <a:avLst/>
            <a:gdLst>
              <a:gd name="textAreaLeft" fmla="*/ 76680 w 216000"/>
              <a:gd name="textAreaRight" fmla="*/ 139320 w 216000"/>
              <a:gd name="textAreaTop" fmla="*/ 76680 h 216000"/>
              <a:gd name="textAreaBottom" fmla="*/ 139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86" y="7686"/>
                </a:lnTo>
                <a:lnTo>
                  <a:pt x="10800" y="0"/>
                </a:lnTo>
                <a:lnTo>
                  <a:pt x="13914" y="7686"/>
                </a:lnTo>
                <a:lnTo>
                  <a:pt x="21600" y="10800"/>
                </a:lnTo>
                <a:lnTo>
                  <a:pt x="13914" y="13914"/>
                </a:lnTo>
                <a:lnTo>
                  <a:pt x="10800" y="21600"/>
                </a:lnTo>
                <a:lnTo>
                  <a:pt x="7686" y="1391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 rot="1213200">
            <a:off x="5622480" y="5124240"/>
            <a:ext cx="930240" cy="6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tuttg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00720" y="1628640"/>
            <a:ext cx="289080" cy="216000"/>
          </a:xfrm>
          <a:custGeom>
            <a:avLst/>
            <a:gdLst>
              <a:gd name="textAreaLeft" fmla="*/ 106200 w 289080"/>
              <a:gd name="textAreaRight" fmla="*/ 182880 w 289080"/>
              <a:gd name="textAreaTop" fmla="*/ 79560 h 216000"/>
              <a:gd name="textAreaBottom" fmla="*/ 1364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 rot="1008600">
            <a:off x="7577280" y="3712680"/>
            <a:ext cx="72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res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80360" y="3357720"/>
            <a:ext cx="431640" cy="214200"/>
          </a:xfrm>
          <a:custGeom>
            <a:avLst/>
            <a:gdLst>
              <a:gd name="textAreaLeft" fmla="*/ 177840 w 431640"/>
              <a:gd name="textAreaRight" fmla="*/ 253800 w 43164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20000" y="4724280"/>
            <a:ext cx="360360" cy="216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 rot="1685400">
            <a:off x="6948360" y="4723920"/>
            <a:ext cx="86544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ürnbe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16720" y="3716280"/>
            <a:ext cx="936720" cy="433440"/>
          </a:xfrm>
          <a:prstGeom prst="ellipse">
            <a:avLst/>
          </a:prstGeom>
          <a:solidFill>
            <a:srgbClr val="b9f597"/>
          </a:solidFill>
          <a:ln w="9360">
            <a:solidFill>
              <a:srgbClr val="b9f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5734080"/>
            <a:ext cx="1295280" cy="503280"/>
          </a:xfrm>
          <a:prstGeom prst="ellipse">
            <a:avLst/>
          </a:prstGeom>
          <a:solidFill>
            <a:srgbClr val="dcf7a5"/>
          </a:solidFill>
          <a:ln w="9360">
            <a:solidFill>
              <a:srgbClr val="dcf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96360" y="2565360"/>
            <a:ext cx="1225440" cy="287280"/>
          </a:xfrm>
          <a:prstGeom prst="ellipse">
            <a:avLst/>
          </a:prstGeom>
          <a:solidFill>
            <a:srgbClr val="dcf7a5"/>
          </a:solidFill>
          <a:ln w="9360">
            <a:solidFill>
              <a:srgbClr val="dcf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2997360"/>
            <a:ext cx="1440000" cy="504720"/>
          </a:xfrm>
          <a:prstGeom prst="ellipse">
            <a:avLst/>
          </a:prstGeom>
          <a:solidFill>
            <a:srgbClr val="ffc081"/>
          </a:solidFill>
          <a:ln w="9360">
            <a:solidFill>
              <a:srgbClr val="ffc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948360" y="5373720"/>
            <a:ext cx="1368720" cy="360360"/>
          </a:xfrm>
          <a:prstGeom prst="ellipse">
            <a:avLst/>
          </a:prstGeom>
          <a:solidFill>
            <a:srgbClr val="ffc081"/>
          </a:solidFill>
          <a:ln w="9360">
            <a:solidFill>
              <a:srgbClr val="ffc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48360" y="1197000"/>
            <a:ext cx="1511280" cy="647640"/>
          </a:xfrm>
          <a:prstGeom prst="ellipse">
            <a:avLst/>
          </a:prstGeom>
          <a:solidFill>
            <a:srgbClr val="ffc081"/>
          </a:solidFill>
          <a:ln w="9360">
            <a:solidFill>
              <a:srgbClr val="ffc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35640" y="2060640"/>
            <a:ext cx="1368360" cy="50472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00720" y="4365720"/>
            <a:ext cx="934920" cy="36036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72000" y="4653000"/>
            <a:ext cx="576360" cy="21600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92720" y="4508640"/>
            <a:ext cx="216000" cy="21564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96360" y="3500280"/>
            <a:ext cx="1152360" cy="21600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172360" y="3645000"/>
            <a:ext cx="360360" cy="215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20000" y="3645000"/>
            <a:ext cx="288720" cy="144360"/>
          </a:xfrm>
          <a:custGeom>
            <a:avLst/>
            <a:gdLst>
              <a:gd name="textAreaLeft" fmla="*/ 106200 w 288720"/>
              <a:gd name="textAreaRight" fmla="*/ 182520 w 288720"/>
              <a:gd name="textAreaTop" fmla="*/ 52920 h 144360"/>
              <a:gd name="textAreaBottom" fmla="*/ 914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 rot="1744800">
            <a:off x="6659280" y="3645000"/>
            <a:ext cx="5428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rfur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308720" y="1989000"/>
            <a:ext cx="1150920" cy="360360"/>
          </a:xfrm>
          <a:prstGeom prst="ellipse">
            <a:avLst/>
          </a:prstGeom>
          <a:solidFill>
            <a:srgbClr val="dcf7a5"/>
          </a:solidFill>
          <a:ln w="9360">
            <a:solidFill>
              <a:srgbClr val="dcf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740720" y="2276640"/>
            <a:ext cx="431640" cy="288720"/>
          </a:xfrm>
          <a:custGeom>
            <a:avLst/>
            <a:gdLst>
              <a:gd name="textAreaLeft" fmla="*/ 177840 w 431640"/>
              <a:gd name="textAreaRight" fmla="*/ 253800 w 431640"/>
              <a:gd name="textAreaTop" fmla="*/ 119160 h 288720"/>
              <a:gd name="textAreaBottom" fmla="*/ 1695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6" y="8906"/>
                </a:lnTo>
                <a:lnTo>
                  <a:pt x="10800" y="0"/>
                </a:lnTo>
                <a:lnTo>
                  <a:pt x="12694" y="8906"/>
                </a:lnTo>
                <a:lnTo>
                  <a:pt x="21600" y="10800"/>
                </a:lnTo>
                <a:lnTo>
                  <a:pt x="12694" y="12694"/>
                </a:lnTo>
                <a:lnTo>
                  <a:pt x="10800" y="21600"/>
                </a:lnTo>
                <a:lnTo>
                  <a:pt x="8906" y="1269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 rot="1200000">
            <a:off x="7790040" y="2405160"/>
            <a:ext cx="73656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2" name=""/>
          <p:cNvSpPr txBox="1"/>
          <p:nvPr/>
        </p:nvSpPr>
        <p:spPr>
          <a:xfrm rot="1238400">
            <a:off x="5292360" y="1988640"/>
            <a:ext cx="7462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re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19640" y="1700280"/>
            <a:ext cx="865080" cy="28872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651640" y="1916280"/>
            <a:ext cx="214200" cy="215640"/>
          </a:xfrm>
          <a:custGeom>
            <a:avLst/>
            <a:gdLst>
              <a:gd name="textAreaLeft" fmla="*/ 88200 w 214200"/>
              <a:gd name="textAreaRight" fmla="*/ 126000 w 2142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24360" y="1484280"/>
            <a:ext cx="432000" cy="28908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867280" y="907920"/>
            <a:ext cx="936720" cy="36036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0000" y="3716280"/>
            <a:ext cx="863640" cy="28908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48360" y="2852640"/>
            <a:ext cx="793800" cy="43200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04000" y="2924280"/>
            <a:ext cx="287280" cy="28872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04000" y="2852640"/>
            <a:ext cx="144360" cy="21600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56360" y="1341360"/>
            <a:ext cx="287280" cy="28728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0" y="4941720"/>
            <a:ext cx="431640" cy="21600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435640" y="4292640"/>
            <a:ext cx="358560" cy="28728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92720" y="4365720"/>
            <a:ext cx="142920" cy="14292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27640" y="3068640"/>
            <a:ext cx="215640" cy="216000"/>
          </a:xfrm>
          <a:prstGeom prst="ellipse">
            <a:avLst/>
          </a:prstGeom>
          <a:solidFill>
            <a:srgbClr val="ffc081"/>
          </a:solidFill>
          <a:ln w="9360">
            <a:solidFill>
              <a:srgbClr val="ffc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364000" y="4508640"/>
            <a:ext cx="216000" cy="28872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11640" y="5373720"/>
            <a:ext cx="1081080" cy="360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284720" y="1773360"/>
            <a:ext cx="792000" cy="503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59640" y="2060640"/>
            <a:ext cx="684360" cy="287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748720" y="2565360"/>
            <a:ext cx="216000" cy="216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956720" y="4292640"/>
            <a:ext cx="1187280" cy="647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207280" y="6237360"/>
            <a:ext cx="936720" cy="620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172360" y="6453360"/>
            <a:ext cx="216000" cy="215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59280" y="6597720"/>
            <a:ext cx="1297080" cy="260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40360" y="4005360"/>
            <a:ext cx="360360" cy="287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40360" y="4508640"/>
            <a:ext cx="360360" cy="433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427640" y="5013360"/>
            <a:ext cx="144360" cy="144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20000" y="0"/>
            <a:ext cx="287280" cy="333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260280"/>
            <a:ext cx="144360" cy="73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659640" y="189000"/>
            <a:ext cx="144360" cy="144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00720" y="4797360"/>
            <a:ext cx="144360" cy="14436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03640" y="836640"/>
            <a:ext cx="863640" cy="28872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64000" y="1125360"/>
            <a:ext cx="648000" cy="21600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08720" y="1413000"/>
            <a:ext cx="215640" cy="14436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093080" y="1052640"/>
            <a:ext cx="144360" cy="21564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77080" y="0"/>
            <a:ext cx="142920" cy="40464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651640" y="836640"/>
            <a:ext cx="215640" cy="36036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020000" y="981000"/>
            <a:ext cx="144360" cy="360360"/>
          </a:xfrm>
          <a:prstGeom prst="ellipse">
            <a:avLst/>
          </a:prstGeom>
          <a:solidFill>
            <a:srgbClr val="95ffff"/>
          </a:solidFill>
          <a:ln w="9360">
            <a:solidFill>
              <a:srgbClr val="9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732720" y="0"/>
            <a:ext cx="71280" cy="333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6000" y="4941720"/>
            <a:ext cx="287280" cy="1429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84720" y="4653000"/>
            <a:ext cx="287280" cy="71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500720" y="4005360"/>
            <a:ext cx="215640" cy="215640"/>
          </a:xfrm>
          <a:prstGeom prst="ellipse">
            <a:avLst/>
          </a:prstGeom>
          <a:solidFill>
            <a:srgbClr val="ffc081"/>
          </a:solidFill>
          <a:ln w="9360">
            <a:solidFill>
              <a:srgbClr val="ffc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643280" y="4076640"/>
            <a:ext cx="503280" cy="360360"/>
          </a:xfrm>
          <a:prstGeom prst="ellipse">
            <a:avLst/>
          </a:prstGeom>
          <a:solidFill>
            <a:srgbClr val="ffe36b"/>
          </a:solidFill>
          <a:ln w="9360">
            <a:solidFill>
              <a:srgbClr val="ffe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 rot="1314600">
            <a:off x="7427520" y="2819520"/>
            <a:ext cx="766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ip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5" name=""/>
          <p:cNvSpPr txBox="1"/>
          <p:nvPr/>
        </p:nvSpPr>
        <p:spPr>
          <a:xfrm rot="924600">
            <a:off x="6516360" y="3213000"/>
            <a:ext cx="9986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eim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6" name=""/>
          <p:cNvSpPr txBox="1"/>
          <p:nvPr/>
        </p:nvSpPr>
        <p:spPr>
          <a:xfrm rot="1287000">
            <a:off x="6606720" y="1611000"/>
            <a:ext cx="93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ambu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12000" y="1125360"/>
            <a:ext cx="647640" cy="287640"/>
          </a:xfrm>
          <a:prstGeom prst="ellipse">
            <a:avLst/>
          </a:prstGeom>
          <a:solidFill>
            <a:srgbClr val="ffff91"/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3141720"/>
            <a:ext cx="431640" cy="288720"/>
          </a:xfrm>
          <a:custGeom>
            <a:avLst/>
            <a:gdLst>
              <a:gd name="textAreaLeft" fmla="*/ 177840 w 431640"/>
              <a:gd name="textAreaRight" fmla="*/ 253800 w 431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 rot="1640400">
            <a:off x="5148000" y="2924280"/>
            <a:ext cx="59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on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 rot="20596200">
            <a:off x="539280" y="404280"/>
            <a:ext cx="7475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Berli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612800" cy="25653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1927080" cy="27352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2195640" y="5267160"/>
            <a:ext cx="2381040" cy="15908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6875640" y="5235480"/>
            <a:ext cx="2268360" cy="16225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5"/>
          <a:stretch/>
        </p:blipFill>
        <p:spPr>
          <a:xfrm>
            <a:off x="4572000" y="5270400"/>
            <a:ext cx="2735280" cy="1587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763640" y="2852640"/>
            <a:ext cx="54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 rot="21471600">
            <a:off x="3563640" y="2491920"/>
            <a:ext cx="532908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Berlin wurde im Jahre 1307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gegründet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6"/>
          <a:stretch/>
        </p:blipFill>
        <p:spPr>
          <a:xfrm>
            <a:off x="0" y="5254560"/>
            <a:ext cx="2195640" cy="16034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2050920" y="4365720"/>
            <a:ext cx="2089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r Alexanderplatz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7315200" y="486900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as Rote Rathau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124000" y="4941720"/>
            <a:ext cx="2419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as Brandenburger Tor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5076720" y="4869000"/>
            <a:ext cx="1781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e Museumsisel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979640" y="3213000"/>
            <a:ext cx="1619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r Berliner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ernsehtur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7380360" y="4149720"/>
            <a:ext cx="1620720" cy="216072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7524720" y="635472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eipzig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6" name=""/>
          <p:cNvSpPr txBox="1"/>
          <p:nvPr/>
        </p:nvSpPr>
        <p:spPr>
          <a:xfrm rot="20465400">
            <a:off x="395280" y="188640"/>
            <a:ext cx="2505240" cy="14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Groβ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27" name=""/>
          <p:cNvSpPr txBox="1"/>
          <p:nvPr/>
        </p:nvSpPr>
        <p:spPr>
          <a:xfrm rot="20808000">
            <a:off x="5364000" y="259920"/>
            <a:ext cx="4096080" cy="18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tädt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016000" cy="15940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684360" y="6237360"/>
            <a:ext cx="10094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Erfurt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2700360" y="2133720"/>
            <a:ext cx="2087640" cy="1398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2987640" y="357336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eim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 txBox="1"/>
          <p:nvPr/>
        </p:nvSpPr>
        <p:spPr>
          <a:xfrm>
            <a:off x="2916360" y="6246720"/>
            <a:ext cx="1584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ürnberg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2158920" cy="16207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 txBox="1"/>
          <p:nvPr/>
        </p:nvSpPr>
        <p:spPr>
          <a:xfrm>
            <a:off x="324000" y="3789360"/>
            <a:ext cx="174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resde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219640" y="2133720"/>
            <a:ext cx="1944720" cy="14396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5076720" y="3645000"/>
            <a:ext cx="18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amburg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7524720" y="2133720"/>
            <a:ext cx="1366920" cy="14396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 txBox="1"/>
          <p:nvPr/>
        </p:nvSpPr>
        <p:spPr>
          <a:xfrm>
            <a:off x="7667640" y="3645000"/>
            <a:ext cx="1228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Bremen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0" name=""/>
          <p:cNvSpPr txBox="1"/>
          <p:nvPr/>
        </p:nvSpPr>
        <p:spPr>
          <a:xfrm rot="20590800">
            <a:off x="2700360" y="333000"/>
            <a:ext cx="2952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eutsch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8"/>
          <a:stretch/>
        </p:blipFill>
        <p:spPr>
          <a:xfrm>
            <a:off x="5292720" y="4221000"/>
            <a:ext cx="1616040" cy="19447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5364000" y="6308640"/>
            <a:ext cx="1467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ünchen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7:49:48Z</dcterms:created>
  <dc:creator>User</dc:creator>
  <dc:description/>
  <dc:language>en-US</dc:language>
  <cp:lastModifiedBy>Loner-XP</cp:lastModifiedBy>
  <dcterms:modified xsi:type="dcterms:W3CDTF">2013-12-07T16:10:28Z</dcterms:modified>
  <cp:revision>8</cp:revision>
  <dc:subject/>
  <dc:title>Слайд 1</dc:title>
</cp:coreProperties>
</file>