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3.jpeg" ContentType="image/jpeg"/>
  <Override PartName="/ppt/media/image11.png" ContentType="image/png"/>
  <Override PartName="/ppt/media/image19.jpeg" ContentType="image/jpeg"/>
  <Override PartName="/ppt/media/image12.jpeg" ContentType="image/jpeg"/>
  <Override PartName="/ppt/media/image37.jpeg" ContentType="image/jpeg"/>
  <Override PartName="/ppt/media/image13.jpeg" ContentType="image/jpeg"/>
  <Override PartName="/ppt/media/image40.jpeg" ContentType="image/jpeg"/>
  <Override PartName="/ppt/media/image9.png" ContentType="image/png"/>
  <Override PartName="/ppt/media/image38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7.png" ContentType="image/png"/>
  <Override PartName="/ppt/media/image39.jpeg" ContentType="image/jpeg"/>
  <Override PartName="/ppt/media/image8.png" ContentType="image/png"/>
  <Override PartName="/ppt/media/image14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3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7365-1445-4684-9CD2-E6072746B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7A49-14FB-4C59-9F5B-5466E932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ADB6-6A68-4831-AAF3-D7CC71304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1E22-A772-4256-8594-A0F0C0205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627C-A6AA-4CCE-BE49-64DEFD1C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B4F4-6066-48C7-9C7B-BC73610B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89DB-CB7E-4A56-A3C4-041E18B2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E872-5E1E-4478-AFEA-EF499446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B6B9-E15D-44DD-9D7F-2540925F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212D-D3F5-4139-AD72-08978CF4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3065-8CC5-4901-9FB3-788DE4B6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6A09-09A5-48EE-A4D4-41E73305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DACD-CB06-4299-BC55-0BF9F20DB7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Calibri"/>
              </a:rPr>
              <a:t>МОУДОД школа хорового искусства «Полет» им. Т. Е. Селищево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060640"/>
            <a:ext cx="64008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Calibri"/>
              </a:rPr>
              <a:t>Волкова Ирина Александров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Calibri"/>
              </a:rPr>
              <a:t>Преподаватель фортепиа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Documents and Settings\xxx\Рабочий стол\скрипка\0_74e26_c44b234b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1676520" y="99072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Лир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да браччо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C:\Documents and Settings\xxx\Рабочий стол\скрипка\LiraDaBraccio_BELLINI_GiovanniSanZaccariaAltarpiece_1505_deta.jpg"/>
          <p:cNvPicPr/>
          <p:nvPr/>
        </p:nvPicPr>
        <p:blipFill>
          <a:blip r:embed="rId2"/>
          <a:stretch/>
        </p:blipFill>
        <p:spPr>
          <a:xfrm>
            <a:off x="2438280" y="1981080"/>
            <a:ext cx="386892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xxx\Рабочий стол\скрипка\0_74e26_c44b234b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2803680" y="1258920"/>
            <a:ext cx="33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Ребе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C:\Documents and Settings\xxx\Рабочий стол\скрипка\rebec_1-300x185.jpg"/>
          <p:cNvPicPr/>
          <p:nvPr/>
        </p:nvPicPr>
        <p:blipFill>
          <a:blip r:embed="rId2"/>
          <a:stretch/>
        </p:blipFill>
        <p:spPr>
          <a:xfrm>
            <a:off x="2438280" y="2286000"/>
            <a:ext cx="4257720" cy="2625840"/>
          </a:xfrm>
          <a:prstGeom prst="rect">
            <a:avLst/>
          </a:prstGeom>
          <a:ln w="0">
            <a:noFill/>
          </a:ln>
        </p:spPr>
      </p:pic>
      <p:pic>
        <p:nvPicPr>
          <p:cNvPr id="82" name="Rebec_solo_128.MP3" descr=""/>
          <p:cNvPicPr/>
          <p:nvPr/>
        </p:nvPicPr>
        <p:blipFill>
          <a:blip r:embed="rId3"/>
          <a:stretch/>
        </p:blipFill>
        <p:spPr>
          <a:xfrm>
            <a:off x="6516720" y="41497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20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Documents and Settings\xxx\Рабочий стол\скрипка\0_74e26_c44b234b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1066680" y="148896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Родиной скрипки считают  славянские зем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С XIV века известен инструмент скрипи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8" descr="C:\Documents and Settings\xxx\Рабочий стол\скрипка\dop56.jpg"/>
          <p:cNvPicPr/>
          <p:nvPr/>
        </p:nvPicPr>
        <p:blipFill>
          <a:blip r:embed="rId2"/>
          <a:stretch/>
        </p:blipFill>
        <p:spPr>
          <a:xfrm>
            <a:off x="2514600" y="2895480"/>
            <a:ext cx="392256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Documents and Settings\xxx\Рабочий стол\скрипка\0_74e26_c44b234b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1828800" y="121932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VI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ека скрипка получае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распространение по всей Европ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143000" y="25560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Андреа Ама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- создатель современн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типа скрип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5" descr="C:\Documents and Settings\xxx\Рабочий стол\скрипка\tipologija_mirovozrenija.jpg"/>
          <p:cNvPicPr/>
          <p:nvPr/>
        </p:nvPicPr>
        <p:blipFill>
          <a:blip r:embed="rId2"/>
          <a:stretch/>
        </p:blipFill>
        <p:spPr>
          <a:xfrm>
            <a:off x="3124080" y="3657600"/>
            <a:ext cx="274644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Documents and Settings\xxx\Рабочий стол\скрипка\0_74e26_c44b234b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1523880" y="129528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Кремо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- родина скрипичных масте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C:\Documents and Settings\xxx\Рабочий стол\скрипка\кремона.jpg"/>
          <p:cNvPicPr/>
          <p:nvPr/>
        </p:nvPicPr>
        <p:blipFill>
          <a:blip r:embed="rId2"/>
          <a:stretch/>
        </p:blipFill>
        <p:spPr>
          <a:xfrm>
            <a:off x="1905120" y="2362320"/>
            <a:ext cx="524016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:\Documents and Settings\xxx\Рабочий стол\скрипка\0_74e26_c44b234b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1965240" y="1295280"/>
            <a:ext cx="45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Антонио Страдивар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C:\Documents and Settings\xxx\Рабочий стол\скрипка\памятник_страдивари_кремона.jpg"/>
          <p:cNvPicPr/>
          <p:nvPr/>
        </p:nvPicPr>
        <p:blipFill>
          <a:blip r:embed="rId2"/>
          <a:stretch/>
        </p:blipFill>
        <p:spPr>
          <a:xfrm>
            <a:off x="1600200" y="2057400"/>
            <a:ext cx="2706840" cy="3610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C:\Documents and Settings\xxx\Рабочий стол\скрипка\страдивари.jpg"/>
          <p:cNvPicPr/>
          <p:nvPr/>
        </p:nvPicPr>
        <p:blipFill>
          <a:blip r:embed="rId3"/>
          <a:stretch/>
        </p:blipFill>
        <p:spPr>
          <a:xfrm>
            <a:off x="4724280" y="2057400"/>
            <a:ext cx="2710080" cy="36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026" descr="C:\Documents and Settings\xxx\Рабочий стол\скрипка\0_74e26_c44b234b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028"/>
          <p:cNvSpPr/>
          <p:nvPr/>
        </p:nvSpPr>
        <p:spPr>
          <a:xfrm>
            <a:off x="1584360" y="1336680"/>
            <a:ext cx="573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Лучшие скрипки мир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1030" descr="C:\Documents and Settings\xxx\Рабочий стол\скрипка\амати.jpg"/>
          <p:cNvPicPr/>
          <p:nvPr/>
        </p:nvPicPr>
        <p:blipFill>
          <a:blip r:embed="rId2"/>
          <a:stretch/>
        </p:blipFill>
        <p:spPr>
          <a:xfrm>
            <a:off x="1828800" y="2286000"/>
            <a:ext cx="1468440" cy="2900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31" descr="C:\Documents and Settings\xxx\Рабочий стол\скрипка\гварнери.gif"/>
          <p:cNvPicPr/>
          <p:nvPr/>
        </p:nvPicPr>
        <p:blipFill>
          <a:blip r:embed="rId3"/>
          <a:stretch/>
        </p:blipFill>
        <p:spPr>
          <a:xfrm>
            <a:off x="3962520" y="2286000"/>
            <a:ext cx="1076040" cy="2894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32" descr="C:\Documents and Settings\xxx\Рабочий стол\скрипка\страдивари1.jpg"/>
          <p:cNvPicPr/>
          <p:nvPr/>
        </p:nvPicPr>
        <p:blipFill>
          <a:blip r:embed="rId4"/>
          <a:stretch/>
        </p:blipFill>
        <p:spPr>
          <a:xfrm>
            <a:off x="5562720" y="2286000"/>
            <a:ext cx="2004840" cy="28735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033"/>
          <p:cNvSpPr/>
          <p:nvPr/>
        </p:nvSpPr>
        <p:spPr>
          <a:xfrm>
            <a:off x="1812960" y="5318280"/>
            <a:ext cx="153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Ама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1034"/>
          <p:cNvSpPr/>
          <p:nvPr/>
        </p:nvSpPr>
        <p:spPr>
          <a:xfrm>
            <a:off x="3718080" y="5318280"/>
            <a:ext cx="153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Гварнер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1035"/>
          <p:cNvSpPr/>
          <p:nvPr/>
        </p:nvSpPr>
        <p:spPr>
          <a:xfrm>
            <a:off x="5546880" y="5318280"/>
            <a:ext cx="207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адивар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:\Documents and Settings\xxx\Рабочий стол\скрипка\0_74e26_c44b234b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1600200" y="1143000"/>
            <a:ext cx="5791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Итальянцы умели делать звук скрип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особенно певучим и нежным, похожи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на человеческий голо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5" descr="C:\Documents and Settings\xxx\Рабочий стол\скрипка\Workshop_luthier.jpg"/>
          <p:cNvPicPr/>
          <p:nvPr/>
        </p:nvPicPr>
        <p:blipFill>
          <a:blip r:embed="rId2"/>
          <a:stretch/>
        </p:blipFill>
        <p:spPr>
          <a:xfrm>
            <a:off x="2438280" y="2743200"/>
            <a:ext cx="40309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:\Documents and Settings\xxx\Рабочий стол\скрипка\0_74e26_c44b234b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2041560" y="1143000"/>
            <a:ext cx="458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Антонио Виваль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4" descr="C:\Documents and Settings\xxx\Рабочий стол\скрипка\Antonio-Vivaldi.jpg"/>
          <p:cNvPicPr/>
          <p:nvPr/>
        </p:nvPicPr>
        <p:blipFill>
          <a:blip r:embed="rId2"/>
          <a:stretch/>
        </p:blipFill>
        <p:spPr>
          <a:xfrm>
            <a:off x="2666880" y="1981080"/>
            <a:ext cx="3008520" cy="3589560"/>
          </a:xfrm>
          <a:prstGeom prst="rect">
            <a:avLst/>
          </a:prstGeom>
          <a:ln w="0">
            <a:noFill/>
          </a:ln>
        </p:spPr>
      </p:pic>
      <p:pic>
        <p:nvPicPr>
          <p:cNvPr id="111" name="вивальди_лето2.mp3" descr=""/>
          <p:cNvPicPr/>
          <p:nvPr/>
        </p:nvPicPr>
        <p:blipFill>
          <a:blip r:embed="rId3"/>
          <a:stretch/>
        </p:blipFill>
        <p:spPr>
          <a:xfrm>
            <a:off x="6494400" y="429264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6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C:\Documents and Settings\xxx\Рабочий стол\скрипка\0_74e26_c44b234b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2041560" y="838080"/>
            <a:ext cx="45878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олшебная скрип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Николай Гумиле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279440" y="1676520"/>
            <a:ext cx="618804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Милый мальчик, ты так весел, так светла твоя улыб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е проси об этом счастье, отравляющем мир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Ты не знаешь, ты не знаешь, что такое эта скрип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Что такое темный ужас начинателя игр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Тот, кто взял ее однажды в повелительные ру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У того исчез навеки безмятежный свет оче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Духи ада любят слушать эти царственные зву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Бродят бешеные волки по дороге скрипач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адо вечно петь и плакать этим струнам, звонким струна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ечно должен биться, виться обезумевший смычо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И под солнцем, и под вьюгой, под белеющим бурун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И когда пылает запад, и когда горит вост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Ты устанешь и замедлишь, и на миг прервется пень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И уж ты не сможешь крикнуть, шевельнуться и вздохнуть, 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Тотчас бешеные волки в кровожадном исступлен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 горло вцепятся зубами, встанут лапами на груд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Мальчик, дальше! Здесь не встретишь ни веселья, ни сокровищ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о я вижу — ты смеешься, эти взоры — два луч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а, владей волшебной скрипкой, посмотри в глаза чудови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И погибни славной смертью, страшной смертью скрипач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mendelssohn-vconcerto-01.mp3" descr=""/>
          <p:cNvPicPr/>
          <p:nvPr/>
        </p:nvPicPr>
        <p:blipFill>
          <a:blip r:embed="rId2"/>
          <a:stretch/>
        </p:blipFill>
        <p:spPr>
          <a:xfrm>
            <a:off x="7391520" y="40766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749818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26" descr="C:\Documents and Settings\xxx\Рабочий стол\скрипка\img_lwtj1iwy75uweg4dec_4795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027"/>
          <p:cNvSpPr/>
          <p:nvPr/>
        </p:nvSpPr>
        <p:spPr>
          <a:xfrm>
            <a:off x="747720" y="304920"/>
            <a:ext cx="67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WordArt 1028"/>
          <p:cNvSpPr txBox="1"/>
          <p:nvPr/>
        </p:nvSpPr>
        <p:spPr>
          <a:xfrm>
            <a:off x="838080" y="304920"/>
            <a:ext cx="754380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Тайна старой скрипки</a:t>
            </a:r>
            <a:endParaRPr b="1" lang="en-US" sz="5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C:\Documents and Settings\xxx\Рабочий стол\скрипка\0_74e26_c44b234b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1889280" y="1066680"/>
            <a:ext cx="48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Никколо Пагани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4" descr="C:\Documents and Settings\xxx\Рабочий стол\скрипка\Паганини.jpg"/>
          <p:cNvPicPr/>
          <p:nvPr/>
        </p:nvPicPr>
        <p:blipFill>
          <a:blip r:embed="rId2"/>
          <a:stretch/>
        </p:blipFill>
        <p:spPr>
          <a:xfrm>
            <a:off x="1371600" y="1828800"/>
            <a:ext cx="2817720" cy="3270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C:\Documents and Settings\xxx\Рабочий стол\скрипка\паганиниjpg.jpg"/>
          <p:cNvPicPr/>
          <p:nvPr/>
        </p:nvPicPr>
        <p:blipFill>
          <a:blip r:embed="rId3"/>
          <a:stretch/>
        </p:blipFill>
        <p:spPr>
          <a:xfrm>
            <a:off x="4800600" y="1828800"/>
            <a:ext cx="2712960" cy="3252960"/>
          </a:xfrm>
          <a:prstGeom prst="rect">
            <a:avLst/>
          </a:prstGeom>
          <a:ln w="0">
            <a:noFill/>
          </a:ln>
        </p:spPr>
      </p:pic>
      <p:pic>
        <p:nvPicPr>
          <p:cNvPr id="120" name="Paganini_24capr_Perlman_24.mp3" descr=""/>
          <p:cNvPicPr/>
          <p:nvPr/>
        </p:nvPicPr>
        <p:blipFill>
          <a:blip r:embed="rId4"/>
          <a:stretch/>
        </p:blipFill>
        <p:spPr>
          <a:xfrm>
            <a:off x="4335480" y="5361120"/>
            <a:ext cx="6112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676520" y="533520"/>
            <a:ext cx="52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  <a:ea typeface="Arial"/>
              </a:rPr>
              <a:t>Великие композит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3" descr="C:\Documents and Settings\xxx\Рабочий стол\скрипка\бах.jpg"/>
          <p:cNvPicPr/>
          <p:nvPr/>
        </p:nvPicPr>
        <p:blipFill>
          <a:blip r:embed="rId1"/>
          <a:stretch/>
        </p:blipFill>
        <p:spPr>
          <a:xfrm>
            <a:off x="1219320" y="1676520"/>
            <a:ext cx="1181160" cy="1652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C:\Documents and Settings\xxx\Рабочий стол\скрипка\Georg+Friedrich+Hndel.jpg"/>
          <p:cNvPicPr/>
          <p:nvPr/>
        </p:nvPicPr>
        <p:blipFill>
          <a:blip r:embed="rId2"/>
          <a:stretch/>
        </p:blipFill>
        <p:spPr>
          <a:xfrm>
            <a:off x="2666880" y="1676520"/>
            <a:ext cx="1366920" cy="1650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C:\Documents and Settings\xxx\Рабочий стол\скрипка\гайдн.jpg"/>
          <p:cNvPicPr/>
          <p:nvPr/>
        </p:nvPicPr>
        <p:blipFill>
          <a:blip r:embed="rId3"/>
          <a:stretch/>
        </p:blipFill>
        <p:spPr>
          <a:xfrm>
            <a:off x="6019920" y="1676520"/>
            <a:ext cx="1317600" cy="1666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C:\Documents and Settings\xxx\Рабочий стол\скрипка\Antonio-Vivaldi.jpg"/>
          <p:cNvPicPr/>
          <p:nvPr/>
        </p:nvPicPr>
        <p:blipFill>
          <a:blip r:embed="rId4"/>
          <a:stretch/>
        </p:blipFill>
        <p:spPr>
          <a:xfrm>
            <a:off x="2743200" y="3846600"/>
            <a:ext cx="1378080" cy="1644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C:\Documents and Settings\xxx\Рабочий стол\скрипка\бетховен.jpg"/>
          <p:cNvPicPr/>
          <p:nvPr/>
        </p:nvPicPr>
        <p:blipFill>
          <a:blip r:embed="rId5"/>
          <a:stretch/>
        </p:blipFill>
        <p:spPr>
          <a:xfrm>
            <a:off x="1143000" y="3846600"/>
            <a:ext cx="1284120" cy="1657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C:\Documents and Settings\xxx\Рабочий стол\скрипка\mozart_08172006194550.jpg"/>
          <p:cNvPicPr/>
          <p:nvPr/>
        </p:nvPicPr>
        <p:blipFill>
          <a:blip r:embed="rId6"/>
          <a:stretch/>
        </p:blipFill>
        <p:spPr>
          <a:xfrm>
            <a:off x="4419720" y="1676520"/>
            <a:ext cx="1047600" cy="1673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C:\Documents and Settings\xxx\Рабочий стол\скрипка\чайковский.jpg"/>
          <p:cNvPicPr/>
          <p:nvPr/>
        </p:nvPicPr>
        <p:blipFill>
          <a:blip r:embed="rId7"/>
          <a:stretch/>
        </p:blipFill>
        <p:spPr>
          <a:xfrm>
            <a:off x="4495680" y="3814920"/>
            <a:ext cx="1057320" cy="1639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C:\Documents and Settings\xxx\Рабочий стол\скрипка\Shostakovich.jpg"/>
          <p:cNvPicPr/>
          <p:nvPr/>
        </p:nvPicPr>
        <p:blipFill>
          <a:blip r:embed="rId8"/>
          <a:stretch/>
        </p:blipFill>
        <p:spPr>
          <a:xfrm>
            <a:off x="6095880" y="3814920"/>
            <a:ext cx="1298520" cy="16524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1"/>
          <p:cNvSpPr/>
          <p:nvPr/>
        </p:nvSpPr>
        <p:spPr>
          <a:xfrm>
            <a:off x="1127160" y="3338640"/>
            <a:ext cx="131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Times New Roman"/>
                <a:ea typeface="Arial"/>
              </a:rPr>
              <a:t>Бах И. С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2438280" y="3352680"/>
            <a:ext cx="19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Times New Roman"/>
                <a:ea typeface="Arial"/>
              </a:rPr>
              <a:t>Гендель Г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4191120" y="3352680"/>
            <a:ext cx="156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Times New Roman"/>
                <a:ea typeface="Arial"/>
              </a:rPr>
              <a:t>Моцарт В. А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6004080" y="3338640"/>
            <a:ext cx="13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Times New Roman"/>
                <a:ea typeface="Arial"/>
              </a:rPr>
              <a:t>Гайдн 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16"/>
          <p:cNvSpPr/>
          <p:nvPr/>
        </p:nvSpPr>
        <p:spPr>
          <a:xfrm>
            <a:off x="1180800" y="5624640"/>
            <a:ext cx="127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Times New Roman"/>
                <a:ea typeface="Arial"/>
              </a:rPr>
              <a:t>Бетховен 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2651040" y="5624640"/>
            <a:ext cx="16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Times New Roman"/>
                <a:ea typeface="Arial"/>
              </a:rPr>
              <a:t>Вивальди А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4114800" y="562464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Times New Roman"/>
                <a:ea typeface="Arial"/>
              </a:rPr>
              <a:t>Чайковский П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6044040" y="5624640"/>
            <a:ext cx="164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Times New Roman"/>
                <a:ea typeface="Arial"/>
              </a:rPr>
              <a:t>Шостакович Д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676520" y="533520"/>
            <a:ext cx="52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  <a:ea typeface="Arial"/>
              </a:rPr>
              <a:t>Великие скрипач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12" descr="C:\Documents and Settings\xxx\Рабочий стол\скрипка\перлман_ицхак.jpg"/>
          <p:cNvPicPr/>
          <p:nvPr/>
        </p:nvPicPr>
        <p:blipFill>
          <a:blip r:embed="rId1"/>
          <a:stretch/>
        </p:blipFill>
        <p:spPr>
          <a:xfrm>
            <a:off x="1828800" y="1295280"/>
            <a:ext cx="1238400" cy="1774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3" descr="C:\Documents and Settings\xxx\Рабочий стол\скрипка\иегуди_менухин.jpg"/>
          <p:cNvPicPr/>
          <p:nvPr/>
        </p:nvPicPr>
        <p:blipFill>
          <a:blip r:embed="rId2"/>
          <a:stretch/>
        </p:blipFill>
        <p:spPr>
          <a:xfrm>
            <a:off x="4038480" y="1295280"/>
            <a:ext cx="2360880" cy="17956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C:\Documents and Settings\xxx\Рабочий стол\скрипка\kogan_leonid_.jpg"/>
          <p:cNvPicPr/>
          <p:nvPr/>
        </p:nvPicPr>
        <p:blipFill>
          <a:blip r:embed="rId3"/>
          <a:stretch/>
        </p:blipFill>
        <p:spPr>
          <a:xfrm>
            <a:off x="1523880" y="3846600"/>
            <a:ext cx="1451160" cy="1770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5" descr="C:\Documents and Settings\xxx\Рабочий стол\скрипка\спиваков_владимир.jpg"/>
          <p:cNvPicPr/>
          <p:nvPr/>
        </p:nvPicPr>
        <p:blipFill>
          <a:blip r:embed="rId4"/>
          <a:stretch/>
        </p:blipFill>
        <p:spPr>
          <a:xfrm>
            <a:off x="5410080" y="3846600"/>
            <a:ext cx="1274760" cy="1792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6" descr="C:\Documents and Settings\xxx\Рабочий стол\скрипка\давид_ойстрах.jpg"/>
          <p:cNvPicPr/>
          <p:nvPr/>
        </p:nvPicPr>
        <p:blipFill>
          <a:blip r:embed="rId5"/>
          <a:stretch/>
        </p:blipFill>
        <p:spPr>
          <a:xfrm>
            <a:off x="3581280" y="3846600"/>
            <a:ext cx="1346400" cy="17953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7"/>
          <p:cNvSpPr/>
          <p:nvPr/>
        </p:nvSpPr>
        <p:spPr>
          <a:xfrm>
            <a:off x="1660680" y="3211560"/>
            <a:ext cx="146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66"/>
                </a:solidFill>
                <a:latin typeface="Times New Roman"/>
                <a:ea typeface="Arial"/>
              </a:rPr>
              <a:t>Перлман 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18"/>
          <p:cNvSpPr/>
          <p:nvPr/>
        </p:nvSpPr>
        <p:spPr>
          <a:xfrm>
            <a:off x="4175280" y="3186000"/>
            <a:ext cx="207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Times New Roman"/>
                <a:ea typeface="Arial"/>
              </a:rPr>
              <a:t>Менухин 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19"/>
          <p:cNvSpPr/>
          <p:nvPr/>
        </p:nvSpPr>
        <p:spPr>
          <a:xfrm>
            <a:off x="1508040" y="5776920"/>
            <a:ext cx="15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Times New Roman"/>
                <a:ea typeface="Arial"/>
              </a:rPr>
              <a:t>Коган Л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20"/>
          <p:cNvSpPr/>
          <p:nvPr/>
        </p:nvSpPr>
        <p:spPr>
          <a:xfrm>
            <a:off x="3565440" y="5776920"/>
            <a:ext cx="13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Times New Roman"/>
                <a:ea typeface="Arial"/>
              </a:rPr>
              <a:t>Ойстрах Д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21"/>
          <p:cNvSpPr/>
          <p:nvPr/>
        </p:nvSpPr>
        <p:spPr>
          <a:xfrm>
            <a:off x="5432040" y="5776920"/>
            <a:ext cx="13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Times New Roman"/>
                <a:ea typeface="Arial"/>
              </a:rPr>
              <a:t>Спиваков 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C:\Documents and Settings\xxx\Рабочий стол\скрипка\0_74e26_c44b234b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3"/>
          <p:cNvSpPr/>
          <p:nvPr/>
        </p:nvSpPr>
        <p:spPr>
          <a:xfrm>
            <a:off x="2133720" y="14112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Библиограф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508040" y="2174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1066680" y="2322360"/>
            <a:ext cx="617220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1. От хорала до симфонии/ Анисимова Н. “Московские учебники” – М.: 200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2. Музыкальная энциклопедия. Том 4. “Советская энциклопедия”, “Советский композитор” – М.: 197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3. Энциклопедия для детей. Том 7. “Искусство” Ч.3. “Музыка. Театр. Кино” - М.: Аванта+, 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4. Концерт для оркестра/ Великович Э. “Детская литература” – Л.: 198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5 .Музыкальная энциклопедия. Том 4. “Советская энциклопедия”, “Советский композитор” – М.: 197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6 .Энциклопедия для детей. Том 7. “Искусство” Ч.3. “Музыка. Театр. Кино” - М.: Аванта+, 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7. Концерт для оркестра/ Великович Э. “Детская литература” – Л.: 198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8. Мультимедийная детская энциклопеди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NCYCLOPEDI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Britannica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200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C:\Documents and Settings\xxx\Рабочий стол\скрипка\0_74e26_c44b234b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2333520" y="990720"/>
            <a:ext cx="387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Учебный проек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143000" y="2174760"/>
            <a:ext cx="668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Цель рабо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- изучить историю появ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и развития музыкального инструмента - скрип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1468080" y="3546360"/>
            <a:ext cx="564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Гипотеза рабо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- мы предполагаем, ч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скрипка имеет древнее происхожд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1"/>
          <p:cNvPicPr/>
          <p:nvPr/>
        </p:nvPicPr>
        <p:blipFill>
          <a:blip r:embed="rId2"/>
          <a:stretch/>
        </p:blipFill>
        <p:spPr>
          <a:xfrm>
            <a:off x="2627280" y="1341360"/>
            <a:ext cx="4456080" cy="3343320"/>
          </a:xfrm>
          <a:prstGeom prst="rect">
            <a:avLst/>
          </a:prstGeom>
          <a:ln w="0">
            <a:noFill/>
          </a:ln>
        </p:spPr>
      </p:pic>
      <p:pic>
        <p:nvPicPr>
          <p:cNvPr id="52" name="Secret Garden - Очень красивая музыка  (audiopoisk.com).mp3" descr=""/>
          <p:cNvPicPr/>
          <p:nvPr/>
        </p:nvPicPr>
        <p:blipFill>
          <a:blip r:embed="rId3"/>
          <a:stretch/>
        </p:blipFill>
        <p:spPr>
          <a:xfrm>
            <a:off x="1692360" y="5518080"/>
            <a:ext cx="231840" cy="2318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2743200" y="41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Calibri"/>
                <a:ea typeface="Arial"/>
              </a:rPr>
              <a:t>«</a:t>
            </a:r>
            <a:r>
              <a:rPr b="1" lang="ru-RU" sz="2400" spc="-1" strike="noStrike">
                <a:solidFill>
                  <a:srgbClr val="ffff66"/>
                </a:solidFill>
                <a:latin typeface="Times New Roman"/>
                <a:ea typeface="Arial"/>
              </a:rPr>
              <a:t>Королева оркестра</a:t>
            </a:r>
            <a:r>
              <a:rPr b="1" lang="ru-RU" sz="2400" spc="-1" strike="noStrike">
                <a:solidFill>
                  <a:srgbClr val="ffff66"/>
                </a:solidFill>
                <a:latin typeface="Calibri"/>
                <a:ea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mendelssohn-vconcerto-01.mp3" descr=""/>
          <p:cNvPicPr/>
          <p:nvPr/>
        </p:nvPicPr>
        <p:blipFill>
          <a:blip r:embed="rId4"/>
          <a:stretch/>
        </p:blipFill>
        <p:spPr>
          <a:xfrm>
            <a:off x="8172360" y="479736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xxx\Рабочий стол\скрипка\0_74e26_c44b234b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2041560" y="990720"/>
            <a:ext cx="458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Виола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«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да гамба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C:\Documents and Settings\xxx\Рабочий стол\скрипка\RussellWagner.jpg"/>
          <p:cNvPicPr/>
          <p:nvPr/>
        </p:nvPicPr>
        <p:blipFill>
          <a:blip r:embed="rId2"/>
          <a:stretch/>
        </p:blipFill>
        <p:spPr>
          <a:xfrm>
            <a:off x="1981080" y="2209680"/>
            <a:ext cx="2936880" cy="36705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"/>
          <p:cNvSpPr/>
          <p:nvPr/>
        </p:nvSpPr>
        <p:spPr>
          <a:xfrm>
            <a:off x="5326920" y="2398680"/>
            <a:ext cx="2318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иолино” (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violino)  -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ак звучит слов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крипка 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тальянском язык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Viola da Gamba_solo_128.MP3" descr=""/>
          <p:cNvPicPr/>
          <p:nvPr/>
        </p:nvPicPr>
        <p:blipFill>
          <a:blip r:embed="rId3"/>
          <a:stretch/>
        </p:blipFill>
        <p:spPr>
          <a:xfrm>
            <a:off x="6181560" y="422100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Documents and Settings\xxx\Рабочий стол\скрипка\0_74e26_c44b234b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1371600" y="138276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иола и скрипка во многом похожи друг на дру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C:\Documents and Settings\xxx\Рабочий стол\скрипка\viols.gif"/>
          <p:cNvPicPr/>
          <p:nvPr/>
        </p:nvPicPr>
        <p:blipFill>
          <a:blip r:embed="rId2"/>
          <a:stretch/>
        </p:blipFill>
        <p:spPr>
          <a:xfrm>
            <a:off x="1371600" y="2362320"/>
            <a:ext cx="2644920" cy="34495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4495680" y="2362320"/>
            <a:ext cx="32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Обе с высокой шей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кой и тали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лечи виолы покаты, струн семь, есть ла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Documents and Settings\xxx\Рабочий стол\скрипка\0_74e26_c44b234b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1660680" y="1219320"/>
            <a:ext cx="557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Отличие скрипки от виол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C:\Documents and Settings\xxx\Рабочий стол\скрипка\violin-parts.jpg"/>
          <p:cNvPicPr/>
          <p:nvPr/>
        </p:nvPicPr>
        <p:blipFill>
          <a:blip r:embed="rId2"/>
          <a:stretch/>
        </p:blipFill>
        <p:spPr>
          <a:xfrm>
            <a:off x="1752480" y="2133720"/>
            <a:ext cx="2627280" cy="35654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4952880" y="2602080"/>
            <a:ext cx="3505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У скрипки нет ладов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струн только четыр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подняты они гораздо выш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чем у виол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Documents and Settings\xxx\Рабочий стол\скрипка\0_74e26_c44b234b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1600200" y="11430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Фидел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- прадед виолы и скрип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7" descr="C:\Documents and Settings\xxx\Рабочий стол\скрипка\14486_s.JPG"/>
          <p:cNvPicPr/>
          <p:nvPr/>
        </p:nvPicPr>
        <p:blipFill>
          <a:blip r:embed="rId2"/>
          <a:stretch/>
        </p:blipFill>
        <p:spPr>
          <a:xfrm>
            <a:off x="3048120" y="1905120"/>
            <a:ext cx="287496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Documents and Settings\xxx\Рабочий стол\скрипка\0_74e26_c44b234b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1735560" y="125892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Фидле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465360" y="148752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Жонгле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5477400" y="163980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Менестре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7" descr="C:\Documents and Settings\xxx\Рабочий стол\скрипка\minnesinger.jpg"/>
          <p:cNvPicPr/>
          <p:nvPr/>
        </p:nvPicPr>
        <p:blipFill>
          <a:blip r:embed="rId2"/>
          <a:stretch/>
        </p:blipFill>
        <p:spPr>
          <a:xfrm>
            <a:off x="1981080" y="2362320"/>
            <a:ext cx="50166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20:01:29Z</dcterms:created>
  <dc:creator>Катенок</dc:creator>
  <dc:description/>
  <dc:language>en-US</dc:language>
  <cp:lastModifiedBy>ирина волкова</cp:lastModifiedBy>
  <dcterms:modified xsi:type="dcterms:W3CDTF">2014-11-08T14:34:58Z</dcterms:modified>
  <cp:revision>43</cp:revision>
  <dc:subject/>
  <dc:title>Презентация PowerPoint</dc:title>
</cp:coreProperties>
</file>