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B9C-B08E-46D3-85F4-61E14C7E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481-168A-456A-A8ED-6AD5B8CD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391-99BB-4917-A2B3-B458BECB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48D-D6D5-4897-9B1A-9094C6E5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B1B1-E767-4BC4-8977-BD4993F9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C4B8-047B-4897-97F1-A1644188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D698-E751-409A-B971-79155AD4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604B-FD0C-4BD1-A09E-D0381F69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8148-2D6F-417C-88B3-070C1BA4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2561-FDEB-4406-A834-9877980A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4DBD-53C4-4A14-BBE3-B781A9C8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152-1A1C-40A1-9742-9A104550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CA51-6423-4298-9ECC-5DFF6832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82A6-927E-4422-806C-EE86CE9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CA7C-6D79-46E9-9E0A-F7AE2176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3F24-197D-4D18-BCBB-0DCFE6FC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A9C0-28A3-4CAA-AA99-519AC636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18139-8134-4608-80FE-F8DEF8AC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4933-2623-4B7F-BEEE-BFA9E439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57BA-F248-4B9A-A248-A2D68D6A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781B2-5DA6-47A3-8B8D-CF195EAA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E6E8-C6C2-42FB-B62A-AC2BBD0E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B13-131A-4255-B1D9-279F7CC3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E406F-D0DC-45E1-B28E-97F71660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836EF-FC64-4835-8914-87F995C1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38DCF-1954-4C8E-B4D1-2E3EA482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7BF1-3394-4905-A6BA-93874562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EB428-8D03-4AE4-A80D-2B8A4EA4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FB5C-848D-466D-8580-2374BA90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97A6-4AB4-4D35-81DA-ADFEA922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3DD-D316-4758-93D1-93BBEA14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E2E-F8B9-4CFD-9C3F-19169AD7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D82-68B2-4E4F-BF5A-E8929AF0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C35-68B9-4BF8-BA3B-CB92474A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16B-F6C3-4874-9025-30844C07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2A2-FE23-4A05-83FA-0224496D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3303-9CF8-4C40-B91B-3E28C4BC2BB1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6507-E741-498B-BD29-553C510A7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A613-23C8-4DD7-8FD4-AA8DF97A929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755640" y="2637000"/>
            <a:ext cx="80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ПОРЯДКОВОЕ 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СЛИТЕЛЬНОЕ»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332000" y="836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рок русского языка           в 6 клас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971640" y="355680"/>
          <a:ext cx="8172360" cy="6027480"/>
        </p:xfrm>
        <a:graphic>
          <a:graphicData uri="http://schemas.openxmlformats.org/drawingml/2006/table">
            <a:tbl>
              <a:tblPr/>
              <a:tblGrid>
                <a:gridCol w="1676160"/>
                <a:gridCol w="328680"/>
                <a:gridCol w="1766880"/>
                <a:gridCol w="316080"/>
                <a:gridCol w="1673280"/>
                <a:gridCol w="371520"/>
                <a:gridCol w="20397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Поряд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редметов, отвлеч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рядковый номер предметов при сч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 предм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Который? (какой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? Кака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ется п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деж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971640" y="355680"/>
          <a:ext cx="8172360" cy="6080040"/>
        </p:xfrm>
        <a:graphic>
          <a:graphicData uri="http://schemas.openxmlformats.org/drawingml/2006/table">
            <a:tbl>
              <a:tblPr/>
              <a:tblGrid>
                <a:gridCol w="1676160"/>
                <a:gridCol w="328680"/>
                <a:gridCol w="1766880"/>
                <a:gridCol w="316080"/>
                <a:gridCol w="1673280"/>
                <a:gridCol w="371520"/>
                <a:gridCol w="20397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Поряд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редметов, отвлеч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рядковый номер предметов при сч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 предм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Который? (какой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? Кака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ется п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деж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891600" y="1677240"/>
            <a:ext cx="50090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 горами, за лес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широкими морям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на небе -  на зем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л старик в одном се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старинушки три сы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рший умный был дети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едний сын и так и сяк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ладший вовсе был дура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ershov5_6.jpg"/>
          <p:cNvPicPr/>
          <p:nvPr/>
        </p:nvPicPr>
        <p:blipFill>
          <a:blip r:embed="rId1"/>
          <a:stretch/>
        </p:blipFill>
        <p:spPr>
          <a:xfrm>
            <a:off x="971640" y="260280"/>
            <a:ext cx="34542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ershov5_32.jpg"/>
          <p:cNvPicPr/>
          <p:nvPr/>
        </p:nvPicPr>
        <p:blipFill>
          <a:blip r:embed="rId1"/>
          <a:stretch/>
        </p:blipFill>
        <p:spPr>
          <a:xfrm>
            <a:off x="4643280" y="3357720"/>
            <a:ext cx="4238640" cy="3352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Портрет - Ершов Петр Павлович"/>
          <p:cNvPicPr/>
          <p:nvPr/>
        </p:nvPicPr>
        <p:blipFill>
          <a:blip r:embed="rId2"/>
          <a:stretch/>
        </p:blipFill>
        <p:spPr>
          <a:xfrm>
            <a:off x="1187280" y="404640"/>
            <a:ext cx="3456000" cy="3853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2574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722840" y="1828800"/>
            <a:ext cx="37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Конёк -  Горбунок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185840" y="4723560"/>
            <a:ext cx="29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етр Павлови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Ерш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971640" y="355680"/>
          <a:ext cx="8172360" cy="6080040"/>
        </p:xfrm>
        <a:graphic>
          <a:graphicData uri="http://schemas.openxmlformats.org/drawingml/2006/table">
            <a:tbl>
              <a:tblPr/>
              <a:tblGrid>
                <a:gridCol w="1676160"/>
                <a:gridCol w="328680"/>
                <a:gridCol w="1766880"/>
                <a:gridCol w="316080"/>
                <a:gridCol w="1673280"/>
                <a:gridCol w="371520"/>
                <a:gridCol w="20397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Поряд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редметов, отвлеч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рядковый номер предметов при сч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 предм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Который? (какой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? Кака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ется п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деж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1397520" y="3645360"/>
            <a:ext cx="496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ло в третий раз смеркатьс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о младшему сбир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и усом не вед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печи в углу по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 всей дурацкой моч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Распрекрасные вы очи!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2987640" y="333360"/>
            <a:ext cx="5545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971640" y="355680"/>
          <a:ext cx="8172360" cy="6080040"/>
        </p:xfrm>
        <a:graphic>
          <a:graphicData uri="http://schemas.openxmlformats.org/drawingml/2006/table">
            <a:tbl>
              <a:tblPr/>
              <a:tblGrid>
                <a:gridCol w="1676160"/>
                <a:gridCol w="328680"/>
                <a:gridCol w="1766880"/>
                <a:gridCol w="316080"/>
                <a:gridCol w="1673280"/>
                <a:gridCol w="371520"/>
                <a:gridCol w="20397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Поряд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редметов, отвлеч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рядковый номер предметов при сч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 предм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Который? (какой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? Кака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ется п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деж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971640" y="355680"/>
          <a:ext cx="8172360" cy="6080040"/>
        </p:xfrm>
        <a:graphic>
          <a:graphicData uri="http://schemas.openxmlformats.org/drawingml/2006/table">
            <a:tbl>
              <a:tblPr/>
              <a:tblGrid>
                <a:gridCol w="1676160"/>
                <a:gridCol w="328680"/>
                <a:gridCol w="1766880"/>
                <a:gridCol w="316080"/>
                <a:gridCol w="1673280"/>
                <a:gridCol w="371520"/>
                <a:gridCol w="20397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Поряд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редметов, отвлеч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рядковый номер предметов при сч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 предм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Который? (какой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? Кака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ется п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деж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Портрет - Ершов Петр Павлович"/>
          <p:cNvPicPr/>
          <p:nvPr/>
        </p:nvPicPr>
        <p:blipFill>
          <a:blip r:embed="rId1"/>
          <a:stretch/>
        </p:blipFill>
        <p:spPr>
          <a:xfrm>
            <a:off x="2916360" y="333360"/>
            <a:ext cx="3554280" cy="39625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2574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68360" y="44370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ench Script MT"/>
              </a:rPr>
              <a:t>Петр   Павлович  Ершов  родил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French Script MT"/>
              </a:rPr>
              <a:t>двадцать   второго    феврал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ench Script MT"/>
              </a:rPr>
              <a:t>тысяча   восемьсот     пятнадцатого   года.</a:t>
            </a:r>
            <a:r>
              <a:rPr b="0" i="1" lang="ru-RU" sz="1800" spc="-1" strike="noStrike">
                <a:solidFill>
                  <a:srgbClr val="000000"/>
                </a:solidFill>
                <a:latin typeface="French Script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8529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ench Script MT"/>
              </a:rPr>
              <a:t>Двадцать втор</a:t>
            </a:r>
            <a:r>
              <a:rPr b="0" i="1" lang="ru-RU" sz="4000" spc="-1" strike="noStrike">
                <a:solidFill>
                  <a:srgbClr val="cc0066"/>
                </a:solidFill>
                <a:latin typeface="French Script MT"/>
              </a:rPr>
              <a:t>ого</a:t>
            </a:r>
            <a:r>
              <a:rPr b="0" i="1" lang="ru-RU" sz="4000" spc="-1" strike="noStrike">
                <a:solidFill>
                  <a:srgbClr val="000000"/>
                </a:solidFill>
                <a:latin typeface="French Script MT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ench Script MT"/>
              </a:rPr>
              <a:t>                        </a:t>
            </a:r>
            <a:r>
              <a:rPr b="0" i="1" lang="ru-RU" sz="4000" spc="-1" strike="noStrike">
                <a:solidFill>
                  <a:srgbClr val="000000"/>
                </a:solidFill>
                <a:latin typeface="French Script MT"/>
              </a:rPr>
              <a:t>двадцать втор</a:t>
            </a:r>
            <a:r>
              <a:rPr b="0" i="1" lang="ru-RU" sz="4000" spc="-1" strike="noStrike">
                <a:solidFill>
                  <a:srgbClr val="cc0066"/>
                </a:solidFill>
                <a:latin typeface="French Script MT"/>
              </a:rPr>
              <a:t>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French Script MT"/>
              </a:rPr>
              <a:t>Тысяча восемьсот пятнадцат</a:t>
            </a:r>
            <a:r>
              <a:rPr b="0" i="1" lang="ru-RU" sz="4000" spc="-1" strike="noStrike">
                <a:solidFill>
                  <a:srgbClr val="cc0066"/>
                </a:solidFill>
                <a:latin typeface="French Script MT"/>
              </a:rPr>
              <a:t>ого</a:t>
            </a:r>
            <a:r>
              <a:rPr b="0" i="1" lang="ru-RU" sz="4000" spc="-1" strike="noStrike">
                <a:solidFill>
                  <a:srgbClr val="000000"/>
                </a:solidFill>
                <a:latin typeface="French Script MT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ench Script MT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French Script MT"/>
              </a:rPr>
              <a:t>тысяча восемьсот пятнадцат</a:t>
            </a:r>
            <a:r>
              <a:rPr b="0" i="1" lang="ru-RU" sz="4000" spc="-1" strike="noStrike">
                <a:solidFill>
                  <a:srgbClr val="cc0066"/>
                </a:solidFill>
                <a:latin typeface="French Script MT"/>
              </a:rPr>
              <a:t>ый</a:t>
            </a:r>
            <a:r>
              <a:rPr b="0" lang="ru-RU" sz="40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0" y="2232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2124000" y="1268280"/>
            <a:ext cx="5334120" cy="16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>
                    <a:alpha val="96000"/>
                  </a:srgbClr>
                </a:solidFill>
                <a:latin typeface="Arial"/>
              </a:rPr>
              <a:t>ЧИСЛИТЕЛЬНО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>
                  <a:alpha val="96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>
                  <a:alpha val="96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3716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915120" y="42721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КОЛЬК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685800" y="0"/>
            <a:ext cx="8458200" cy="1905120"/>
          </a:xfrm>
          <a:custGeom>
            <a:avLst/>
            <a:gdLst>
              <a:gd name="textAreaLeft" fmla="*/ 2114640 w 8458200"/>
              <a:gd name="textAreaRight" fmla="*/ 6343920 w 8458200"/>
              <a:gd name="textAreaTop" fmla="*/ 476280 h 1905120"/>
              <a:gd name="textAreaBottom" fmla="*/ 18489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2700360" y="620640"/>
            <a:ext cx="4133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8000"/>
                  </a:srgbClr>
                </a:solidFill>
                <a:latin typeface="Arial"/>
              </a:rPr>
              <a:t>ПОРЯДКОВО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8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8000"/>
                  </a:srgbClr>
                </a:solidFill>
                <a:latin typeface="Arial"/>
              </a:rPr>
              <a:t>ЧИСЛИТЕЛЬНО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8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971800" y="198108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ЭЛЕКТРОННЫЙ АДРЕ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260000" y="19890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700360" y="350028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КАКОЙ ВОПРОС ОТВЕЧ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rm"/>
          <p:cNvSpPr/>
          <p:nvPr/>
        </p:nvSpPr>
        <p:spPr>
          <a:xfrm>
            <a:off x="1042920" y="270828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orm"/>
          <p:cNvSpPr/>
          <p:nvPr/>
        </p:nvSpPr>
        <p:spPr>
          <a:xfrm>
            <a:off x="2843280" y="44370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rm"/>
          <p:cNvSpPr/>
          <p:nvPr/>
        </p:nvSpPr>
        <p:spPr>
          <a:xfrm>
            <a:off x="5148360" y="44370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rm"/>
          <p:cNvSpPr/>
          <p:nvPr/>
        </p:nvSpPr>
        <p:spPr>
          <a:xfrm>
            <a:off x="6781680" y="27432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5220000" y="393372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6629400" y="182880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М ЯВЛЯ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ПРЕДЛОЖ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rm"/>
          <p:cNvSpPr/>
          <p:nvPr/>
        </p:nvSpPr>
        <p:spPr>
          <a:xfrm>
            <a:off x="4140360" y="2060640"/>
            <a:ext cx="1520640" cy="1655640"/>
          </a:xfrm>
          <a:custGeom>
            <a:avLst/>
            <a:gdLst>
              <a:gd name="textAreaLeft" fmla="*/ 333720 w 1520640"/>
              <a:gd name="textAreaRight" fmla="*/ 1366560 w 1520640"/>
              <a:gd name="textAreaTop" fmla="*/ 100080 h 1655640"/>
              <a:gd name="textAreaBottom" fmla="*/ 1251720 h 16556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2"/>
          <p:cNvSpPr/>
          <p:nvPr/>
        </p:nvSpPr>
        <p:spPr>
          <a:xfrm>
            <a:off x="685800" y="0"/>
            <a:ext cx="8458200" cy="1905120"/>
          </a:xfrm>
          <a:custGeom>
            <a:avLst/>
            <a:gdLst>
              <a:gd name="textAreaLeft" fmla="*/ 2114640 w 8458200"/>
              <a:gd name="textAreaRight" fmla="*/ 6343920 w 8458200"/>
              <a:gd name="textAreaTop" fmla="*/ 476280 h 1905120"/>
              <a:gd name="textAreaBottom" fmla="*/ 18489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2700360" y="620640"/>
            <a:ext cx="4133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8000"/>
                  </a:srgbClr>
                </a:solidFill>
                <a:latin typeface="Arial"/>
              </a:rPr>
              <a:t>ПОРЯДКОВО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8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8000"/>
                  </a:srgbClr>
                </a:solidFill>
                <a:latin typeface="Arial"/>
              </a:rPr>
              <a:t>ЧИСЛИТЕЛЬНО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8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971800" y="198108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ЭЛЕКТРОННЫЙ АДРЕ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260000" y="19890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059280" y="357336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КАКОЙ ВОПРОС ОТВЕЧ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rm"/>
          <p:cNvSpPr/>
          <p:nvPr/>
        </p:nvSpPr>
        <p:spPr>
          <a:xfrm>
            <a:off x="826920" y="2708280"/>
            <a:ext cx="2305080" cy="2665440"/>
          </a:xfrm>
          <a:prstGeom prst="pi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ЗЫВАЕТ ПОРЯДК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Й НОМЕР ПРИ СЧ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rm"/>
          <p:cNvSpPr/>
          <p:nvPr/>
        </p:nvSpPr>
        <p:spPr>
          <a:xfrm>
            <a:off x="2843280" y="44370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rm"/>
          <p:cNvSpPr/>
          <p:nvPr/>
        </p:nvSpPr>
        <p:spPr>
          <a:xfrm>
            <a:off x="5148360" y="44370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rm"/>
          <p:cNvSpPr/>
          <p:nvPr/>
        </p:nvSpPr>
        <p:spPr>
          <a:xfrm>
            <a:off x="6781680" y="27432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5220000" y="393372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6629400" y="182880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М ЯВЛЯ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ПРЕДЛОЖ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rm"/>
          <p:cNvSpPr/>
          <p:nvPr/>
        </p:nvSpPr>
        <p:spPr>
          <a:xfrm>
            <a:off x="4427640" y="1773360"/>
            <a:ext cx="1520640" cy="1655640"/>
          </a:xfrm>
          <a:custGeom>
            <a:avLst/>
            <a:gdLst>
              <a:gd name="textAreaLeft" fmla="*/ 333720 w 1520640"/>
              <a:gd name="textAreaRight" fmla="*/ 1366560 w 1520640"/>
              <a:gd name="textAreaTop" fmla="*/ 100080 h 1655640"/>
              <a:gd name="textAreaBottom" fmla="*/ 1251720 h 16556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685800" y="0"/>
            <a:ext cx="8458200" cy="1905120"/>
          </a:xfrm>
          <a:custGeom>
            <a:avLst/>
            <a:gdLst>
              <a:gd name="textAreaLeft" fmla="*/ 2114640 w 8458200"/>
              <a:gd name="textAreaRight" fmla="*/ 6343920 w 8458200"/>
              <a:gd name="textAreaTop" fmla="*/ 476280 h 1905120"/>
              <a:gd name="textAreaBottom" fmla="*/ 18489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WordArt 3"/>
          <p:cNvSpPr txBox="1"/>
          <p:nvPr/>
        </p:nvSpPr>
        <p:spPr>
          <a:xfrm>
            <a:off x="2700360" y="620640"/>
            <a:ext cx="4133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8000"/>
                  </a:srgbClr>
                </a:solidFill>
                <a:latin typeface="Arial"/>
              </a:rPr>
              <a:t>ПОРЯДКОВО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8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8000"/>
                  </a:srgbClr>
                </a:solidFill>
                <a:latin typeface="Arial"/>
              </a:rPr>
              <a:t>ЧИСЛИТЕЛЬНО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8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2971800" y="198108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ЭЛЕКТРОННЫЙ АДРЕ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260000" y="19890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059280" y="350028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КАКОЙ ВОПРОС ОТВЕЧ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rm"/>
          <p:cNvSpPr/>
          <p:nvPr/>
        </p:nvSpPr>
        <p:spPr>
          <a:xfrm>
            <a:off x="826920" y="2708280"/>
            <a:ext cx="2305080" cy="2665440"/>
          </a:xfrm>
          <a:prstGeom prst="pi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ЗЫВАЕТ ПОРЯДК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Й НОМЕР ПРИ СЧ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rm"/>
          <p:cNvSpPr/>
          <p:nvPr/>
        </p:nvSpPr>
        <p:spPr>
          <a:xfrm>
            <a:off x="2987640" y="4437000"/>
            <a:ext cx="2089080" cy="2421000"/>
          </a:xfrm>
          <a:prstGeom prst="pi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ТОРЫ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АКОЙ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rm"/>
          <p:cNvSpPr/>
          <p:nvPr/>
        </p:nvSpPr>
        <p:spPr>
          <a:xfrm>
            <a:off x="5364000" y="4437000"/>
            <a:ext cx="1810080" cy="2219400"/>
          </a:xfrm>
          <a:custGeom>
            <a:avLst/>
            <a:gdLst>
              <a:gd name="textAreaLeft" fmla="*/ 397080 w 1810080"/>
              <a:gd name="textAreaRight" fmla="*/ 1626840 w 181008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orm"/>
          <p:cNvSpPr/>
          <p:nvPr/>
        </p:nvSpPr>
        <p:spPr>
          <a:xfrm>
            <a:off x="6781680" y="27432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5220000" y="393372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6629400" y="182880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М ЯВЛЯ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ПРЕДЛОЖ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rm"/>
          <p:cNvSpPr/>
          <p:nvPr/>
        </p:nvSpPr>
        <p:spPr>
          <a:xfrm>
            <a:off x="4211640" y="1844640"/>
            <a:ext cx="1521000" cy="1655640"/>
          </a:xfrm>
          <a:custGeom>
            <a:avLst/>
            <a:gdLst>
              <a:gd name="textAreaLeft" fmla="*/ 333720 w 1521000"/>
              <a:gd name="textAreaRight" fmla="*/ 1366920 w 1521000"/>
              <a:gd name="textAreaTop" fmla="*/ 100080 h 1655640"/>
              <a:gd name="textAreaBottom" fmla="*/ 1251720 h 16556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685800" y="0"/>
            <a:ext cx="8458200" cy="1905120"/>
          </a:xfrm>
          <a:custGeom>
            <a:avLst/>
            <a:gdLst>
              <a:gd name="textAreaLeft" fmla="*/ 2114640 w 8458200"/>
              <a:gd name="textAreaRight" fmla="*/ 6343920 w 8458200"/>
              <a:gd name="textAreaTop" fmla="*/ 476280 h 1905120"/>
              <a:gd name="textAreaBottom" fmla="*/ 18489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WordArt 3"/>
          <p:cNvSpPr txBox="1"/>
          <p:nvPr/>
        </p:nvSpPr>
        <p:spPr>
          <a:xfrm>
            <a:off x="2700360" y="620640"/>
            <a:ext cx="4133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8000"/>
                  </a:srgbClr>
                </a:solidFill>
                <a:latin typeface="Arial"/>
              </a:rPr>
              <a:t>ПОРЯДКОВО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8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8000"/>
                  </a:srgbClr>
                </a:solidFill>
                <a:latin typeface="Arial"/>
              </a:rPr>
              <a:t>ЧИСЛИТЕЛЬНО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8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971800" y="198108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ЭЛЕКТРОННЫЙ АДРЕ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260000" y="19890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059280" y="350028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КАКОЙ ВОПРОС ОТВЕЧ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orm"/>
          <p:cNvSpPr/>
          <p:nvPr/>
        </p:nvSpPr>
        <p:spPr>
          <a:xfrm>
            <a:off x="826920" y="2708280"/>
            <a:ext cx="2305080" cy="2665440"/>
          </a:xfrm>
          <a:prstGeom prst="pi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ЗЫВАЕТ ПОРЯДК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Й НОМЕР ПРИ СЧ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orm"/>
          <p:cNvSpPr/>
          <p:nvPr/>
        </p:nvSpPr>
        <p:spPr>
          <a:xfrm>
            <a:off x="2987640" y="4437000"/>
            <a:ext cx="2089080" cy="2421000"/>
          </a:xfrm>
          <a:prstGeom prst="pi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ТОРЫ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АКОЙ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rm"/>
          <p:cNvSpPr/>
          <p:nvPr/>
        </p:nvSpPr>
        <p:spPr>
          <a:xfrm>
            <a:off x="5292720" y="4437000"/>
            <a:ext cx="1871640" cy="2421000"/>
          </a:xfrm>
          <a:prstGeom prst="pi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ЗМЕНЯЕ-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 РОДАМ, ЧИСЛАМ, ПАДЕЖ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orm"/>
          <p:cNvSpPr/>
          <p:nvPr/>
        </p:nvSpPr>
        <p:spPr>
          <a:xfrm>
            <a:off x="6781680" y="27432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5220000" y="393372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629400" y="182880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М ЯВЛЯ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ПРЕДЛОЖ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rm"/>
          <p:cNvSpPr/>
          <p:nvPr/>
        </p:nvSpPr>
        <p:spPr>
          <a:xfrm>
            <a:off x="4211640" y="1844640"/>
            <a:ext cx="1521000" cy="1655640"/>
          </a:xfrm>
          <a:custGeom>
            <a:avLst/>
            <a:gdLst>
              <a:gd name="textAreaLeft" fmla="*/ 333720 w 1521000"/>
              <a:gd name="textAreaRight" fmla="*/ 1366920 w 1521000"/>
              <a:gd name="textAreaTop" fmla="*/ 100080 h 1655640"/>
              <a:gd name="textAreaBottom" fmla="*/ 1251720 h 16556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/>
          <p:cNvSpPr/>
          <p:nvPr/>
        </p:nvSpPr>
        <p:spPr>
          <a:xfrm>
            <a:off x="685800" y="0"/>
            <a:ext cx="8458200" cy="1905120"/>
          </a:xfrm>
          <a:custGeom>
            <a:avLst/>
            <a:gdLst>
              <a:gd name="textAreaLeft" fmla="*/ 2114640 w 8458200"/>
              <a:gd name="textAreaRight" fmla="*/ 6343920 w 8458200"/>
              <a:gd name="textAreaTop" fmla="*/ 476280 h 1905120"/>
              <a:gd name="textAreaBottom" fmla="*/ 18489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WordArt 3"/>
          <p:cNvSpPr txBox="1"/>
          <p:nvPr/>
        </p:nvSpPr>
        <p:spPr>
          <a:xfrm>
            <a:off x="2700360" y="620640"/>
            <a:ext cx="4133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8000"/>
                  </a:srgbClr>
                </a:solidFill>
                <a:latin typeface="Arial"/>
              </a:rPr>
              <a:t>ПОРЯДКОВО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8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8000"/>
                  </a:srgbClr>
                </a:solidFill>
                <a:latin typeface="Arial"/>
              </a:rPr>
              <a:t>ЧИСЛИТЕЛЬНО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8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971800" y="198108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ЭЛЕКТРОННЫЙ АДРЕ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260000" y="19890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059280" y="350028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КАКОЙ ВОПРОС ОТВЕЧ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rm"/>
          <p:cNvSpPr/>
          <p:nvPr/>
        </p:nvSpPr>
        <p:spPr>
          <a:xfrm>
            <a:off x="826920" y="2708280"/>
            <a:ext cx="2305080" cy="2665440"/>
          </a:xfrm>
          <a:prstGeom prst="pi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ЗЫВАЕТ ПОРЯДК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Й НОМЕР ПРИ СЧ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orm"/>
          <p:cNvSpPr/>
          <p:nvPr/>
        </p:nvSpPr>
        <p:spPr>
          <a:xfrm>
            <a:off x="2987640" y="4437000"/>
            <a:ext cx="2089080" cy="2421000"/>
          </a:xfrm>
          <a:prstGeom prst="pi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ТОРЫ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АКОЙ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rm"/>
          <p:cNvSpPr/>
          <p:nvPr/>
        </p:nvSpPr>
        <p:spPr>
          <a:xfrm>
            <a:off x="5292720" y="4437000"/>
            <a:ext cx="1871640" cy="2421000"/>
          </a:xfrm>
          <a:prstGeom prst="pi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ЗМЕНЯЕ-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 РОДАМ, ЧИСЛАМ, ПАДЕЖ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orm"/>
          <p:cNvSpPr/>
          <p:nvPr/>
        </p:nvSpPr>
        <p:spPr>
          <a:xfrm>
            <a:off x="6877080" y="2637000"/>
            <a:ext cx="2266920" cy="2376360"/>
          </a:xfrm>
          <a:prstGeom prst="pi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-Л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5220000" y="393372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6629400" y="182880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М ЯВЛЯ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ПРЕДЛОЖ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orm"/>
          <p:cNvSpPr/>
          <p:nvPr/>
        </p:nvSpPr>
        <p:spPr>
          <a:xfrm>
            <a:off x="4211640" y="1844640"/>
            <a:ext cx="1521000" cy="1655640"/>
          </a:xfrm>
          <a:custGeom>
            <a:avLst/>
            <a:gdLst>
              <a:gd name="textAreaLeft" fmla="*/ 333720 w 1521000"/>
              <a:gd name="textAreaRight" fmla="*/ 1366920 w 1521000"/>
              <a:gd name="textAreaTop" fmla="*/ 100080 h 1655640"/>
              <a:gd name="textAreaBottom" fmla="*/ 1251720 h 16556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042560" y="272520"/>
            <a:ext cx="7777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тор презентаци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учитель русского языка МКОУ «Анисимовская ООШ» Бокситогорского района Ленинградской области            Пятакова Валентина Леонидов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ная литерату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азки П.П. Ерш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j0438205[1]"/>
          <p:cNvPicPr/>
          <p:nvPr/>
        </p:nvPicPr>
        <p:blipFill>
          <a:blip r:embed="rId2"/>
          <a:stretch/>
        </p:blipFill>
        <p:spPr>
          <a:xfrm>
            <a:off x="1979640" y="404640"/>
            <a:ext cx="5097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4859280" y="2205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2232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2124000" y="1268280"/>
            <a:ext cx="5334120" cy="16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>
                    <a:alpha val="96000"/>
                  </a:srgbClr>
                </a:solidFill>
                <a:latin typeface="Arial"/>
              </a:rPr>
              <a:t>ЧИСЛИТЕЛЬНО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>
                  <a:alpha val="96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>
                  <a:alpha val="96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716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АСТЬ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915120" y="42721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КОЛЬК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71640" y="533520"/>
          <a:ext cx="7867440" cy="5703840"/>
        </p:xfrm>
        <a:graphic>
          <a:graphicData uri="http://schemas.openxmlformats.org/drawingml/2006/table">
            <a:tbl>
              <a:tblPr/>
              <a:tblGrid>
                <a:gridCol w="2160360"/>
                <a:gridCol w="462240"/>
                <a:gridCol w="2622240"/>
                <a:gridCol w="2622600"/>
              </a:tblGrid>
              <a:tr h="65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орядко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ется п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042920" y="533520"/>
          <a:ext cx="7796160" cy="5440320"/>
        </p:xfrm>
        <a:graphic>
          <a:graphicData uri="http://schemas.openxmlformats.org/drawingml/2006/table">
            <a:tbl>
              <a:tblPr/>
              <a:tblGrid>
                <a:gridCol w="2160720"/>
                <a:gridCol w="438120"/>
                <a:gridCol w="2598840"/>
                <a:gridCol w="2598480"/>
              </a:tblGrid>
              <a:tr h="560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орядко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редметов или отвлеч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ется п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042920" y="533520"/>
          <a:ext cx="7796160" cy="5867280"/>
        </p:xfrm>
        <a:graphic>
          <a:graphicData uri="http://schemas.openxmlformats.org/drawingml/2006/table">
            <a:tbl>
              <a:tblPr/>
              <a:tblGrid>
                <a:gridCol w="2160720"/>
                <a:gridCol w="438120"/>
                <a:gridCol w="2598840"/>
                <a:gridCol w="2598480"/>
              </a:tblGrid>
              <a:tr h="560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Порядко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редметов или отвлеч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рядковый номер предметов при сч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ется п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971640" y="228600"/>
          <a:ext cx="7867440" cy="6489720"/>
        </p:xfrm>
        <a:graphic>
          <a:graphicData uri="http://schemas.openxmlformats.org/drawingml/2006/table">
            <a:tbl>
              <a:tblPr/>
              <a:tblGrid>
                <a:gridCol w="2198520"/>
                <a:gridCol w="3046320"/>
                <a:gridCol w="26226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Порядко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редметов или отвлеч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рядковый номер предметов при сч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Который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какой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ется п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971640" y="355680"/>
          <a:ext cx="7943760" cy="5941800"/>
        </p:xfrm>
        <a:graphic>
          <a:graphicData uri="http://schemas.openxmlformats.org/drawingml/2006/table">
            <a:tbl>
              <a:tblPr/>
              <a:tblGrid>
                <a:gridCol w="1864800"/>
                <a:gridCol w="216000"/>
                <a:gridCol w="1893600"/>
                <a:gridCol w="185400"/>
                <a:gridCol w="1845720"/>
                <a:gridCol w="182160"/>
                <a:gridCol w="17560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Порядков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редметов, отвлеч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рядковый номер предметов при сч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Который? (какой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ется п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деж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971640" y="355680"/>
          <a:ext cx="7943760" cy="6453000"/>
        </p:xfrm>
        <a:graphic>
          <a:graphicData uri="http://schemas.openxmlformats.org/drawingml/2006/table">
            <a:tbl>
              <a:tblPr/>
              <a:tblGrid>
                <a:gridCol w="1864800"/>
                <a:gridCol w="216000"/>
                <a:gridCol w="1893600"/>
                <a:gridCol w="185400"/>
                <a:gridCol w="1845720"/>
                <a:gridCol w="182160"/>
                <a:gridCol w="17560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Порядков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редметов, отвлеч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рядковый номер предметов при сч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 предм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Который? (какой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? Кака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ется п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деж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4T18:39:24Z</dcterms:created>
  <dc:creator>elior</dc:creator>
  <dc:description/>
  <dc:language>en-US</dc:language>
  <cp:lastModifiedBy>xxxc</cp:lastModifiedBy>
  <dcterms:modified xsi:type="dcterms:W3CDTF">2014-11-06T11:22:44Z</dcterms:modified>
  <cp:revision>22</cp:revision>
  <dc:subject/>
  <dc:title>МАТЕРИАЛЬНОЕ ПРОИЗВОДСТВО</dc:title>
</cp:coreProperties>
</file>