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4FB-5E01-446F-B0B9-6D6C8AAC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BD8-4F89-474D-AA88-472E3E83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6A4-DF14-43D8-9F7A-BE6CE00D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45D-B86E-4823-A7FE-1DC99A80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1EB-9CD1-489D-B32F-E564832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FF4A-05D8-466B-8E7A-1A070A4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2A6-FDB5-445C-BF9E-1C44934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5185-F743-4B37-A66F-25C6A026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7E0-F404-43CF-80DA-B74D8D0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A45-CF98-49EE-A1FA-ACEB97A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1EF-A300-4071-94F7-D90138F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A18-BCB7-4AD8-999D-719BC88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7F4-34B8-4419-AB7C-AB3CC6A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54F7-856B-4E05-B2A5-EDB10CF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FD40-B474-42BE-B5EC-729F5D9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38CD-DD11-43C6-BB87-FDE4CBD2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968-1538-4D3C-A7BD-093AA1F5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79B-2280-430E-B546-BADB3A1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BB8-5017-45E6-92E8-33CD960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5D2-CA9D-4723-B05E-3FFEBE9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E87-EEFB-49D9-975A-B987DB7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DA0-2956-4FD5-AA15-D241879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F69-23FC-4F87-BFE4-21BAF77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286-CBAC-4C12-9F50-7F1ED42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7A2-94C5-4F89-8C3D-7BC5C0EF95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8CF-89D3-48C9-93FE-85575A85C4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 Unicode MS"/>
              </a:rPr>
              <a:t>Внутренние воды Вологодской области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9000"/>
            <a:ext cx="723924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скуственные водоё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ыбиинское водохранилищ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разовано плотиной на Волге и Шексне у города Рыбинска  в Ярославской области с целью расширения Волго- Балтийского кана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лго-Балтийский кана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меет важное транспортное значение: по нему идут разнообразные грузы и пассажирские суд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начение внутренних вод для жизни челове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хозяйственное использование в качестве транспортного пути, перевозки грузов, промысла рыб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точники пресной во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места отдыха и туриз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Karta_oblasti"/>
          <p:cNvPicPr/>
          <p:nvPr/>
        </p:nvPicPr>
        <p:blipFill>
          <a:blip r:embed="rId1"/>
          <a:srcRect l="11757" t="11768" r="13779" b="13788"/>
          <a:stretch/>
        </p:blipFill>
        <p:spPr>
          <a:xfrm>
            <a:off x="395280" y="1413000"/>
            <a:ext cx="8229600" cy="4168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ологодская обла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Состав внутренних вод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87 рек (протяженностью более 10км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240 озёр (площадью 1га и больш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олот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дземные во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Характеристика внутренних в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надлежат к бассейнам Белого (Северного Ледовитого океана), Балтийского (Атлантического океана) и Каспийского морей (область внутреннего евроазиатского сток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итание осуществляется снеговыми (70%), дождевыми и грунтовыми вода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 гидрологическому режиму на реках выделяют весеннее половодье, летнюю и зимнюю межень, паводки, зимний ледоста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настоящее время часть из них испытывают сильную анропорогенную нагрузк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Озёр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имеют преимущественно ледниковое происхождение и возникли среди моренных гряд и холмов или на месте обширных приледниковых водоём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расположены на озёрно-ледниковых равнинах(Белое, Воже, Кубенско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необычен режим карстовых озёр (Куштозеро, Лухтозеро), в которых вода через воронку уходит на врем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самые крупные озёра- Кубенское, Воже, Белое,Онежск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  <a:ea typeface="Arial Unicode MS"/>
              </a:rPr>
              <a:t>Озеро Кубенское         Озеро Вож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принадлежит к</a:t>
            </a:r>
            <a:r>
              <a:rPr b="0" lang="en-US" sz="2500" spc="-1" strike="noStrike">
                <a:solidFill>
                  <a:srgbClr val="00cc00"/>
                </a:solidFill>
                <a:latin typeface="Verdana"/>
                <a:ea typeface="Arial Unicode MS"/>
              </a:rPr>
              <a:t> </a:t>
            </a: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бассейну Белого мор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длина- 59 км, ширина- 2,5-13 км, средняя глубина- 2,5 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ведётся вылов  леща, судака, «царской рыбы» нель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бассейн Белого мор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Arial Unicode MS"/>
              </a:rPr>
              <a:t>длина- 48 км, ширина-8-14 км, средняя глубина- 1,4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нежское озеро          Белое озеро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бассейн Балтийского мор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2 по величине озеро в Европ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длина-250км, ширина-92км, средняя глубина-30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обитают ценные виды рыб: лосось, сиг, ряпушка, корюш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испытывает (в последнее время) сильное экологическое влияни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бассейн Каспийского мор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имеет овальные очертания, ровные нерасчленённые бе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длина- 43км, ширина- 32км, средняя глубина- 4,1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много рыбы, особенно снетка и суда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  <a:ea typeface="Arial Unicode MS"/>
              </a:rPr>
              <a:t>в последнее время его роль в судоходстве снизилас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Реки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ее 1200 рек, которые имеют общую длину более750 тыс. к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ьшинство  рек принадлежат к бассейну Северного Ледовитого океа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редняя густота речной сети 0,5-1к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м2, средняя величина годового стока- 250-300м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амая длинная и многоводная река- Сухона(558км), которая берёт начало из Кубенского озера и впадает в Малую Северную Двину. В период весенного половодья можно наблюдать необычное явление – воды течёт в обратном направле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 Unicode MS"/>
              </a:rPr>
              <a:t>Боло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6600"/>
                </a:solidFill>
                <a:latin typeface="Verdana"/>
                <a:ea typeface="Arial Unicode MS"/>
              </a:rPr>
              <a:t>наибольшая заболоченность земель в западных районах области( 15-20%), наименьшая- восточных, центральных и южных(5-10% и 10-15% соответственно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6600"/>
                </a:solidFill>
                <a:latin typeface="Verdana"/>
                <a:ea typeface="Arial Unicode MS"/>
              </a:rPr>
              <a:t>по типам выделяют верховые(56%),   переходные(24%) и низинные(20%) болот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6600"/>
                </a:solidFill>
                <a:latin typeface="Verdana"/>
                <a:ea typeface="Arial Unicode MS"/>
              </a:rPr>
              <a:t>Уломские болота в междуречье Суды и Мологи ГРИНПИС относит малонарушенным территориям- целостным природным земля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8:56:28Z</dcterms:created>
  <dc:creator>юлия</dc:creator>
  <dc:description/>
  <dc:language>en-US</dc:language>
  <cp:lastModifiedBy>юлия</cp:lastModifiedBy>
  <dcterms:modified xsi:type="dcterms:W3CDTF">2014-11-08T10:29:21Z</dcterms:modified>
  <cp:revision>3</cp:revision>
  <dc:subject/>
  <dc:title>Внутренние воды Вологодской области</dc:title>
</cp:coreProperties>
</file>