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441-AA50-4F4D-85DE-0182F306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970-725B-4543-8B78-3909A1E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EF7-BBA4-4BA6-B9F0-2C7A08D5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844-D288-4C80-AA95-D63A1DEB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FB551-4B76-4B5E-8A8E-AD39A8F9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AC9B5-11E4-4913-9F3A-D1848843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3AB1F-18E2-49AC-9791-0483021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07C2-340E-4D0F-B78A-2F5ADC3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DADFE-344F-486D-93CF-68A4EDE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4674E-8A14-437B-8588-6354A6C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84423-A51B-4A9E-834B-A8C696B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184-17BE-460F-B0E3-2E31F783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5A7D6-3971-4BBE-A436-01F681C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C1B46-46A5-4AE6-BEA6-E76464B4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2677B-5008-4439-8806-7F63F306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53021-A057-4348-9EBB-47023373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D4488-6311-453C-B031-F6D7189F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9BB-0C5F-49D2-A0D4-8583388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DF0-3DC6-4B15-8FF9-557C5F16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999-46B6-495B-B463-7C0B890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4A9-9CC0-4F59-B190-7CE7B5F0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308-081C-4BBA-9994-80256BF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1F4-5018-4340-A0C9-AB2E217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EBA-9096-4F7D-8939-92F595F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B96-4A6C-4F89-8462-9AED6DA5B7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8EBA-9D86-46C5-A6CF-AE31D4412D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86;&#1090;&#1082;&#1088;&#1099;&#1090;&#1099;&#1081;%20&#1091;&#1088;&#1086;&#1082;/&#1058;&#1077;&#1089;&#1090;%20&#1074;&#1091;&#1083;&#1082;&#1072;&#1085;&#1099;.ppt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33"/>
                </a:solidFill>
                <a:latin typeface="Arial"/>
              </a:rPr>
              <a:t>Вулканы, горячие источники и гейзе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J0076146"/>
          <p:cNvPicPr/>
          <p:nvPr/>
        </p:nvPicPr>
        <p:blipFill>
          <a:blip r:embed="rId1"/>
          <a:stretch/>
        </p:blipFill>
        <p:spPr>
          <a:xfrm>
            <a:off x="250920" y="5734080"/>
            <a:ext cx="1990800" cy="876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йсмолог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ученые, которые наблюдают, изучают землетряс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йсмограф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рибор, который измеряет и автоматически записывает малейшие движения, сотрясения земной к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ипы вулканов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действующие        потухшие            уснувш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            об извержении      те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вергаются        не сохранились     потухли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имеются      сведения               вдруг на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дения                                             н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 этом                                              действ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в памяти че-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вечест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1331640" y="2133720"/>
            <a:ext cx="647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4356000" y="2205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6877080" y="2060640"/>
            <a:ext cx="288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ды вулканов 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4" descr="вулканы разые виды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39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Object 5"/>
          <p:cNvGraphicFramePr/>
          <p:nvPr/>
        </p:nvGraphicFramePr>
        <p:xfrm>
          <a:off x="2882880" y="4348080"/>
          <a:ext cx="296856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2880" y="4348080"/>
                    <a:ext cx="296856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Извержения вулканов способны производить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пустошения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на огромных территориях. На многие километры вокруг земля покрывается слоем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улканического пепла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. Раскаленные вулканические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бомбы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лава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могут вызвать сильные пожары, сжигающие поля, леса, поселения. В тучах удушливых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азов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нередко погибают люди, звери, птицы. Вулканы образуют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рязевые потоки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, если их склоны покрыты снегом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5340240" y="3394080"/>
          <a:ext cx="323712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0240" y="3394080"/>
                    <a:ext cx="323712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055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.ро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бомбы"/>
          <p:cNvPicPr/>
          <p:nvPr/>
        </p:nvPicPr>
        <p:blipFill>
          <a:blip r:embed="rId3"/>
          <a:stretch/>
        </p:blipFill>
        <p:spPr>
          <a:xfrm>
            <a:off x="0" y="3284640"/>
            <a:ext cx="44895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дводные вулкан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5367240" y="3287880"/>
          <a:ext cx="308772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7240" y="3287880"/>
                    <a:ext cx="30877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Picture 7" descr="вулкан новый"/>
          <p:cNvPicPr/>
          <p:nvPr/>
        </p:nvPicPr>
        <p:blipFill>
          <a:blip r:embed="rId3"/>
          <a:stretch/>
        </p:blipFill>
        <p:spPr>
          <a:xfrm>
            <a:off x="0" y="1125360"/>
            <a:ext cx="4479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улкан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Везу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Э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Котопа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Ключевская Со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Фудзия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Ориса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к. Килимандж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рячие источники и гейзер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0920" y="1484280"/>
            <a:ext cx="50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орячие источн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никают, когда дождевая или талая вода через трещины попадает к разогретым породам вблизи магматических очагов и, вскипая, устремляется вверх к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под землей имеется полость, где подземные воды скапливаются и нагреваются, образуется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ейз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г1"/>
          <p:cNvPicPr/>
          <p:nvPr/>
        </p:nvPicPr>
        <p:blipFill>
          <a:blip r:embed="rId1"/>
          <a:stretch/>
        </p:blipFill>
        <p:spPr>
          <a:xfrm>
            <a:off x="250920" y="1125360"/>
            <a:ext cx="1593720" cy="557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г2"/>
          <p:cNvPicPr/>
          <p:nvPr/>
        </p:nvPicPr>
        <p:blipFill>
          <a:blip r:embed="rId2"/>
          <a:stretch/>
        </p:blipFill>
        <p:spPr>
          <a:xfrm>
            <a:off x="7236000" y="1268280"/>
            <a:ext cx="1495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3й"/>
          <p:cNvPicPr/>
          <p:nvPr/>
        </p:nvPicPr>
        <p:blipFill>
          <a:blip r:embed="rId1"/>
          <a:stretch/>
        </p:blipFill>
        <p:spPr>
          <a:xfrm>
            <a:off x="0" y="0"/>
            <a:ext cx="4594320" cy="344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2й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7"/>
          <p:cNvGraphicFramePr/>
          <p:nvPr/>
        </p:nvGraphicFramePr>
        <p:xfrm>
          <a:off x="2516040" y="3876840"/>
          <a:ext cx="2837160" cy="23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6040" y="3876840"/>
                    <a:ext cx="2837160" cy="23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716000" y="148428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. 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</a:rPr>
              <a:t>Проверк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опрос :Как человек может  использовать энергию внутреннего тепла Земли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улканический пепел – удобрение для раст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улканический туф (горная порода, образованная из рыхлых продуктов вулканических извержений)-  возводят з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ячая вода источников и гейзеров- для отопления теплиц и до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 горячих источников- для вращения турбин электроста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ерализованная горячая вода источников лечит заболе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ть знания о видах движения земной ко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ть знания о вулканах, их строении, причинах возникнов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я о горячих источниках и гейзе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жет ли вулкан появиться в твоем дво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йсмические районы земли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Picture 4" descr="карта"/>
          <p:cNvPicPr/>
          <p:nvPr/>
        </p:nvPicPr>
        <p:blipFill>
          <a:blip r:embed="rId1"/>
          <a:stretch/>
        </p:blipFill>
        <p:spPr>
          <a:xfrm>
            <a:off x="1116000" y="1154160"/>
            <a:ext cx="69134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асибо за работу на уро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Ход уро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ысоких обрывистых берегах рек, крутых склонах гор и вырытых человеком котловинах обращает на себя внимание различное залегание горных пород. Слои могут залегать горизонтально, наклонно, быть смятыми в складки. Иногда видны разрывы в пластах, смещение одной части относительно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ы думаете,  в чем причина такого разнообраз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 можно сделать только один: земная кора находится в постоянном движении. В одних местах она разламывается, образуются трещины, в других – горизонтально залегающие пласты сминаются в складки. Одни участки опускаются, другие подним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чины движения земной ко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ижение вещества манти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ед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ижение земной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132000" y="191628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вижения земной ко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лад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и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о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чень медленная скор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тика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нятие с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скание с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высоты 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медленная скор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1907640" y="2133720"/>
            <a:ext cx="28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5508720" y="2133720"/>
            <a:ext cx="215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емлетряс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3059280" y="2852640"/>
            <a:ext cx="5886360" cy="3600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24000" y="90792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толчков из глубин Земли в течение нескольких секунд или даже долей секунды одни участки земной коры поднимаются, другие – опускаются на несколько сантиметров или даже метров. Происходит смещение одних участков земной коры относительно других и в горизонтальном направлении.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ричина образования землетрясе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незапные смещения или разрывы на большой глубине в литосфе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08000" y="2925000"/>
            <a:ext cx="288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о на глубине, где образуется разрыв и смещение пород, называют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очагом землетрясения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о на земной поверхности, находящееся над очагом, называют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эпицентром землетрясен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ла землетрясени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4" descr="img4"/>
          <p:cNvPicPr/>
          <p:nvPr/>
        </p:nvPicPr>
        <p:blipFill>
          <a:blip r:embed="rId1"/>
          <a:stretch/>
        </p:blipFill>
        <p:spPr>
          <a:xfrm>
            <a:off x="2987640" y="1471680"/>
            <a:ext cx="5040360" cy="43974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40720" y="1989360"/>
            <a:ext cx="197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: 1-2-3-4 бал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: 5-6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: 7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: 8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: 9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: 10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: 11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: 12 бал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   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улканы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6" name="Picture 4" descr="img5"/>
          <p:cNvPicPr/>
          <p:nvPr/>
        </p:nvPicPr>
        <p:blipFill>
          <a:blip r:embed="rId1"/>
          <a:stretch/>
        </p:blipFill>
        <p:spPr>
          <a:xfrm>
            <a:off x="4898880" y="2708280"/>
            <a:ext cx="4245120" cy="341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кпа"/>
          <p:cNvPicPr/>
          <p:nvPr/>
        </p:nvPicPr>
        <p:blipFill>
          <a:blip r:embed="rId2"/>
          <a:stretch/>
        </p:blipFill>
        <p:spPr>
          <a:xfrm>
            <a:off x="250920" y="189000"/>
            <a:ext cx="4487760" cy="31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6"/>
          <p:cNvGraphicFramePr/>
          <p:nvPr/>
        </p:nvGraphicFramePr>
        <p:xfrm>
          <a:off x="687240" y="3718080"/>
          <a:ext cx="3373560" cy="27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3718080"/>
                    <a:ext cx="337356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8"/>
          <p:cNvSpPr/>
          <p:nvPr/>
        </p:nvSpPr>
        <p:spPr>
          <a:xfrm>
            <a:off x="5148360" y="1395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улканы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особые по форме и составу пород го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антия – магма - ла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Arial"/>
              </a:rPr>
              <a:t>Магм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 греч. -густая мазь) – расплавленная масса глубинных зон Зем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Arial"/>
              </a:rPr>
              <a:t>Манти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от греч. – покрываю) – геосфера, окружающая ядро Земли. Вещество находится в твердом кристаллическом состоя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Arial"/>
              </a:rPr>
              <a:t>Лав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– (от лат.- обвал, падение) – магма, излившаяся на поверхность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8:27:28Z</dcterms:created>
  <dc:creator>User</dc:creator>
  <dc:description/>
  <dc:language>en-US</dc:language>
  <cp:lastModifiedBy>1</cp:lastModifiedBy>
  <dcterms:modified xsi:type="dcterms:W3CDTF">2012-11-28T07:03:59Z</dcterms:modified>
  <cp:revision>26</cp:revision>
  <dc:subject/>
  <dc:title>Вулканы, горячие источники и гейзеры</dc:title>
</cp:coreProperties>
</file>