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20BF-EAA6-47F6-90FA-10E71A4E97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FFE-C9AB-455B-9F90-DB2FB73A88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46E9-CACB-4C11-B0C4-AC597B427E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BDC-2E46-42CC-86A9-83BCA6CCA3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21EC-554F-4945-B888-A40B9F9C26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F66-20AB-4A0F-8552-20D41792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AD2-B80E-4382-A251-74DCC9BF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95-234B-4F11-A3B3-E453FA5F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416-3960-4EAB-AC06-795512C1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F3C3-55DF-4E84-A69D-A1DADCF5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096-A659-4CFE-AEFD-A3F8F3A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6BA1-3971-4F4B-8F6C-A8B3647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6452-ABEC-4D9A-8B11-EC99F74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6C6-F11B-4FFB-BC45-73959E8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5353-2CA1-4D6F-8A15-F8198FF0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6B2A-AC99-435B-ADB4-634166E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3B3-ED66-4919-B68B-4E94BE2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60A0-EDBA-4B79-82A2-E7E4602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488-5ACD-4985-9D8B-7423D09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A517-6265-4128-A800-6D598B1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A4D-2C0D-42A8-9631-54F2D73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EFD-111B-4590-8022-23159BBA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7AAB-864B-4FCB-8AA8-BA24FD6A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5F1D-3E68-4BC9-9713-A7C27EF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A72E-3435-41FF-A72D-10D089D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1284-1D60-4501-A333-32969A6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7B5A-7D4F-4BE6-8DB3-20474E0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D12-DE03-4AF6-A1A8-844F9F4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0A57-5186-4E1A-9589-5EE9C1A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AF62-449B-44F0-A3AD-869A488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76A1-B58C-4A3F-ADCB-B3862DF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5124-BF2C-45EF-9517-58E55C4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0379-4CE6-4196-981D-C48C79EB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1DDF-193A-415B-B114-F5BCF5A3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2A4C-A5B4-445C-AC79-B7A3ECC3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D38F-0695-477B-A814-3019C306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6C09-A825-4162-B713-E33FEBC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7B89-8257-4E1C-A2E4-4194C06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9BC-C90D-47ED-9A4F-82CCEC3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25A7-D3E7-43EF-8F6B-0096D11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7449-FF8F-4E43-A888-BE7A0C9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08B7-2DF5-41BD-80B2-1F48224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EC7D-5541-4C5A-9F47-33CA10D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5971-551D-4E33-9BFA-230FCFD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3685-1930-4F43-A864-4024702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71CB-7D61-4B9D-A996-8E5918F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4A0B-0AF5-46DA-AC57-E6DC017E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9271-D145-47C0-B3CE-F604798B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9D05-5EA4-4042-812C-13A4D027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B10-87A1-4342-A743-5FD6FF65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A38E-D922-4B1F-8BDB-33E1D5F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9C2F-0C8F-4C83-BBD0-96E7E5D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EE93-60C9-43AA-9ABE-96CC7D3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D8B3-51D2-4FFD-8972-C889F02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78E8-20E3-4C90-8FD5-4BB2DBC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3FDD-9F71-428E-B2E3-1C724BD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27D8-D523-49F8-A86D-AE4A698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D55E-A28C-407B-A51D-806A87B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3F5F-5D6F-4D5B-A787-17F6C05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2964-34C0-4D0E-9651-342131AB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A2E-7312-4BE6-9E04-EAC3BE84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03B5-DAF0-4F62-8C0D-55D4A2B9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FA3-7EB4-4BA7-9AAB-6FA16B8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2F4-037A-4AA2-8209-281D7D34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32B-DD0D-4A3B-9B62-59DD881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EE0C-8DF7-430F-A4B5-D708FD8D1A65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6CE-75D0-4E94-B162-F23D20427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C0D4-55CD-47B1-958D-D44AB9145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570-AD34-441B-8F01-7D2D58D6E36C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95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25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6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27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28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29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30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31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32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233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34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35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36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37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38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39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40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43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700-31D3-4776-A168-D8C09537525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8"/>
          <p:cNvSpPr/>
          <p:nvPr/>
        </p:nvSpPr>
        <p:spPr>
          <a:xfrm>
            <a:off x="2916360" y="1052640"/>
            <a:ext cx="55432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уховой анализатор»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0" y="557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1258920" y="260280"/>
            <a:ext cx="6624720" cy="640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7" descr="http://www.likar.info/pictures_ckfinder/images/Depositphotos_4392544_s.jpg"/>
          <p:cNvPicPr/>
          <p:nvPr/>
        </p:nvPicPr>
        <p:blipFill>
          <a:blip r:embed="rId1"/>
          <a:stretch/>
        </p:blipFill>
        <p:spPr>
          <a:xfrm>
            <a:off x="298440" y="3279600"/>
            <a:ext cx="3187800" cy="641376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7"/>
          <p:cNvSpPr/>
          <p:nvPr/>
        </p:nvSpPr>
        <p:spPr>
          <a:xfrm>
            <a:off x="3995640" y="37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MV Boli"/>
              </a:rPr>
              <a:t>Природа, давшая нам лишь один орган для речи, дала нам два органа для слуха, дабы мы знали, что надо больше слушать, чем говори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630072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римова Э.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Скругленный прямоугольник 5"/>
          <p:cNvGrpSpPr/>
          <p:nvPr/>
        </p:nvGrpSpPr>
        <p:grpSpPr>
          <a:xfrm>
            <a:off x="517680" y="171360"/>
            <a:ext cx="8029440" cy="962280"/>
            <a:chOff x="517680" y="171360"/>
            <a:chExt cx="8029440" cy="962280"/>
          </a:xfrm>
        </p:grpSpPr>
        <p:pic>
          <p:nvPicPr>
            <p:cNvPr id="324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17680" y="171360"/>
              <a:ext cx="80294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85720" y="235080"/>
              <a:ext cx="7900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326" name="Заголовок 1" descr=""/>
          <p:cNvPicPr/>
          <p:nvPr/>
        </p:nvPicPr>
        <p:blipFill>
          <a:blip r:embed="rId2"/>
          <a:stretch/>
        </p:blipFill>
        <p:spPr>
          <a:xfrm>
            <a:off x="603360" y="371520"/>
            <a:ext cx="8242200" cy="652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т внутреннего, среднего или наружного уха – это воспаление, которое может привести к нарушению подвижности слуховых косточек, слуховых рецепторов и слухового нерва. Может привести к глух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ухость – возникает в результате систематического пребывания в шумной обстановке или кратковременное, но весьма интенсивное воздействия зв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C:\Users\Sergey\AppData\Local\Microsoft\Windows\Temporary Internet Files\Content.IE5\TO7N4NXK\MC900424446[1].wmf"/>
          <p:cNvPicPr/>
          <p:nvPr/>
        </p:nvPicPr>
        <p:blipFill>
          <a:blip r:embed="rId3"/>
          <a:stretch/>
        </p:blipFill>
        <p:spPr>
          <a:xfrm>
            <a:off x="5815080" y="4748040"/>
            <a:ext cx="17128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4360" y="765000"/>
            <a:ext cx="316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сл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6560" y="155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стите уши спичками, вязальными спиц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йте уши от сильного шу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ши заболели, обратитесь к врач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утро разминайте ушную ракови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 спокойную музы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5" descr="Без имени-2копирование"/>
          <p:cNvPicPr/>
          <p:nvPr/>
        </p:nvPicPr>
        <p:blipFill>
          <a:blip r:embed="rId1"/>
          <a:stretch/>
        </p:blipFill>
        <p:spPr>
          <a:xfrm>
            <a:off x="6492960" y="3833640"/>
            <a:ext cx="1577880" cy="17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3240000" cy="23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3" name="Picture 11" descr=""/>
          <p:cNvPicPr/>
          <p:nvPr/>
        </p:nvPicPr>
        <p:blipFill>
          <a:blip r:embed="rId2"/>
          <a:srcRect l="5610" t="0" r="0" b="0"/>
          <a:stretch/>
        </p:blipFill>
        <p:spPr>
          <a:xfrm>
            <a:off x="4932360" y="1844640"/>
            <a:ext cx="266400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4" name="Picture 14" descr="114"/>
          <p:cNvPicPr/>
          <p:nvPr/>
        </p:nvPicPr>
        <p:blipFill>
          <a:blip r:embed="rId3"/>
          <a:srcRect l="0" t="0" r="4166" b="0"/>
          <a:stretch/>
        </p:blipFill>
        <p:spPr>
          <a:xfrm>
            <a:off x="466560" y="1844640"/>
            <a:ext cx="367380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5" name="Picture 15" descr="111"/>
          <p:cNvPicPr/>
          <p:nvPr/>
        </p:nvPicPr>
        <p:blipFill>
          <a:blip r:embed="rId4"/>
          <a:srcRect l="0" t="9371" r="0" b="2167"/>
          <a:stretch/>
        </p:blipFill>
        <p:spPr>
          <a:xfrm>
            <a:off x="5003640" y="4265640"/>
            <a:ext cx="27082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" name="TextBox 7"/>
          <p:cNvSpPr/>
          <p:nvPr/>
        </p:nvSpPr>
        <p:spPr>
          <a:xfrm>
            <a:off x="2050920" y="26028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шу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250920" y="1341360"/>
            <a:ext cx="84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их избега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Скругленный прямоугольник 23"/>
          <p:cNvGrpSpPr/>
          <p:nvPr/>
        </p:nvGrpSpPr>
        <p:grpSpPr>
          <a:xfrm>
            <a:off x="1530360" y="-19080"/>
            <a:ext cx="3340080" cy="506520"/>
            <a:chOff x="1530360" y="-19080"/>
            <a:chExt cx="3340080" cy="506520"/>
          </a:xfrm>
        </p:grpSpPr>
        <p:pic>
          <p:nvPicPr>
            <p:cNvPr id="339" name="Скругленный прямоугольник 23" descr=""/>
            <p:cNvPicPr/>
            <p:nvPr/>
          </p:nvPicPr>
          <p:blipFill>
            <a:blip r:embed="rId1"/>
            <a:stretch/>
          </p:blipFill>
          <p:spPr>
            <a:xfrm>
              <a:off x="1530360" y="-19080"/>
              <a:ext cx="334008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571760" y="23760"/>
              <a:ext cx="3265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30240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ение органа сл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4356000" y="4789440"/>
            <a:ext cx="478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луховые рецепторы преобразуют звуковые сигналы в нервные импульсы, передающиеся в слуховую зону коры больших полушар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спринимает положение тела в пространстве и передает импульсы в продолговатый мозг, затем в вестибулярную зону коры больших полушар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476360" y="4789440"/>
            <a:ext cx="287964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рган слуха: улитка с полостью, заполненной жидкостью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рган равновесия состоит из трех  полукружных каналов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4789440"/>
            <a:ext cx="147636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ух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356000" y="3006720"/>
            <a:ext cx="4788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 и усиливают звуковые колеб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а с носоглоткой и выравнивает давление на барабанной перепонк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476360" y="3006720"/>
            <a:ext cx="28796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уховые косточк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оточек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ковальн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емечко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евстахиева труб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3006720"/>
            <a:ext cx="14763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ух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356000" y="1052640"/>
            <a:ext cx="47880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вливает звук и направляет его в слуховой прохо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звук, содержит железы, которые выделяют сер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т воздушные звуковые волны в механические, колеблет слуховые косточ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476360" y="1052640"/>
            <a:ext cx="28796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шная раковин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аружный слуховой проход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рабанная перепон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0" y="1052640"/>
            <a:ext cx="147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ое ух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4356000" y="549360"/>
            <a:ext cx="47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476360" y="549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0" y="549360"/>
            <a:ext cx="14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органа слух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Line 17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Line 18"/>
          <p:cNvSpPr/>
          <p:nvPr/>
        </p:nvSpPr>
        <p:spPr>
          <a:xfrm>
            <a:off x="0" y="3006720"/>
            <a:ext cx="9144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0" y="4789440"/>
            <a:ext cx="9144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0" y="6958080"/>
            <a:ext cx="914400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Line 21"/>
          <p:cNvSpPr/>
          <p:nvPr/>
        </p:nvSpPr>
        <p:spPr>
          <a:xfrm>
            <a:off x="0" y="549360"/>
            <a:ext cx="0" cy="64958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1476360" y="549360"/>
            <a:ext cx="0" cy="6495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Line 23"/>
          <p:cNvSpPr/>
          <p:nvPr/>
        </p:nvSpPr>
        <p:spPr>
          <a:xfrm>
            <a:off x="4356000" y="549360"/>
            <a:ext cx="0" cy="6495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Line 24"/>
          <p:cNvSpPr/>
          <p:nvPr/>
        </p:nvSpPr>
        <p:spPr>
          <a:xfrm>
            <a:off x="9144000" y="549360"/>
            <a:ext cx="0" cy="64958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3" name="Скругленный прямоугольник 24"/>
          <p:cNvGrpSpPr/>
          <p:nvPr/>
        </p:nvGrpSpPr>
        <p:grpSpPr>
          <a:xfrm>
            <a:off x="6413400" y="-30240"/>
            <a:ext cx="1492200" cy="530280"/>
            <a:chOff x="6413400" y="-30240"/>
            <a:chExt cx="1492200" cy="530280"/>
          </a:xfrm>
        </p:grpSpPr>
        <p:pic>
          <p:nvPicPr>
            <p:cNvPr id="364" name="Скругленный 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413400" y="-30240"/>
              <a:ext cx="1492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467400" y="23760"/>
              <a:ext cx="13939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6" name="Rectangle 2"/>
          <p:cNvSpPr/>
          <p:nvPr/>
        </p:nvSpPr>
        <p:spPr>
          <a:xfrm>
            <a:off x="5651640" y="115920"/>
            <a:ext cx="3025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4371840" cy="951120"/>
          </a:xfrm>
          <a:prstGeom prst="rect">
            <a:avLst/>
          </a:prstGeom>
          <a:ln w="0">
            <a:noFill/>
          </a:ln>
        </p:spPr>
      </p:pic>
      <p:sp>
        <p:nvSpPr>
          <p:cNvPr id="299" name="Содержимое 2"/>
          <p:cNvSpPr/>
          <p:nvPr/>
        </p:nvSpPr>
        <p:spPr>
          <a:xfrm>
            <a:off x="428760" y="1285920"/>
            <a:ext cx="61862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9880" indent="-569880">
              <a:lnSpc>
                <a:spcPct val="90000"/>
              </a:lnSpc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179280" y="191628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лух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слухового анализат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жное ух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е ух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ее ух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ь звуковой волн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иена органов слух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е слухового аппар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9"/>
          <p:cNvSpPr/>
          <p:nvPr/>
        </p:nvSpPr>
        <p:spPr>
          <a:xfrm>
            <a:off x="395280" y="1557360"/>
            <a:ext cx="8424720" cy="31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08400" y="189000"/>
            <a:ext cx="5119560" cy="10112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тный орган чувств - восприятие звука на значительном расстоя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звуковых колебаний частотой от 16  до 20 тыс. раз в секунд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ое воспитание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каналом общ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увствует в передачи и накоплении зн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" descr="C:\Users\Sergey\AppData\Local\Microsoft\Windows\Temporary Internet Files\Content.IE5\FZROEMX3\MC900250531[1].wmf"/>
          <p:cNvPicPr/>
          <p:nvPr/>
        </p:nvPicPr>
        <p:blipFill>
          <a:blip r:embed="rId2"/>
          <a:stretch/>
        </p:blipFill>
        <p:spPr>
          <a:xfrm>
            <a:off x="395280" y="115920"/>
            <a:ext cx="1162080" cy="137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822240" y="109440"/>
            <a:ext cx="6359760" cy="1158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http://school.xvatit.com/images/7/7d/Bior8_48_3.jpg"/>
          <p:cNvPicPr/>
          <p:nvPr/>
        </p:nvPicPr>
        <p:blipFill>
          <a:blip r:embed="rId2"/>
          <a:stretch/>
        </p:blipFill>
        <p:spPr>
          <a:xfrm>
            <a:off x="684360" y="2492280"/>
            <a:ext cx="4105080" cy="302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http://do.gendocs.ru/pars_docs/tw_refs/288/287390/287390_html_75089f3d.png"/>
          <p:cNvPicPr/>
          <p:nvPr/>
        </p:nvPicPr>
        <p:blipFill>
          <a:blip r:embed="rId3"/>
          <a:stretch/>
        </p:blipFill>
        <p:spPr>
          <a:xfrm>
            <a:off x="5651640" y="2046240"/>
            <a:ext cx="2449440" cy="339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2322360" y="55440"/>
            <a:ext cx="5357880" cy="1030320"/>
          </a:xfrm>
          <a:prstGeom prst="rect">
            <a:avLst/>
          </a:prstGeom>
          <a:ln w="0">
            <a:noFill/>
          </a:ln>
        </p:spPr>
      </p:pic>
      <p:sp>
        <p:nvSpPr>
          <p:cNvPr id="309" name="Содержимое 2"/>
          <p:cNvSpPr/>
          <p:nvPr/>
        </p:nvSpPr>
        <p:spPr>
          <a:xfrm>
            <a:off x="179280" y="2276640"/>
            <a:ext cx="47577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ое ухо состоит из ушной раковины и наружного слухового прохода, который заканчивается барабанной перепон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– улавливать звуки и передавать в дальнейшие отделы орга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2" descr="http://900igr.net/datai/biologija/Organ-slukha-i-ravnovesija/0004-004-Naruzhnoe-ukho.jpg"/>
          <p:cNvPicPr/>
          <p:nvPr/>
        </p:nvPicPr>
        <p:blipFill>
          <a:blip r:embed="rId2"/>
          <a:stretch/>
        </p:blipFill>
        <p:spPr>
          <a:xfrm>
            <a:off x="5508720" y="1557360"/>
            <a:ext cx="3311280" cy="425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6"/>
          <p:cNvSpPr/>
          <p:nvPr/>
        </p:nvSpPr>
        <p:spPr>
          <a:xfrm>
            <a:off x="2627280" y="404640"/>
            <a:ext cx="360036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278320" cy="858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79280" y="1700280"/>
            <a:ext cx="49723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ь заполненная воздухом, в которой находятся три слуховые косточки: молоточек, наковальня и стремеч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 получается система костных рычагов увеличивающие в двадцать раз силу воздействия колебаний барабанной переп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6" descr="http://www.medbe.ru/upload/medialibrary/2c8/%D0%A1%D0%BB%D1%83%D1%85%D0%BE%D0%B2%D1%8B%D0%B5%20%D0%BA%D0%BE%D1%81%D1%82%D0%BE%D1%87%D0%BA%D0%B8.jpg"/>
          <p:cNvPicPr/>
          <p:nvPr/>
        </p:nvPicPr>
        <p:blipFill>
          <a:blip r:embed="rId2"/>
          <a:stretch/>
        </p:blipFill>
        <p:spPr>
          <a:xfrm>
            <a:off x="5651640" y="1571760"/>
            <a:ext cx="3278160" cy="41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"/>
          <p:cNvPicPr/>
          <p:nvPr/>
        </p:nvPicPr>
        <p:blipFill>
          <a:blip r:embed="rId1">
            <a:lum contrast="42000"/>
          </a:blip>
          <a:srcRect l="0" t="17456" r="0" b="0"/>
          <a:stretch/>
        </p:blipFill>
        <p:spPr>
          <a:xfrm>
            <a:off x="539640" y="620640"/>
            <a:ext cx="7894800" cy="59500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4"/>
          <p:cNvSpPr/>
          <p:nvPr/>
        </p:nvSpPr>
        <p:spPr>
          <a:xfrm>
            <a:off x="8459640" y="5661000"/>
            <a:ext cx="684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1322280" y="255600"/>
            <a:ext cx="5499360" cy="1152360"/>
          </a:xfrm>
          <a:prstGeom prst="rect">
            <a:avLst/>
          </a:prstGeom>
          <a:ln w="0">
            <a:noFill/>
          </a:ln>
        </p:spPr>
      </p:pic>
      <p:sp>
        <p:nvSpPr>
          <p:cNvPr id="318" name="Содержимое 5"/>
          <p:cNvSpPr/>
          <p:nvPr/>
        </p:nvSpPr>
        <p:spPr>
          <a:xfrm>
            <a:off x="4356000" y="1600200"/>
            <a:ext cx="4680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ный лабиринт состоит из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двер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т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кружных канал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тка является органом слуха, а преддверия и полукружные  каналы – органы чувства равновесия и положения тела в пространств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9" name="Рисунок 7" descr="0006-006-Vnutrennee-ukho.jpg"/>
          <p:cNvPicPr/>
          <p:nvPr/>
        </p:nvPicPr>
        <p:blipFill>
          <a:blip r:embed="rId2"/>
          <a:stretch/>
        </p:blipFill>
        <p:spPr>
          <a:xfrm>
            <a:off x="684360" y="1700280"/>
            <a:ext cx="336204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036800" y="304920"/>
            <a:ext cx="7211880" cy="9334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в чистоте ушные раковины и наружный слуховой про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очищать слуховой проход твёрдыми предмет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систематически пребывать в шумной обстанов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C:\Users\Sergey\AppData\Local\Microsoft\Windows\Temporary Internet Files\Content.IE5\FZROEMX3\MC900286858[1].wmf"/>
          <p:cNvPicPr/>
          <p:nvPr/>
        </p:nvPicPr>
        <p:blipFill>
          <a:blip r:embed="rId2"/>
          <a:stretch/>
        </p:blipFill>
        <p:spPr>
          <a:xfrm>
            <a:off x="2895480" y="3700440"/>
            <a:ext cx="317664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7:57:52Z</dcterms:created>
  <dc:creator>Света</dc:creator>
  <dc:description/>
  <dc:language>en-US</dc:language>
  <cp:lastModifiedBy>Алёна</cp:lastModifiedBy>
  <dcterms:modified xsi:type="dcterms:W3CDTF">2014-11-09T09:35:14Z</dcterms:modified>
  <cp:revision>61</cp:revision>
  <dc:subject/>
  <dc:title>СЛУХОВОЙ АНАЛИЗА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