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gif" ContentType="image/gif"/>
  <Override PartName="/ppt/media/image10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108-7A63-4139-A305-046026E8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1A1-8112-43DD-BF31-7DAFB694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50A-E261-4488-8F6E-396A9D14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6D0-E246-427D-A0A9-99316C74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499-5571-4B4C-B028-8E4B5C4B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87A-AE01-4332-AC18-5C4FE211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CC1-6972-45FB-AECC-532909E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524-4CFA-4321-B491-3DD4689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EFC-9AD4-41DB-92D7-0E6C0044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812-07BD-4604-9F11-FA69628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14F-7215-4BA4-BC80-A0076F3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1F6-1CFD-4813-9A1A-9EC53EFF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B8A-7CF4-4C55-9070-8CB35E72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709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Арифметическая прогре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рифметическая прогрессия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в жизни и быту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3528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3528720" cy="273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156360" y="3616200"/>
            <a:ext cx="258120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913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2 В январе в городе произошло 60 автомобильных аварий. Благодаря мерам, предпринимаемым дорожными службами, в каждый следующий месяц число аварий становилось на 4 меньше.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640" y="4437000"/>
            <a:ext cx="64800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81360"/>
            <a:ext cx="63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Сколько предположительно за год будет ДТ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093080" y="5734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791" h="21600">
                <a:moveTo>
                  <a:pt x="8369" y="3985"/>
                </a:moveTo>
                <a:lnTo>
                  <a:pt x="15367" y="3985"/>
                </a:lnTo>
                <a:lnTo>
                  <a:pt x="19422" y="7484"/>
                </a:lnTo>
                <a:lnTo>
                  <a:pt x="19422" y="17615"/>
                </a:lnTo>
                <a:lnTo>
                  <a:pt x="8369" y="17615"/>
                </a:lnTo>
                <a:close/>
              </a:path>
              <a:path fill="darken" w="27791" h="21600">
                <a:moveTo>
                  <a:pt x="15367" y="3985"/>
                </a:moveTo>
                <a:lnTo>
                  <a:pt x="19422" y="7484"/>
                </a:lnTo>
                <a:lnTo>
                  <a:pt x="1536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32720" y="4869000"/>
            <a:ext cx="1871640" cy="1409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73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1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Индивидуальны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ая карточка –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леная карточка –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620640"/>
            <a:ext cx="806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Домашнее задание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35280" y="1267920"/>
            <a:ext cx="685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Моим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за работу на уро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Желаю всем здоровья и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 Unicode MS"/>
              </a:rPr>
              <a:t>И не забудьте выполнить 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При хранении бревен строевого леса их укладывают так, как показано на рису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Сколько бревен находится в одной кладке, если в ее основание положить 12 брев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img4.jpg (4532 bytes)"/>
          <p:cNvPicPr/>
          <p:nvPr/>
        </p:nvPicPr>
        <p:blipFill>
          <a:blip r:embed="rId2"/>
          <a:stretch/>
        </p:blipFill>
        <p:spPr>
          <a:xfrm>
            <a:off x="3564000" y="1916280"/>
            <a:ext cx="254484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03280" y="189000"/>
            <a:ext cx="728352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4 Прежде распространенные везде косули сохранились лишь местами и их поголовье, которое составляло более миллиона особей резко сократилось: в 1990 году их оставалось чуть более 15000. Однако благодаря защитным мерам, принятым в отношении этого вида в 2005 году его численность достигла 60000 особей. Сколько особей пополняло ряды косулей в среднем кажд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911840"/>
            <a:ext cx="2916360" cy="194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651640" y="4840200"/>
            <a:ext cx="3024000" cy="20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348000" y="260280"/>
            <a:ext cx="5472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 Строя пирамиды для фараонов египтяне в каждом следующем ряду плит устанавливали на одну плиту меньше, чем в предыдущем. На самом верху стены возвышается одна плита. Сколько всего плит понадобится только для одной стены пирамиды, если плиты стоят в 60 ряд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айте определение арифметической  прогр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71640" y="1700280"/>
                <a:ext cx="35290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0560" y="3644640"/>
            <a:ext cx="655164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Как проверить, является ли последовательность арифметической прогрессией?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68515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верьте: является ли последовательность арифметической прогресс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2; -4; -6; -8; -10;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13; -3; 13; 23;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кажите формулу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-го члена арифметической прогресс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220464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А. а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=а</a:t>
            </a:r>
            <a:r>
              <a:rPr b="1" lang="ru-RU" sz="5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+1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Б. а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=2а</a:t>
            </a:r>
            <a:r>
              <a:rPr b="1" lang="ru-RU" sz="5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+1)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В. а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=2а</a:t>
            </a:r>
            <a:r>
              <a:rPr b="1" lang="ru-RU" sz="5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-1)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Г. а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=а</a:t>
            </a:r>
            <a:r>
              <a:rPr b="1" lang="ru-RU" sz="5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-1)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Укажите формулы суммы n первых членов арифметической прогр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40000" y="2781360"/>
                <a:ext cx="23032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24360" y="2924280"/>
                <a:ext cx="20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63640" y="4365720"/>
                <a:ext cx="330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292720" y="4292640"/>
                <a:ext cx="3083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Самостоятельная работ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точка 1 вари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2997360"/>
          <a:ext cx="8280360" cy="255564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541440" y="7920"/>
            <a:ext cx="10404720" cy="6850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549360"/>
            <a:ext cx="8424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Проверим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свои знани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амостоятельн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1716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Если верн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заполнены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8 клет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ставьте оценку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«5»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заполнены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7-6 клето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о ставьте оценку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«4»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заполнены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4-5 клет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ставьте оценку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«3»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заполнен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 клет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«2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907920"/>
          <a:ext cx="4572000" cy="2710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4179960"/>
          <a:ext cx="4643280" cy="2709720"/>
        </p:xfrm>
        <a:graphic>
          <a:graphicData uri="http://schemas.openxmlformats.org/drawingml/2006/table">
            <a:tbl>
              <a:tblPr/>
              <a:tblGrid>
                <a:gridCol w="1160640"/>
                <a:gridCol w="1161720"/>
                <a:gridCol w="1160640"/>
                <a:gridCol w="1160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6480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 Студенты должны выложить плиткой мостовую. В 1 день выложили 3 м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Приобретая опыт, студенты каждый последующий день, начиная со второго, выкладывали на 2 м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больше, чем в предыдущий. Сколько м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уложат студенты в 15-ый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7282" t="35282" r="49779" b="31157"/>
          <a:stretch/>
        </p:blipFill>
        <p:spPr>
          <a:xfrm>
            <a:off x="4643280" y="3573360"/>
            <a:ext cx="3453120" cy="3032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0836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609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414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8360" y="47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ераськина М.Г.</a:t>
            </a: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7:10:44Z</dcterms:created>
  <dc:creator>марина</dc:creator>
  <dc:description/>
  <dc:language>en-US</dc:language>
  <cp:lastModifiedBy>марина</cp:lastModifiedBy>
  <dcterms:modified xsi:type="dcterms:W3CDTF">2010-03-23T11:35:10Z</dcterms:modified>
  <cp:revision>24</cp:revision>
  <dc:subject/>
  <dc:title>Арифметическая прогрессия</dc:title>
</cp:coreProperties>
</file>