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7DD-C6B3-4B2D-8943-63687998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965-FA57-46D2-AE72-D31472C2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771-45D6-4C1D-BF5E-2CC56ADF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1AD-DF3F-48A3-BED8-769F5C6F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278-46A7-4123-85A0-7E253263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48E-052C-4C32-8D38-99D02699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2BE-21E3-41EE-90A7-327E3B74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324-9C01-40B2-8896-0F7FA9BB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35F-5ECF-41E2-83AF-DD23A9C6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2EE-7153-45B2-9E33-DB793BD3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0B3-8234-414F-8BDB-270EC85D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EB6-71D3-462B-A371-DD5FAA1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C9C2-8EBB-4795-9E5D-1E8E66DE8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 р о е к 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41300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еревенский двор»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 : Пономаренко Н.А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младшая  групп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т: окт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чен: 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проекта:  «Деревенский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выполнения проекта: долгосроч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межпредметный: задейству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и ,родители, дети, методист, музыкальный работ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характеру контактов: внутрен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личеству участников : групп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роекта : творческий ,информационный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ие, проблема: расширение и закрепление знаний и представлений о  жизни домашних животных : где они живут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ется их  жильё ,чем они питаютс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ование  проблемы  проекта: научить детей  забот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 домашних животных ,используя  посильный  труд  дет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проекта :создать условия ,чтобы ребёнок познакомилс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ими животными, расширил знания о них.Дать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 деревенском  дворе (подворь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нируемые результаты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бенок будет знать названия домашних животных  и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енышей ,их характерные особенности : как передвигаются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спят ,какие продукты питания  получает от них хозя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бенок будет уметь: правильно дать корм  (корове – се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ице - зерно),отличать одно животное от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тельная задача любовь к животным ,бережное 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продуктам питани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 презентации: Игра – инсценировка «Деревенский  дво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выставки :натуральные продукты полученные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 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чить детей располагать детали на плоскости в ряд или замыкая пространство (загородка,ворота,домик) определять из каких материалов они выполнены .Создать у детей интерес к играм  с постройкам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Знакомство детей с домашними животными и их детеныш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ть их  отличительные  особенности внешнего  вида вида .Знать ,как взрослые ухаживают за живот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чить детей составлять небольшие  предложения. Уметь  рассказывать , что видели ,куда ходили .Использовать в речи все части речи ,простые нераспространенные предложения и предложения с однородными членам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Учить лепить несложные предметы (животных)состоящие из 2-3 частей, соединяя их путем прижимания друг к  другу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лагать объединять вылепленные фигуры в коллективную композицию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Расширять знания и представления детей о жизни  домашних животных :где они живут ,как называется их жильё,чем они пита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Воспитывать любовь к домашним животным и бережное отношение к  предметам ,сделанными воспитателями и родителями с детьм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Доставить детям радость и  удовлетворение от  полученных  знаний и  умений ,чтение стихов , пение  песен и хороводов. Вызвать радостное  настроение  от праздника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765000"/>
          <a:ext cx="8229600" cy="5994720"/>
        </p:xfrm>
        <a:graphic>
          <a:graphicData uri="http://schemas.openxmlformats.org/drawingml/2006/table">
            <a:tbl>
              <a:tblPr/>
              <a:tblGrid>
                <a:gridCol w="1593720"/>
                <a:gridCol w="1297080"/>
                <a:gridCol w="1728720"/>
                <a:gridCol w="1079640"/>
                <a:gridCol w="1295280"/>
                <a:gridCol w="1235160"/>
              </a:tblGrid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и их сро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Изготовление д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чный проду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ые материа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Беседа о деревне и домашних животных ,где они живу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места макета .Изготовление мак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ять знания и представления о жизни домашних животных ,где они живут,как называется их  жильё  чем они питаютс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т до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 воспит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Сбор  фигурок  живот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животными деревенского дво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тельные особенности  взрослых и  детёныш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р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гурки  живот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еринар ,де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Составление рассказов о любимых  домашних животных и  их зарис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бом рассказов и рисунк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любви  к животным ,бережного  и заботливого отношения  к  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атели и худож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бом и  магнитофонная запи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воспит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Изучение жизни домашних животных;организация с-р игры «заготовка корма», «Кормление животных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кормушек ,заготовка к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  знаний о жизни животных ;условия  содержания ;чем питаю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еринарыФерм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о,овощи, кор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еринар  доя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240"/>
                <a:gridCol w="1371600"/>
                <a:gridCol w="1371240"/>
                <a:gridCol w="137196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Продукты  животново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продуктов о животноводстве сделанных  детьми макеты из  глины ,пластил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ять знания  о продуктах питания ,полученных от живо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на  пластели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 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Изготовление карточек для игры «Продукция  домашних животных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иг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ление о пользе домашних животных для  челове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ов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н ,картинки с продукцией домашних живот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 де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Праздник в  дерев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здник  игра-инсцинировка  «Деревенский  двор 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евчение для детей и  родител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 воспитател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юм шапочки –хозяйки  хозяина двора и живо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ый  руководитель воспитатели Роди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4:59:41Z</dcterms:created>
  <dc:creator>OEM</dc:creator>
  <dc:description/>
  <dc:language>en-US</dc:language>
  <cp:lastModifiedBy>OEM</cp:lastModifiedBy>
  <dcterms:modified xsi:type="dcterms:W3CDTF">2014-11-09T04:53:26Z</dcterms:modified>
  <cp:revision>16</cp:revision>
  <dc:subject/>
  <dc:title>п р о е к т</dc:title>
</cp:coreProperties>
</file>