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22F-EC28-4B04-B737-2066AC73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26D-950D-420D-96E1-E50A8CD7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20C-F2D1-472A-B151-D5121EC2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4DC-A7E3-4EFE-B3C9-792F8202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603-273D-4DC0-8891-9506A9F8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065-230B-4FE5-BC4D-724AB350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7E5-8CF9-4C74-894A-DCF52FCF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BB8-A762-46D8-BB50-BE500FC2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DFA-52A7-4BC7-ACCF-3E189DFD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C92-A1D0-474A-B1F6-BEA6D4C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0E0-78B8-4021-94A1-065BFC9C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F45-5034-405B-A8DF-E6549B3B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EEBF-5808-4918-AD3E-A733134C2B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br>
              <a:rPr sz="4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 аттестации педагогических работников организаций, осуществляющих образовательную деятельность на территории Ханты-Мансийского автономного округа - Югр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 27.08.2014 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 2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дставление о педагогической профессии и профессиональной мис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5. Участие в проектировании и реализации инициатив по развитию взаимодействия с социальными партнерами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6. Участие в проектировании и реализации инициатив по развитию взаимодействия с родителями обучаю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7. Согласованность инициатив со стратегическими ориентирами развития образования в автономном округе (приводятся аргументы с опорой на нормативно-правовые документ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8. Наличие отмеченных профессиональных достижений (государственные награды, почетные звания, отраслевые знаки отличия, достижения на профессиональных конкурса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3. Профессиона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41300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1. Обеспечение образовательного процесса программно­методической документацией (образовательная программа, рабочая программа и ее методическое обеспечени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2. Использование современных оценочных средств, в том числе с применением информационно-коммуникационных технологий, для оценки планируемых результа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3. Учет индивидуальных особенностей учащихся в построении образовательного процесса, выборе образовательных технологий, методик обучения (показывается, к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яются и развиваются способности обучающихся к научной (интеллектуальной), творческой деятель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3. Профессиона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4. Участие в инновационной или в экспериментальной деятельности (до 01.09.2013), в работе стажировочных и пилотных площад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5. Транслирование в педагогических коллективах опыта практических результато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6. Участие обучающихся в олимпиадах, конкурсах, фестивалях, соревнованиях по профилю профессиональной деятельности педагога различных уров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3. Профессиона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7. Участие обучающихся во внеурочной деятельности, дополнительном образовании по профилю профессиональной деятельности педагога различных уров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8. Экспертная деятельность (работа в качестве эксперта по аккредитации образовательных программ, эксперта по контролю качества, эксперта по аттестации педагогических работников, работа в комиссиях по итоговой государственной аттестации, работа в составе жюри конкурсов; руководство методическими объедин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4. Результаты профессиональ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484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1. Результаты освоения обучающимися образовательных программ по итогам мониторингов, проводимых организ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2. Результаты освоения образовательных программ по итогам мониторинга системы образования, проводимого в порядке, установленном постановлением Правительства Российской Федерации от № 662 «Об осуществлении мониторинга системы образова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3. Результаты участия обучающихся в очных предметных олимпиадах, официальных конкурсах и соревнованиях по профилю профессиона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4. Результаты профессиональ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4. Наличие реализованных значимых для организации инициатив, осуществленных во взаимодействии с коллег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5. Наличие значимых для организации результатов, достигнутых во взаимодействии с социальными партне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6. Наличие преодоленных во взаимодействи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ями проблемных обучаю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5. Перспективы развития профессиональ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1. Наличие целей и задач развития собственной профессиональной деятельности, соответствующих стратегии развития образовательной организации и системы образования автономного о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2. Соответствие собственных профессиональных целей и задач уровню своего профессионального образования и планам его повы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3. Соответствие собственных профессиональных задач уровню своей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ая задача, содержание которой основано на реализуемых педагогическим работником трудовых функц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задания на странице «Аттестация педагогических работников» официального сайта Института в сети Интер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6.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ая оце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онно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 бал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ттестационное задание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Текс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м до 10 страниц формата А4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основанием предлагаемого реш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ствен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ответствующий содержанию задания (рабочая программа учебной дисциплины, конспект учебного занятия, программа, проект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работайте рекомендации для молодого педагога по использованию информационных технологий при реализации образовательной (рабочей) программы (на примере конкретного предмета, дисциплины, курса). Укажите,  какие нормативно-правовые документы вы использовали при разработке рекомендац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рабочая программа учебной дисциплины, предмета, кур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лгоритм проведения аттестаци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3 этап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вый этап – подготовительн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торой этап - оценка профессиональной деятельно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етий этап - заключительны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м образом педагог может изучить индивидуальные особенности обучающихся? Предложите пакет диагностического инструментария с учетом педагогических, психологических и правовых асп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кет диагностическ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нструмента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йте сценарий конкретного мероприятия с участием родителей (для основных общеобразовательных программ мероприятие может быть в рамках как урочной, так и внеурочной деятельности), опишите место и роль этого мероприятия в образовательном процесс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грамма, проект, сценар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йте варианты программы организации индивидуального обучения для обучающихся с особыми образовательными потребностями (одаренные, испытывающие трудности в обучении). Опишите особенности программы организации индивидуального обучения и возможные трудности в организации образовательного процесса. Укажите, какие нормативные документы Вы использовали при составлении программы организации индивидуального обу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й учебный п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013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ите вариант рабочей программы преподаваемой Вами учебной дисциплины (предмета, курса), учитывающей региональные,  этнокультурные особенности и потребности обучаю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чая программа учеб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исциплины, предмета, кур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139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аким образом педагог может включиться сам и включить коллег в командную работу в рамках реализации целей образовательной программы? Предложите технологию (методику) организации командной работы в педагогическом коллективе Вашей образовательной организации по  разработке образовательного проек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чая программа учеб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исциплины, предмета, кур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ервая квалификационная категор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лов за отчет о самообследова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за решение аттестационного зад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ысшая квалификационная категор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 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за отчет о самообследова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лов за решение аттестационного зад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сновании результатов оценки профессиональной деятельности аттестационная комиссия принимает одно из следующих реш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ить первую (высшую) квалификационную категори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азать в установлении первой (высшей) квалификационной категори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снования для упрощенной процедуры аттест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ка профессиональной деятельности педагогических работников по результатам анализа отчета о самообследован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выполнения аттестационного зад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е работники, имеющие почетные зва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395280" y="1484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«Почетный работник обще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начального профессионально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среднего профессионально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высшего профессионально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науки и техники Российской Федерации»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омственные награды (медаль К.Д.Ушинского; нагрудный знак: «За развитие научно-исследовательской работы студентов», «За милосердие и благотворительность»; Почетная грамота Министерства образования и науки Российской Федерации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е награды, полученные за достижения в педагогической деятельности, ученые степени «кандидат наук», «доктор нау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еподаватели, которы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541800" y="1484280"/>
            <a:ext cx="9434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жаттестационный период являются победителями конкурсного отбора лучших учителей на федеральном и региональном уровня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жаттестационный период являются победителями во Всероссийских конкурсах профессионального мастерства, учредителем которых является Министерство образования и науки Российской Федерации, Министерство культуры Российской Федер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этап - подготовител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работник, проанализировав результаты своей деятельности относительно требований к квалификационным категориям, подает в аттестационную комиссию заявление об аттестации в форме электронного документа установленного образца с использованием сети «Интернет» на сайт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att.doinhmao.r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еподаватели, которы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24360" y="1699920"/>
            <a:ext cx="9021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жаттестационный период подготовили победителей или призеров (1-3 место) регионального этапа Всероссийской олимпиады школьников, заключительного этапа Всероссийской олимпиады школьников, международных предметных олимпиад, Всероссийских олимпиад профессионального мастерства, иных мероприятий, включенных в федеральный перечень мероприятий для обучающихся на соответствующий год, утвержденный уполномоченным федеральным органом государственной вла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этап - оценка профессиональной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экспертизы предполагает комплексный анализ следующих материалов, направленных педагогическим работником в Институт с использованием сети «Интернет» на адре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лектронной фор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чет о самообследова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полненное аттестационное зад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тчет о самообследова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ст (до 5 страниц формата А4), раскрывающий особенности профессиональной деятельности аттестуемого педаг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ально возможная оценка составля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5 б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сылки на страницы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b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сай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ы организации, в которой педагогический работник осуществляет педагогическую дея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ы сетевых педагогических сообществ и средств массовой информации, где размещены публикации педагогического работ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ые сайты по усмотрению педагогического работника, где представлены результаты его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ложение к отчету о самообследова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енные данные в таблицах и графиках, подтверждающ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отч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м не более основ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и отч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уктура и содержание отчета о самообследова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34100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 Профессиональн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1. Наличие образования по профилю профессиональной деятельност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2. Соответствие дополнительного профессионального образования полученного в межаттестационный период, профилю профессиональной деятельности, стратегическим ориентирам развития образования в автономном округе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3. Применение результатов дополнительного профессионального образования в педагогической деятельност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4. Самообразование и профессиональное развитие (в любых формах, применяемых по усмотрению педагога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5. Соответствие планируемого самообразования, повышения квалификации или переподготовки профилю профессиональной деятельности, стратегическим ориентирам развит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бразования в автономном округ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 2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дставление о педагогической профессии и профессиональной мис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34100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1. Формулирование конкретных целей профессиональной деятельности, связанных с образованием обучаю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2. Формулирование конкретных целей профессиональной деятельности, связанных с эффективностью работы образовательной организ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3. Участие в проектировании и реализации педагогических инициатив, связанных с образованием обучаю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4. Участие в проектировании и реализаци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ициатив, связанных с эффективностью работы образовательной организ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ДШИ корпус 2</cp:lastModifiedBy>
  <dcterms:modified xsi:type="dcterms:W3CDTF">2014-09-26T05:56:24Z</dcterms:modified>
  <cp:revision>17</cp:revision>
  <dc:subject/>
  <dc:title>Слайд 1</dc:title>
</cp:coreProperties>
</file>