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E164-42F8-41B7-9F6B-C5855B19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5E42-77CA-47A7-AB3D-0B6397B2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CC32-91C7-409E-A254-57D841D2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D1FE-51BE-43A4-83DD-762AB75F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9AF0-0428-4C33-BDBD-2308B370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801C-80C6-41E5-85B0-A758428D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A1E2-4366-4A73-B0A6-394A1AFF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65A7-3B89-49E4-988C-B0A72505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47EA-3479-40C3-9CE9-9B444E84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488-5244-4506-931C-3CD0835A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BB8A-D527-4449-B1B7-62452BC2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4732-BFD6-4F3F-B711-C8ECB81C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E5AE-6C12-4EBB-AC89-62C9D0FF41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ПРИКАЗ</a:t>
            </a:r>
            <a:br>
              <a:rPr sz="42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 аттестации педагогических работников организаций, осуществляющих образовательную деятельность на территории Ханты-Мансийского автономного округа - Югры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т 27.08.2014 г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дел 2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едставление о педагогической профессии и профессиональной мисс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4000" y="119700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5. Участие в проектировании и реализации инициатив по развитию взаимодействия с социальными партнерами образовательной организ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6. Участие в проектировании и реализации инициатив по развитию взаимодействия с родителями обучающих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7. Согласованность инициатив со стратегическими ориентирами развития образования в автономном округе (приводятся аргументы с опорой на нормативно-правовые документы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8. Наличие отмеченных профессиональных достижений (государственные награды, почетные звания, отраслевые знаки отличия, достижения на профессиональных конкурсах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 3. Профессиональная дея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413000"/>
            <a:ext cx="8820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1. Обеспечение образовательного процесса программно­методической документацией (образовательная программа, рабочая программа и ее методическое обеспечени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2. Использование современных оценочных средств, в том числе с применением информационно-коммуникационных технологий, для оценки планируемых результа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3. Учет индивидуальных особенностей учащихся в построении образовательного процесса, выборе образовательных технологий, методик обучения (показывается, ка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являются и развиваются способности обучающихся к научной (интеллектуальной), творческой деятельнос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 3. Профессиональная дея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4000" y="119700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4. Участие в инновационной или в экспериментальной деятельности (до 01.09.2013), в работе стажировочных и пилотных площад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5. Транслирование в педагогических коллективах опыта практических результато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6. Участие обучающихся в олимпиадах, конкурсах, фестивалях, соревнованиях по профилю профессиональной деятельности педагога различных уровн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 3. Профессиональная дея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119700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7. Участие обучающихся во внеурочной деятельности, дополнительном образовании по профилю профессиональной деятельности педагога различных уровн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8. Экспертная деятельность (работа в качестве эксперта по аккредитации образовательных программ, эксперта по контролю качества, эксперта по аттестации педагогических работников, работа в комиссиях по итоговой государственной аттестации, работа в составе жюри конкурсов; руководство методическими объединениям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 4. Результаты профессиональн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148428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1. Результаты освоения обучающимися образовательных программ по итогам мониторингов, проводимых организац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2. Результаты освоения образовательных программ по итогам мониторинга системы образования, проводимого в порядке, установленном постановлением Правительства Российской Федерации от № 662 «Об осуществлении мониторинга системы образования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3. Результаты участия обучающихся в очных предметных олимпиадах, официальных конкурсах и соревнованиях по профилю профессиональной деятельности педаго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 4. Результаты профессиональн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4. Наличие реализованных значимых для организации инициатив, осуществленных во взаимодействии с коллег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5. Наличие значимых для организации результатов, достигнутых во взаимодействии с социальными партнер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6. Наличие преодоленных во взаимодействии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телями проблемных обучающих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аздел 5. Перспективы развития профессиональн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1. Наличие целей и задач развития собственной профессиональной деятельности, соответствующих стратегии развития образовательной организации и системы образования автономного округ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2. Соответствие собственных профессиональных целей и задач уровню своего профессионального образования и планам его повыш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3. Соответствие собственных профессиональных задач уровню своей профессиональной деяте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ттестационное задани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фессиональная задача, содержание которой основано на реализуемых педагогическим работником трудовых функци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задания на странице «Аттестация педагогических работников» официального сайта Института в сети Интерн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//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ro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6.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ксимально возможная оцен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тестационного зад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ляе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 балл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Аттестационное задание 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Текст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а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ъем до 10 страниц формата А4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яснительная записк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обоснованием предлагаемого реш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ственн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кумен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оответствующий содержанию задания (рабочая программа учебной дисциплины, конспект учебного занятия, программа, проект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ттестационное задание №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азработайте рекомендации для молодого педагога по использованию информационных технологий при реализации образовательной (рабочей) программы (на примере конкретного предмета, дисциплины, курса). Укажите,  какие нормативно-правовые документы вы использовали при разработке рекомендаци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рабочая программа учебной дисциплины, предмета, кур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лгоритм проведения аттестации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 3 этап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рвый этап – подготовительный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торой этап - оценка профессиональной деятельност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ретий этап - заключительны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ттестационное задание №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м образом педагог может изучить индивидуальные особенности обучающихся? Предложите пакет диагностического инструментария с учетом педагогических, психологических и правовых аспек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акет диагностическог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нструмента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ттестационное задание № 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айте сценарий конкретного мероприятия с участием родителей (для основных общеобразовательных программ мероприятие может быть в рамках как урочной, так и внеурочной деятельности), опишите место и роль этого мероприятия в образовательном процесс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ограмма, проект, сценар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ттестационное задание № 4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айте варианты программы организации индивидуального обучения для обучающихся с особыми образовательными потребностями (одаренные, испытывающие трудности в обучении). Опишите особенности программы организации индивидуального обучения и возможные трудности в организации образовательного процесса. Укажите, какие нормативные документы Вы использовали при составлении программы организации индивидуального обуч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ндивидуальный учебный пл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ттестационное задание № 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0139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ложите вариант рабочей программы преподаваемой Вами учебной дисциплины (предмета, курса), учитывающей региональные,  этнокультурные особенности и потребности обучающих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бочая программа учебн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дисциплины, предмета, кур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ттестационное задание № 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0139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аким образом педагог может включиться сам и включить коллег в командную работу в рамках реализации целей образовательной программы? Предложите технологию (методику) организации командной работы в педагогическом коллективе Вашей образовательной организации по  разработке образовательного проект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бочая программа учебн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дисциплины, предмета, кур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Первая квалификационная категория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мене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ллов за отчет о самообследован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мене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баллов за решение аттестационного зад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Высшая квалификационная категория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 не мене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баллов за отчет о самообследован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не мене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ллов за решение аттестационного зад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II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эта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основании результатов оценки профессиональной деятельности аттестационная комиссия принимает одно из следующих решен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тановить первую (высшую) квалификационную категорию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азать в установлении первой (высшей) квалификационной категории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снования для упрощенной процедуры аттестац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ценка профессиональной деятельности педагогических работников по результатам анализа отчета о самообследован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з выполнения аттестационного зад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едагогические работники, имеющие почетные звания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395280" y="1484280"/>
            <a:ext cx="8064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«Почетный работник общего образования Российской Федерации»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Почетный работник начального профессионального образования Российской Федерации»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Почетный работник среднего профессионального образования Российской Федерации»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Почетный работник высшего профессионального образования Российской Федерации»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Почетный работник науки и техники Российской Федерации»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домственные награды (медаль К.Д.Ушинского; нагрудный знак: «За развитие научно-исследовательской работы студентов», «За милосердие и благотворительность»; Почетная грамота Министерства образования и науки Российской Федерации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ые награды, полученные за достижения в педагогической деятельности, ученые степени «кандидат наук», «доктор наук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еподаватели, которы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541800" y="1484280"/>
            <a:ext cx="9434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ежаттестационный период являются победителями конкурсного отбора лучших учителей на федеральном и региональном уровня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ежаттестационный период являются победителями во Всероссийских конкурсах профессионального мастерства, учредителем которых является Министерство образования и науки Российской Федерации, Министерство культуры Российской Федер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этап - подготовител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ий работник, проанализировав результаты своей деятельности относительно требований к квалификационным категориям, подает в аттестационную комиссию заявление об аттестации в форме электронного документа установленного образца с использованием сети «Интернет» на сайт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att.doinhmao.r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еподаватели, которы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24360" y="1699920"/>
            <a:ext cx="9021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ежаттестационный период подготовили победителей или призеров (1-3 место) регионального этапа Всероссийской олимпиады школьников, заключительного этапа Всероссийской олимпиады школьников, международных предметных олимпиад, Всероссийских олимпиад профессионального мастерства, иных мероприятий, включенных в федеральный перечень мероприятий для обучающихся на соответствующий год, утвержденный уполномоченным федеральным органом государственной вла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этап - оценка профессиональной деятельно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экспертизы предполагает комплексный анализ следующих материалов, направленных педагогическим работником в Институт с использованием сети «Интернет» на адрес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@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6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электронной форм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чет о самообследован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полненное аттестационное зада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тчет о самообследован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кст (до 5 страниц формата А4), раскрывающий особенности профессиональной деятельности аттестуемого педаго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ксимально возможная оценка составля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5 бал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Ссылки на страницы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eb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-сай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йты организации, в которой педагогический работник осуществляет педагогическую деятельн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йты сетевых педагогических сообществ и средств массовой информации, где размещены публикации педагогического работни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ые сайты по усмотрению педагогического работника, где представлены результаты его педагог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иложение к отчету о самообследован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енные данные в таблицах и графиках, подтверждающ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ание отч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ем не более основн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и отче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труктура и содержание отчета о самообследован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341000"/>
            <a:ext cx="88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дел 1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. Профессиональное образ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1.1. Наличие образования по профилю профессиональной деятельност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1.2. Соответствие дополнительного профессионального образования полученного в межаттестационный период, профилю профессиональной деятельности, стратегическим ориентирам развития образования в автономном округе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1.3. Применение результатов дополнительного профессионального образования в педагогической деятельност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1.4. Самообразование и профессиональное развитие (в любых формах, применяемых по усмотрению педагога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1.5. Соответствие планируемого самообразования, повышения квалификации или переподготовки профилю профессиональной деятельности, стратегическим ориентирам развития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бразования в автономном округ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дел 2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едставление о педагогической профессии и профессиональной мисс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4000" y="1341000"/>
            <a:ext cx="88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1. Формулирование конкретных целей профессиональной деятельности, связанных с образованием обучающихс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2. Формулирование конкретных целей профессиональной деятельности, связанных с эффективностью работы образовательной организац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3. Участие в проектировании и реализации педагогических инициатив, связанных с образованием обучающихс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4. Участие в проектировании и реализации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нициатив, связанных с эффективностью работы образовательной организац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ДШИ корпус 2</cp:lastModifiedBy>
  <dcterms:modified xsi:type="dcterms:W3CDTF">2014-09-26T05:56:24Z</dcterms:modified>
  <cp:revision>17</cp:revision>
  <dc:subject/>
  <dc:title>Слайд 1</dc:title>
</cp:coreProperties>
</file>