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A6E-C9BA-4054-A1CB-4A3D893E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CF4-C871-4031-AFED-28FEAF2A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34D-F379-4D4C-AAD7-34783D29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527-7DC5-4BC6-A843-D8B913C2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3A5-1096-40A1-AB63-D39FBCFD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C69-31A9-496D-A83B-2B56FCD7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871-DCED-44E8-8F1C-778D5E2E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43F-C5BB-4FA2-86D8-970DBAB8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BF1-C2FC-44F1-B59A-A8ADCF6B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AAB-9979-4B9D-9006-A11AF331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52B-ED3E-49C3-9EDB-A020C31E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6D0-1E3E-415E-8029-579DFCD2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687F-7723-4A39-9382-64107C0CFC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lex.ru/catalog/stanki_sverlilnye_frezernye/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2;&#1077;&#1090;&#1072;&#1083;&#1083;&#1086;&#1088;&#1077;&#1078;&#1091;&#1097;&#1080;&#1081;_&#1089;&#1090;&#1072;&#1085;&#1086;&#1082;" TargetMode="External"/><Relationship Id="rId3" Type="http://schemas.openxmlformats.org/officeDocument/2006/relationships/hyperlink" Target="https://ru.wikipedia.org/wiki/&#1050;&#1083;&#1072;&#1089;&#1089;&#1080;&#1092;&#1080;&#1082;&#1072;&#1094;&#1080;&#1103;" TargetMode="External"/><Relationship Id="rId4" Type="http://schemas.openxmlformats.org/officeDocument/2006/relationships/hyperlink" Target="https://ru.wikipedia.org/wiki/&#1060;&#1088;&#1077;&#1079;&#1072;" TargetMode="External"/><Relationship Id="rId5" Type="http://schemas.openxmlformats.org/officeDocument/2006/relationships/hyperlink" Target="https://ru.wikipedia.org/wiki/&#1064;&#1087;&#1080;&#1085;&#1076;&#1077;&#1083;&#1100;" TargetMode="External"/><Relationship Id="rId6" Type="http://schemas.openxmlformats.org/officeDocument/2006/relationships/hyperlink" Target="https://ru.wikipedia.org/wiki/&#1047;&#1072;&#1075;&#1086;&#1090;&#1086;&#1074;&#1082;&#1072;" TargetMode="External"/><Relationship Id="rId7" Type="http://schemas.openxmlformats.org/officeDocument/2006/relationships/hyperlink" Target="https://ru.wikipedia.org/wiki/&#1063;&#1055;&#1059;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s://ru.wikipedia.org/wiki/&#1060;&#1088;&#1077;&#1079;&#1072;" TargetMode="External"/><Relationship Id="rId10" Type="http://schemas.openxmlformats.org/officeDocument/2006/relationships/hyperlink" Target="https://ru.wikipedia.org/wiki/&#1047;&#1072;&#1075;&#1086;&#1090;&#1086;&#1074;&#1082;&#1072;" TargetMode="External"/><Relationship Id="rId11" Type="http://schemas.openxmlformats.org/officeDocument/2006/relationships/hyperlink" Target="https://ru.wikipedia.org/wiki/&#1060;&#1088;&#1077;&#1079;&#1072;" TargetMode="Externa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5640" y="5950080"/>
            <a:ext cx="51847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4280"/>
            <a:ext cx="446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я фрезер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т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720" y="5903280"/>
            <a:ext cx="27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чёв Владим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5157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 ученик 8 Б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Ш № 93 г. Нижнего Нов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628640"/>
            <a:ext cx="4680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езерный станок для обработки казенной части ствола Тульского оружейного завода 1825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&amp;Fcy;&amp;rcy;&amp;iecy;&amp;zcy;&amp;iecy;&amp;rcy;&amp;ncy;&amp;ycy;&amp;jcy; &amp;scy;&amp;tcy;&amp;acy;&amp;ncy;&amp;ocy;&amp;kcy; &amp;Tcy;&amp;ucy;&amp;lcy;&amp;softcy;&amp;scy;&amp;kcy;&amp;ocy;&amp;gcy;&amp;ocy; &amp;zcy;&amp;acy;&amp;vcy;&amp;ocy;&amp;dcy;&amp;acy;  &amp;dcy;&amp;lcy;&amp;yacy; &amp;scy;&amp;tcy;&amp;vcy;&amp;ocy;&amp;lcy;&amp;ocy;&amp;vcy;. 1826 &amp;gcy;..JPG"/>
          <p:cNvPicPr/>
          <p:nvPr/>
        </p:nvPicPr>
        <p:blipFill>
          <a:blip r:embed="rId2"/>
          <a:stretch/>
        </p:blipFill>
        <p:spPr>
          <a:xfrm>
            <a:off x="5126040" y="620640"/>
            <a:ext cx="378000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40208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аздо ближе к современной конструкции фрезерный станок, который построила американская фирма «Гай, Сильвестр и Ко» в 1835 году. Агрегат стоял на деревянной колоде, главное движение образовывал шкив с плоскоременной передачей. Рядом крепилось зубчатое колесо, посаженное на оправку. На этой оправке прикреплялась фреза, которую использовали для обработки плоскостей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Gcy;&amp;ocy;&amp;rcy;&amp;icy;&amp;zcy;&amp;ocy;&amp;ncy;&amp;tcy;&amp;acy;&amp;lcy;&amp;softcy;&amp;ncy;&amp;ocy; &amp;fcy;&amp;rcy;&amp;iecy;&amp;zcy;&amp;iecy;&amp;rcy;&amp;ncy;&amp;ycy;&amp;jcy; &amp;scy;&amp;tcy;&amp;acy;&amp;ncy;&amp;ocy;&amp;kcy; &amp;Gcy;&amp;rcy;&amp;ecy;&amp;yacy; &amp;scy; &amp;dcy;&amp;vcy;&amp;ucy;&amp;khcy;&amp;ocy;&amp;pcy;&amp;ocy;&amp;rcy;&amp;ncy;&amp;ycy;&amp;mcy; &amp;shcy;&amp;pcy;&amp;icy;&amp;ncy;&amp;dcy;&amp;iecy;&amp;lcy;&amp;iecy;&amp;mcy;. 1835 &amp;gcy;..jpg"/>
          <p:cNvPicPr/>
          <p:nvPr/>
        </p:nvPicPr>
        <p:blipFill>
          <a:blip r:embed="rId2"/>
          <a:stretch/>
        </p:blipFill>
        <p:spPr>
          <a:xfrm>
            <a:off x="5076720" y="620640"/>
            <a:ext cx="39164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413000"/>
            <a:ext cx="3276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анке Гая использовалось устройство для вертикального перемещения фрезы. Вслед за ним появился и станок для массового производства невоенного характера — его применяли для фрезерования граней гаек. Таким станком стал инструмент фирмы Нэсмит и Гейскел из Манчестер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1840 &amp;fcy;&amp;rcy;&amp;iecy;&amp;zcy; &amp;Ncy;&amp;iecy;&amp;scy;&amp;mcy;&amp;icy;&amp;tcy; &amp;dcy;&amp;lcy;&amp;yacy; &amp;gcy;&amp;acy;&amp;iecy;&amp;kcy;. 1.JPG"/>
          <p:cNvPicPr/>
          <p:nvPr/>
        </p:nvPicPr>
        <p:blipFill>
          <a:blip r:embed="rId2"/>
          <a:stretch/>
        </p:blipFill>
        <p:spPr>
          <a:xfrm>
            <a:off x="3816360" y="765000"/>
            <a:ext cx="518328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-360" y="1700280"/>
            <a:ext cx="3816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изонтально фрезерный станок Несмита 1840 г. Приспособление для поворота и фиксации даже на сегодняшний день актуально если учесть что можно устанавливать и фрезеровать несколько мелких гаек сразу , сейчас применяется при мелкосерийном производстве. Движение каретки обеспечивается храповым механизмом. Дело Уитни не стоит на месте появляются 3 х опорные фрезерные станки с вертикальной подачей от прарод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&amp;Fcy;&amp;rcy;&amp;iecy;&amp;zcy;. &amp;ncy;&amp;iecy;&amp;scy;&amp;mcy;&amp;icy;&amp;tcy; &amp;dcy;&amp;lcy;&amp;yacy; &amp;gcy;&amp;acy;&amp;iecy;&amp;kcy;. 2.JPG"/>
          <p:cNvPicPr/>
          <p:nvPr/>
        </p:nvPicPr>
        <p:blipFill>
          <a:blip r:embed="rId2"/>
          <a:stretch/>
        </p:blipFill>
        <p:spPr>
          <a:xfrm>
            <a:off x="3924360" y="907920"/>
            <a:ext cx="499104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&amp;gcy;&amp;ocy;&amp;rcy;&amp;icy;&amp;zcy;&amp;ocy;&amp;ncy;&amp;tcy;&amp;acy;&amp;lcy;&amp;softcy;&amp;ncy;&amp;ycy;&amp;jcy; 3 &amp;khcy; &amp;ocy;&amp;pcy;&amp;ocy;&amp;rcy;&amp;ncy;&amp;ycy;&amp;jcy; 3.JPG"/>
          <p:cNvPicPr/>
          <p:nvPr/>
        </p:nvPicPr>
        <p:blipFill>
          <a:blip r:embed="rId2"/>
          <a:stretch/>
        </p:blipFill>
        <p:spPr>
          <a:xfrm>
            <a:off x="179280" y="1916280"/>
            <a:ext cx="4302360" cy="4587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58920" y="550800"/>
            <a:ext cx="76341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1840 по 1860 годы, была эпоха разработки для успешного фрезерного станка Линкольна Миллера. Различные компании производили фрезерные станки на общей конфигурации. "George S. Lincoln &amp; Co." изготовлен первый, действительно коммерческий фрезерный станок, в 1855 году. В данный период машина получила название как "фрезерный станок"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Lincoln_mille.  4.jpg"/>
          <p:cNvPicPr/>
          <p:nvPr/>
        </p:nvPicPr>
        <p:blipFill>
          <a:blip r:embed="rId3"/>
          <a:stretch/>
        </p:blipFill>
        <p:spPr>
          <a:xfrm>
            <a:off x="4643280" y="1844640"/>
            <a:ext cx="450072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8101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"Brown &amp; Sharpe" были первыми, чтобы сделать универсальный фрезерный станок в 1861, который был уникальным по конструкции и самой функции. Запатентованная машина фрезы использовала точенные зубья, и не изменила линии геометр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&amp;Bcy;&amp;rcy;&amp;ocy;&amp;ucy;&amp;ncy; &amp;icy; &amp;SHcy;&amp;acy;&amp;rcy;&amp;pcy; 1861 &amp;gcy;..JPG"/>
          <p:cNvPicPr/>
          <p:nvPr/>
        </p:nvPicPr>
        <p:blipFill>
          <a:blip r:embed="rId2"/>
          <a:stretch/>
        </p:blipFill>
        <p:spPr>
          <a:xfrm>
            <a:off x="611280" y="1844640"/>
            <a:ext cx="3398760" cy="4510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Brown-and-Sharpe-universal-miller-1861 &amp;gcy;..JPG"/>
          <p:cNvPicPr/>
          <p:nvPr/>
        </p:nvPicPr>
        <p:blipFill>
          <a:blip r:embed="rId3"/>
          <a:stretch/>
        </p:blipFill>
        <p:spPr>
          <a:xfrm>
            <a:off x="5435640" y="1844640"/>
            <a:ext cx="31068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4402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закончить обзор состояния фрезерных станков к середине XIX в., приведем еще один чертеж станка, который хотя и применялся на оружейном заводе, но не являлся специализированным, так что мог служить в любой отрасли производства. На рис. 117 показан чертеж горизонтально-фрезерного станка Ижевского оружейного завода, снятый с натуры в 1862 г. Станок был предназначен для обработки набором фрез, собранных на одной оправке. Устройство станка настолько просто, что не требует специальных пояснений. Этот станок, совсем не имевший в своей конструкции каких-либо следов младенческого периода станкостроения, был устроен просто и целесообразн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&amp;Icy;&amp;zhcy;&amp;iecy;&amp;vcy;&amp;scy;&amp;kcy;&amp;icy;&amp;jcy; &amp;fcy;&amp;rcy;&amp;iecy;&amp;zcy;&amp;iecy;&amp;rcy;&amp;ncy;&amp;ycy;&amp;jcy;..JPG"/>
          <p:cNvPicPr/>
          <p:nvPr/>
        </p:nvPicPr>
        <p:blipFill>
          <a:blip r:embed="rId2"/>
          <a:stretch/>
        </p:blipFill>
        <p:spPr>
          <a:xfrm>
            <a:off x="4427640" y="1052640"/>
            <a:ext cx="45720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озеф Роу, изобретатель многих устройств, создал первый настоящий фрезерный станок, 1912 - 1916 годов. Роберт С. Вудбери и другие ученые улучшили дизайн и действие первого настоящего фрезерного станка Роу. Джонсон, Джон Холл, Симеон Севера, Росуелл Ли и Томас Бланчард - это несколько имен ученых и инженеров, которые внесли вклад в развитие и усовершенствование предыдущих конфигураций фрезерных устр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70 до середины двадцатого века, до Первой мировой войны, различные другие фрезерные станки появились, как универсальные машины, для инструментальных цехов, мастерских и промышленного ис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Первой мировой войны, новые прогрессивные версии фрезерных станков, в том числе, джиг машина и устройство с ЧПУ технологией, пришли, с различными функциями и возмож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тояще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447516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фрезерный станок — многофункциональный инструмент, оснащенный режущим элементом – фрезой, вращение которой обеспечивает обработку металлической поверхности. Движение поверхности, может осуществляться либо вручную, либо с помощью привода. Металлообрабатывающие станки могут быть различных видов, масштабов, оснащены дополнительным электронным управлением, например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резерные станки с ЧП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Такое оборудование позволит обработать поверхность, в том числе трехмерную, с высокой точностью и обеспечит стабильное качество, если это серийное производ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371840" y="1628640"/>
            <a:ext cx="4772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больше напоминает космическую тех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4211640" cy="3989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03640" y="1844640"/>
            <a:ext cx="504036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5651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е́зерные станки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группа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еталлорежущих стан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лассифик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виду обработки. Фрезерные станки предназначены для обработки с помощью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фрез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лоских и фасонных поверхностей, тел вращения, зубчатых колёс и т.п. металлических и других заготовок. При этом фреза, закрепленная 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шпинде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резерного станка, совершает вращательное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лав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движение, а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заготов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акреплённая на столе, совершае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вижение пода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ямолинейное или криволинейное (иногда осуществляется одновременно вращающимся инструментом). Управление может быть ручным, автоматизированным или осуществляться с помощью системы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ЧП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5724360" y="1916280"/>
            <a:ext cx="3240360" cy="191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24360" y="3933720"/>
            <a:ext cx="32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аллорежущий инструмент фрезерной группы станков. Концевые фрез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0200" y="5589720"/>
            <a:ext cx="8713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фрезерных станках главным движением является вращен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фрез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движение подачи — относительное перемещен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загото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фрез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855800"/>
            <a:ext cx="61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ми фрезерными станками были зубофрезерные , фрезы не затачивали после затупления а отпускали , насекали по новой и закаливали . Первые зубофрезерные станки построены французскими часовщиками , описаны в работе французского инженера Н. Биона 1709 г. "устройство для делания и нарезания колес и шестерен для часов или платформа для часовщиков" . Более совершенные станки есть в книгах Ф. Берту 1763 г. Я. Леупольда 1724 г. А. К. Нартова 1742 г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ятие фрезерного станка ввёл известный деятель 16 в Леонардо Да Винчи, нарисовав эскиз станка, состоявшего из круглого, вращающегося напильника. Станок похожего вида с вращающимся напильником был обнаружен в Пекине. Никаких картинок и ссылок в рукописях Леонардо да Винчи н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онце 18 века применялась фреза в виде оливки из закаленной стали с насечеными зубьями, как у напильника. Форма фрезы напоминала ягоду земляники, откуда и произошло название этого инструмента , la fraise по-французски — земля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443640" y="1125360"/>
            <a:ext cx="20923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74390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езерный станок был изобретен Фердинанндом Фербистом в Китае в 1668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31669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заказу императора для изготовления астрономического прибора потребовалось бронзовое кольцо. Отлитую заготовку положили на каменный фундамент и металлическими щетками-фрезами укрепленными на доске , вращали с помощью осла. На фрезы -щетки укладывался груз для вреза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&amp;Fcy;&amp;iecy;&amp;rcy;&amp;dcy;&amp;icy;&amp;ncy;&amp;acy;&amp;ncy;&amp;dcy; &amp;Fcy;&amp;iecy;&amp;rcy;&amp;bcy;&amp;icy;&amp;scy;&amp;tcy;..JPG"/>
          <p:cNvPicPr/>
          <p:nvPr/>
        </p:nvPicPr>
        <p:blipFill>
          <a:blip r:embed="rId2"/>
          <a:stretch/>
        </p:blipFill>
        <p:spPr>
          <a:xfrm>
            <a:off x="3995640" y="1916280"/>
            <a:ext cx="499284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90756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идея применения фрез для обработки плоскостей возникла достаточно давно. Однако лишь в начале XIX в. требования производства вызвали к жизни первые конструкции станков, имевших промышленное значени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325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 второй четверти XVIII в. относится описанный А. К. Нартовым в рукописи «Театрум Махинарум» станок для фрезерования сфероидальных углублений на художественных изделиях из кости. Таким образом, промышленному применению фрезерования поверхностей предшествовало его использование вне сферы основного общественного производ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400212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м изобретателем фрезерного станка для производства оружия был Или Уитн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356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в подряд на изготовление 10.000 ружей ему пришлось решать не только экономические вопросы но и технические. Первый фрезерный операционный станок. Детали обрабатывались по лекалу методом обката фрезой , требовала большой квалификации рабочего. Для каждой операции был сделан стан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&amp;Fcy;&amp;rcy;&amp;iecy;&amp;zcy;&amp;iecy;&amp;rcy;&amp;ncy;&amp;ycy;&amp;jcy; &amp;scy;&amp;tcy;&amp;acy;&amp;ncy;&amp;ocy;&amp;kcy; &amp;Ecy;&amp;lcy;&amp;icy; &amp;Ucy;&amp;icy;&amp;tcy;&amp;ncy;&amp;icy; 1807-1809 &amp;gcy;. (2).jpg"/>
          <p:cNvPicPr/>
          <p:nvPr/>
        </p:nvPicPr>
        <p:blipFill>
          <a:blip r:embed="rId2"/>
          <a:stretch/>
        </p:blipFill>
        <p:spPr>
          <a:xfrm>
            <a:off x="4284720" y="1628640"/>
            <a:ext cx="460836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356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ив заказ 1805 г. в 1811 году был выполнен не полностью. Несмотря на это ему был передан следующий заказ в том же 1811 году на 15.000 ружей который был выполнен за 2 г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нок горизонтально-фрезерный консольный , имеет автоматическую продольную подачу через червячную , размыкающуюся при ручной подаче , пар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итни первым внедрил фрезерный станок в производство для обработки плоскостей, выборки канавок и тому подобных работ, в которых фрезерование заменяло точение, строгание и другие виды обработки метал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&amp;Fcy;&amp;rcy;&amp;iecy;&amp;zcy;&amp;iecy;&amp;rcy;&amp;ncy;&amp;ycy;&amp;jcy; &amp;scy;&amp;tcy;&amp;acy;&amp;ncy;&amp;ocy;&amp;kcy; &amp;Ecy;&amp;lcy;&amp;icy; &amp;Ucy;&amp;icy;&amp;tcy;&amp;ncy;&amp;icy; 1807-1809 &amp;gcy;. (1).jpg"/>
          <p:cNvPicPr/>
          <p:nvPr/>
        </p:nvPicPr>
        <p:blipFill>
          <a:blip r:embed="rId2"/>
          <a:stretch/>
        </p:blipFill>
        <p:spPr>
          <a:xfrm>
            <a:off x="3564000" y="692280"/>
            <a:ext cx="5422680" cy="4397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564000" y="5211000"/>
            <a:ext cx="558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Станок И. Уитни, построенный им около 1818 г. и эксплуатировавшийся на его оружейном заводе в Уитнивилле близ Нью- Хевена в США.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В настоящее время находится в качестве музейного экспоната в Мезонской механической лаборатории Иельского университ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ы внедрения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вропе тогда наступал бум промышленного производства, и ручной труд мануфактур попросту не мог удовлетворить растущий спрос на изделия из дерева и  металла, для этого нужны были новые современные маш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дело здесь даже не столько в скорости. При ручной работе части  оружия имели множество несоответствий в параметрах – и по форме, и по размерам. В случае выхода из строя одной детали, заменить её на другую не было возможности, они попросту не подходили друг к другу. Теперь же все делалось по определенному стандарту, что не только ускоряло работу с заготовками,  но и значительно облегчало ремонт готовых издел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ие Эли Уитни, стало настоящим переворотом в производительности и точности. Но усовершенств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езерного стан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тоят на месте и сегодня  детище Уитни уже не способно сравниться с примитивнейшим из современных  агрега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гресс в машиностро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4500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изонтально фрезерный станок Эли Уитни 1921 год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станка появляется автоматическая подача и вертикальная автоматическая подача шпинд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&amp;Mcy;&amp;ocy;&amp;dcy;&amp;iecy;&amp;lcy;&amp;softcy; &amp;fcy;&amp;rcy;&amp;iecy;&amp;zcy;&amp;iecy;&amp;rcy;&amp;ncy;&amp;ocy;&amp;gcy;&amp;ocy; &amp;scy;&amp;tcy;&amp;acy;&amp;ncy;&amp;kcy;&amp;acy;..jpg"/>
          <p:cNvPicPr/>
          <p:nvPr/>
        </p:nvPicPr>
        <p:blipFill>
          <a:blip r:embed="rId2"/>
          <a:stretch/>
        </p:blipFill>
        <p:spPr>
          <a:xfrm>
            <a:off x="4343400" y="1557360"/>
            <a:ext cx="4800600" cy="4505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&amp;Fcy;&amp;rcy;&amp;iecy;&amp;zcy;&amp;iecy;&amp;rcy;&amp;ncy;&amp;ycy;&amp;jcy; &amp;scy;&amp;tcy;&amp;acy;&amp;ncy;&amp;ocy;&amp;kcy; &amp;Ucy;&amp;icy;&amp;tcy;&amp;ncy;&amp;icy;..gif"/>
          <p:cNvPicPr/>
          <p:nvPr/>
        </p:nvPicPr>
        <p:blipFill>
          <a:blip r:embed="rId3"/>
          <a:stretch/>
        </p:blipFill>
        <p:spPr>
          <a:xfrm>
            <a:off x="0" y="3308400"/>
            <a:ext cx="471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PeJIukT</cp:lastModifiedBy>
  <dcterms:modified xsi:type="dcterms:W3CDTF">2014-10-17T02:42:30Z</dcterms:modified>
  <cp:revision>636</cp:revision>
  <dc:subject/>
  <dc:title>Diapositiva 1</dc:title>
</cp:coreProperties>
</file>