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A8E-884F-4664-AED3-356B574D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4DF-EAEC-4535-81F1-4BE0E41D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8EB-6228-42DC-94D5-32ACECAB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2BA-D246-49BF-BB2B-8080E8D6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F71-0968-4D9E-BC35-CF764FF6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F2D-7ADC-4469-86CE-55FE435A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FD1-08C6-4FEB-81E2-D6A5C4B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D81-9440-49DC-A5F8-C3797315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7AA-A93A-41A2-B8B4-10EB5081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1FE-1ED2-4559-824F-E17CB4C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D7A-B991-433A-8739-40D261E4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94B-5833-4AB6-9944-CBE894B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2E64-6FFC-403D-ACC9-B2A1B4D89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стория развития хим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2988000" cy="298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3860640"/>
            <a:ext cx="2987640" cy="298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339640" y="5445000"/>
            <a:ext cx="4537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ученица 8 класса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-СОШ №2 «Возрожд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дреева По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147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 IV веке до н. э. Платон развил учение Эмпедокла: каждому из этих элементов соответствовал свой цвет : огню —красный цвет, воде — синий, земле — зелёный, воздуху — жёлтый. По мнению Платона, именно из комбинаций этих «кирпичиков» и построен весь материальный ми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572000" cy="21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115640" y="5373360"/>
            <a:ext cx="2303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35640" y="2924280"/>
            <a:ext cx="316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0" y="458136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278136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29320" y="5229360"/>
            <a:ext cx="249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52720" y="2997360"/>
            <a:ext cx="250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Ого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47280" y="1628640"/>
            <a:ext cx="5689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хим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27280" y="907920"/>
            <a:ext cx="4546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Хи́м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— одна из важнейших и обширных областей естествознания, наука о веществах, их составе и строении, их свойствах, зависящих от состава и строения, их превращениях, ведущих к изменению состава — химических реакциях, а также о законах и закономерностях, которым эти превращения подчиняют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426708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915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чатки химии возникли ещё со времён появления человека разумного. Поскольку человек всегда так или иначе имел дело с химическими веществами, его первые эксперименты с огнём, дублением шкур, приготовлением пищи можно назвать зачатками практической химии. Постепенно практические знания накапливались, и в самом начале развития цивилизации люди умели готовить некоторые краски, эмали, яды и лекарства. Вначале человек использовал биологические процессы, такие, как брожение, гниение; позже, с освоением огня, начал использовать процессы горения, спекания, спл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39636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449280"/>
            <a:ext cx="446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ие ремёсла, как металлургия, гончарство, стеклоделие,       крашение, парфюмерия,        косметика, достигли значительного развития ещё до начала нашей эры. Например, состав современного бутылочного стекла                практически не отличается от состава стекла, применявшегося в 4000 году до н. э. в Египте. Хотя химические знания тщательно скрывались жрецами от непосвящённых, они всё равно медленно проникали в другие стра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087800" cy="6292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19280" y="1700280"/>
            <a:ext cx="4824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о, что в Египте уже в 3000 году до н. э. умели получать медь из её соединений, а также получали серебро и свинец. Постепенно в Египте и Месопотамии было развито производство бронзы, а в северных странах — железа.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14972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европейцам химическая наука попала главным образом от арабов после завоевания ими Испании в 711 году. Они называли эту науку «алхимией», от них это название распространилось и в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12000" cy="458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97200" y="11970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лись также теоретические находки. Например, в Китае с XXII века до н. э. существовала теория об основных элементах (Вода, Огонь, Дерево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 или Металл, Зем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39092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859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V веке до н. э. в Греции Левкипп и Демокрит развили теорию о строении вещества из атомов. По аналогии со строением письма они заключили, что как речь делится на слова, а слова состоят из букв, так и все вещества состоят из определённых соединений (молекул), которые в свою очередь состоят из неделимых элементов (ато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кипп                                      Демок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068640" cy="410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02436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41920" y="1052640"/>
            <a:ext cx="44020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 V веке до н. э. Эмпедокл предложил считать основными элементами (стихиями) Воду, Огонь, Воздух и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Землю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788000" cy="630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16:12:56Z</dcterms:created>
  <dc:creator>Hp</dc:creator>
  <dc:description/>
  <dc:language>en-US</dc:language>
  <cp:lastModifiedBy>Hp</cp:lastModifiedBy>
  <dcterms:modified xsi:type="dcterms:W3CDTF">2014-09-09T17:40:01Z</dcterms:modified>
  <cp:revision>6</cp:revision>
  <dc:subject/>
  <dc:title>История развития химии</dc:title>
</cp:coreProperties>
</file>