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5B5-6C7A-4113-B77A-696105E4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56D-BC4D-428B-81BF-A7AAEDA8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D76-3B69-4EC5-88DD-0B97BE57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0AF-B4B9-4D38-B17E-66531418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2E6-ADB3-4F42-AADE-9248C31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A16-DF28-4FCE-A43D-DC4DD04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CC4-6D40-47B5-AAD0-9CBFD4A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E09-C6C7-40D7-9572-83E85926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5BD-D03F-4ED9-91E9-CD10E9B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902-8401-4364-80E1-FB61B41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231-4A86-47EE-9992-A2DE419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746-88F7-4188-AA66-708A745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9CB1-04DA-419D-84A9-9137B541D2D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964720" cy="18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alibri"/>
              </a:rPr>
              <a:t>Тема:</a:t>
            </a:r>
            <a:br>
              <a:rPr sz="3600"/>
            </a:br>
            <a:r>
              <a:rPr b="0" lang="en-US" sz="3600" spc="-1" strike="noStrike">
                <a:solidFill>
                  <a:srgbClr val="00cc00"/>
                </a:solidFill>
                <a:latin typeface="Calibri"/>
              </a:rPr>
              <a:t>«Влияние антропогенного фактора на природу, окружающую сред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img612"/>
          <p:cNvPicPr/>
          <p:nvPr/>
        </p:nvPicPr>
        <p:blipFill>
          <a:blip r:embed="rId1"/>
          <a:stretch/>
        </p:blipFill>
        <p:spPr>
          <a:xfrm>
            <a:off x="2195640" y="2708280"/>
            <a:ext cx="694836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1702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280" y="76500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природе лес – всему голова! Он живой, его надо береч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IMGP1362"/>
          <p:cNvPicPr/>
          <p:nvPr/>
        </p:nvPicPr>
        <p:blipFill>
          <a:blip r:embed="rId1"/>
          <a:stretch/>
        </p:blipFill>
        <p:spPr>
          <a:xfrm>
            <a:off x="0" y="2708280"/>
            <a:ext cx="626436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Антропогенные воздействия на прир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31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Оставленный мусо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img456"/>
          <p:cNvPicPr/>
          <p:nvPr/>
        </p:nvPicPr>
        <p:blipFill>
          <a:blip r:embed="rId1"/>
          <a:stretch/>
        </p:blipFill>
        <p:spPr>
          <a:xfrm>
            <a:off x="0" y="3141720"/>
            <a:ext cx="439272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4000" y="-1006560"/>
            <a:ext cx="845964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Непотушенный костер наносит большой урон лесному массиву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2492280"/>
          <a:ext cx="5256360" cy="4037040"/>
        </p:xfrm>
        <a:graphic>
          <a:graphicData uri="http://schemas.openxmlformats.org/drawingml/2006/table">
            <a:tbl>
              <a:tblPr/>
              <a:tblGrid>
                <a:gridCol w="863640"/>
                <a:gridCol w="1657440"/>
                <a:gridCol w="27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р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олжительность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 – 1000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р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– 120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4a3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005e2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с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5472000" y="2492280"/>
            <a:ext cx="3672000" cy="356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33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Выруб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1700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Людям, которые выкорчевывали леса, чтобы получить таким путем пахотную землю и не снилось, что они этим положили начало, нынешнему запустению земель, лишив их скопления и сохранения влаг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ридрих Энгель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7902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Calibri"/>
              </a:rPr>
              <a:t>Парниковый эффект и его последств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Calibri"/>
              </a:rPr>
              <a:t>По подсчетам ученых, количество кислорода в атмосфере ежегодно уменьшается более чем на 10 млн. тон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Calibri"/>
              </a:rPr>
              <a:t>Путь пестицидов по трофической цеп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пролimg464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56149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лга – крупнейшая река Европы, гордость России. Ее длина 3531 км. В Волжском бассейне находится 39 субъектов РФ, это 40  % населения страны. Загрязнение окружающей среды в бассейне Волги в 3 – 5 раз выше, чем в среднем в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IMGP3854"/>
          <p:cNvPicPr/>
          <p:nvPr/>
        </p:nvPicPr>
        <p:blipFill>
          <a:blip r:embed="rId1"/>
          <a:stretch/>
        </p:blipFill>
        <p:spPr>
          <a:xfrm>
            <a:off x="5219640" y="1989000"/>
            <a:ext cx="3924360" cy="2987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468360" y="0"/>
            <a:ext cx="8351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Водные ресурс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272200" y="5027760"/>
            <a:ext cx="38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тография выполнена ученицей 9 класса, Соболевой Валенти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фото 004"/>
          <p:cNvPicPr/>
          <p:nvPr/>
        </p:nvPicPr>
        <p:blipFill>
          <a:blip r:embed="rId1"/>
          <a:stretch/>
        </p:blipFill>
        <p:spPr>
          <a:xfrm>
            <a:off x="1727280" y="191628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250920" y="158760"/>
            <a:ext cx="89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чистка местных водных ресурсов от мусора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азличных загрязн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560" y="0"/>
            <a:ext cx="8569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Загрязнение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поч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cb4318d"/>
          <p:cNvPicPr/>
          <p:nvPr/>
        </p:nvPicPr>
        <p:blipFill>
          <a:blip r:embed="rId1"/>
          <a:stretch/>
        </p:blipFill>
        <p:spPr>
          <a:xfrm>
            <a:off x="0" y="1557360"/>
            <a:ext cx="4753080" cy="4896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204160" y="270828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Подсти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288040" y="328464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ерег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258880" y="386064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ahoma"/>
              </a:rPr>
              <a:t>Слой вымы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51760" y="4365720"/>
            <a:ext cx="346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Слой накоп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минераль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со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424480" y="57340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Подпоч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.Лес – богатство любой страны, области, района, села. Прекрас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способный к восстановления комплекс, на котором держится в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экосистема, нуждается в заботе, охране. В связи с этим наша груп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учащихся спланировала углубить и расширить работу в обиходе леса. Т.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Кашпирско-Бестужевское  охотоведческое хозяйство стало собств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Самарского объединения ООО «Лик», мы надеемся, что наше лес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богатство приобрело своего хозяина, с которым планируем сотрудни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2. Не менее важную экологическую роль имеют леса для защиты грунта 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эрозии почв. По согласованию с местным егерем Малкиным С.А. реш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принять участие в посадке молодых сосен, лип, ряби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alibri"/>
              </a:rPr>
              <a:t>3. В связи с увеличением антропогенной нагрузки, лесными пожара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alibri"/>
              </a:rPr>
              <a:t>вредителями леса, проводить пропагандистскую работу с младш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alibri"/>
              </a:rPr>
              <a:t>школьниками, их  родителями, жителями  села о  роли природы,  е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alibri"/>
              </a:rPr>
              <a:t>значении и бережного отношения к ней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alibri"/>
              </a:rPr>
              <a:t>4. Вести работу по очистке вод на пляже и побережье Саратов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alibri"/>
              </a:rPr>
              <a:t>водохранил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971640" y="0"/>
            <a:ext cx="676908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воды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4560" y="1699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Раскрыть фактор антропогенного воздействия на природу и окружающую среду  на территории Кашпирско-Бестужевского хозя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673560"/>
            <a:ext cx="10042560" cy="638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85920"/>
            <a:ext cx="75438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Раскрыть могущественное влияние леса в природе и негативное отношение людей к нему (на нашей территори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Показать влияние загрязнения почвы и непогашенных костров на прир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Раскрыть последствия парников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Показать роль пестицидов и тяжелых металлов на территории Приволжского района и Самарск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Роль загрязнения воды в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Лес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– это не просто сообщество деревьев, но их сложное единство с почвой, атмосферой, а также с другими живыми организмами в определенных географических условия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539640" y="0"/>
            <a:ext cx="84250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Лес и его знач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9280" y="18900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Наши исследовани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50" name="Picture 6" descr="Photo-0005_e2ь"/>
          <p:cNvPicPr/>
          <p:nvPr/>
        </p:nvPicPr>
        <p:blipFill>
          <a:blip r:embed="rId3"/>
          <a:stretch/>
        </p:blipFill>
        <p:spPr>
          <a:xfrm>
            <a:off x="0" y="2708280"/>
            <a:ext cx="7056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896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alibri"/>
              </a:rPr>
              <a:t>Береза белоствольная нежная, береза бородавчат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JP"/>
          <p:cNvPicPr/>
          <p:nvPr/>
        </p:nvPicPr>
        <p:blipFill>
          <a:blip r:embed="rId1"/>
          <a:stretch/>
        </p:blipFill>
        <p:spPr>
          <a:xfrm>
            <a:off x="5776920" y="1341360"/>
            <a:ext cx="3367080" cy="4942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975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Береза достигает высоты 10 – 25 метров, диаметр ствола 25 – 120 см. Основной ствол березы покрыт маленькими бугорочками, поэтому эта разновидность березы называется «бородавчатая». Эта порода берез с белоснежной корой. Продолжительность жизни березы от 40 до 120 лет. Цветение с 8 – 15 лет. На одном дереве могут расти сережки с женскими и мужскими цветками. Сережки с мужскими цветками желтые и свисают вниз. Пыльца, которая образуется в них, переносится ветром на сережки с женскими цветками. Весной сережки с женскими цветками маленькие, зеленые и тянутся вверх. Ближе к осени, перед тем, как их семена рассеиваются они становятся коричневыми и свисают вниз. Цветки собраны в соцветия сережки, отдельно мужские и отдельно женские. Плоды – крылатый орешек. Листья простые, яйцевидные с неровными зубчиками по кра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Береза светолюбива, успешно растет в различных климатических условиях, морозостойка, устойчива к газу и пыли, поэтому имеет большое значение для очистки воздуха, успешно применяется в озеленении, в создании рекреационных з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-31464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alibri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61182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динаково хорошо переносит как засушливое жаркое лето, так и суровую зиму. 70 % нашего лесного массива – сосна. Она неприхотлива к почве, ее единственное требование – много света. Высота 30 – 45 метров. Листья у сосны в форме иголок. Они опадают, но не все сразу, поэтому сосна, никогда не остается полностью без иголок. Мужские соцветия собраны у основания побегов. С них падает очень много пыльцы, и в это время, кажется, что идет желтый дождь. Ветер переносит пыльцу на женские «цветки», которые собраны в «шишечки» на концах побегов. На их месте вырастает зеленая шишка, закрытая и плотно сжатая, где будут созревать семена. Продолжительность жизни до 80 лет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img325"/>
          <p:cNvPicPr/>
          <p:nvPr/>
        </p:nvPicPr>
        <p:blipFill>
          <a:blip r:embed="rId1"/>
          <a:stretch/>
        </p:blipFill>
        <p:spPr>
          <a:xfrm>
            <a:off x="5867280" y="836640"/>
            <a:ext cx="3276720" cy="486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940360" y="587700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тография выполнена ученицей 11 класса, Афентьевой Мари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ibri"/>
              </a:rPr>
              <a:t>Дуб обыкновенный, или черешчат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9022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зван так потому, что его плоды – желуди – сидят на длинных ножках – черешках. Взрослое дерево достигает 30 – 45 метров. Листья перистолопастные, очередные плоды – желуди. Продолжительность жизни 500 – 1000 лет. Очень полезное дерево, используется в строительстве и производстве мебели. Дуб сбрасывает листья осенью: в это время с него опадает около 250 000 листьев и 70 000 желу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49236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8560" y="475920"/>
            <a:ext cx="878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Главная задача леса – обогащение атмосферы кислор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ганы деревьев служат начальным звеном трофических цепей для организмов-гетеротроф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настоящее время в практическом использовании лесов на первое место выходит рекреация, т.е. отдых и развлечения на лоне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6:18:07Z</dcterms:created>
  <dc:creator>suber</dc:creator>
  <dc:description/>
  <dc:language>en-US</dc:language>
  <cp:lastModifiedBy>suber</cp:lastModifiedBy>
  <dcterms:modified xsi:type="dcterms:W3CDTF">2014-11-09T16:23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