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C2F-8B8E-48D8-9D40-37FE39EF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131-6795-41E9-998F-BF688B28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6D0-980D-4CB6-B970-75F7146E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9FA-4A33-4577-9702-FBD8BB4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8012-DF97-4A41-8929-3259384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748-4EF0-4A72-B48B-07D00E4E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E63-638A-42A0-9F2C-D5D5F739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FA4-9B53-4AC0-A88E-15A85324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B2FF-DB84-475F-869F-CBB903A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C5E-BF25-4D67-A364-BAF1CB0C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E0C-7F9A-483A-BB17-60EBDD9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01A-D079-4B50-93FB-967BDCF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3EE-4202-474F-8057-999E5DB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E98B-1DBC-4B5E-A912-160515C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2DB-774E-4FB3-9359-C594244C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0FCC-A3B8-470A-8EF7-3B3E31C8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A9BB-558D-4AAC-9B17-D3F9F576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91D-F315-4407-9A68-C2FBC0A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229-EF54-4576-B5E6-A13EF6C2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F0B-4B7F-482B-9648-9C74E00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3F4-026B-4492-88B1-868ACA29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B3C-5223-4DAB-80EE-8524EE74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AD4-755B-4ACD-A61B-61F9F4F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FE6-FEEB-433C-BD0B-2DF48B7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EA9-5D41-4B02-AE42-224E8EF6B4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8E2-32D4-4E55-ABEA-76F27C958F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1" lang="ru-RU" sz="8000" spc="-1" strike="noStrike">
                <a:solidFill>
                  <a:srgbClr val="006633"/>
                </a:solidFill>
                <a:latin typeface="Garamond"/>
              </a:rPr>
              <a:t>Ломаная.</a:t>
            </a:r>
            <a:br>
              <a:rPr sz="8000"/>
            </a:br>
            <a:r>
              <a:rPr b="1" lang="ru-RU" sz="8000" spc="-1" strike="noStrike">
                <a:solidFill>
                  <a:srgbClr val="006633"/>
                </a:solidFill>
                <a:latin typeface="Garamond"/>
              </a:rPr>
              <a:t>             Угол.                  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499920"/>
            <a:ext cx="8229600" cy="3071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Горбунова Л.В.                              учитель начальных класс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МБОУ гимназии г.Узл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4"/>
          <p:cNvSpPr/>
          <p:nvPr/>
        </p:nvSpPr>
        <p:spPr>
          <a:xfrm flipV="1">
            <a:off x="1619280" y="1125360"/>
            <a:ext cx="1297080" cy="410400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125360"/>
            <a:ext cx="1726920" cy="482472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4643280" y="4292640"/>
            <a:ext cx="1224000" cy="16574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H="1" flipV="1">
            <a:off x="1116000" y="3428640"/>
            <a:ext cx="4751280" cy="8636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1116000" y="1916280"/>
            <a:ext cx="6192720" cy="151272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H="1">
            <a:off x="6948000" y="1916280"/>
            <a:ext cx="360360" cy="30254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6948360" y="3429000"/>
            <a:ext cx="863640" cy="151272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311120" y="515772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2700360" y="63972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27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883120" y="4005360"/>
            <a:ext cx="20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5867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684360" y="31417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7360920" y="1503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6786360" y="4888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865640" y="30592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Times New Roman"/>
              </a:rPr>
              <a:t>«… - фигура,  образованная двумя лучами, проведенными из одной точ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038480" y="2286000"/>
            <a:ext cx="1524240" cy="2133720"/>
            <a:chOff x="4038480" y="2286000"/>
            <a:chExt cx="1524240" cy="2133720"/>
          </a:xfrm>
        </p:grpSpPr>
        <p:sp>
          <p:nvSpPr>
            <p:cNvPr id="155" name="Line 5"/>
            <p:cNvSpPr/>
            <p:nvPr/>
          </p:nvSpPr>
          <p:spPr>
            <a:xfrm>
              <a:off x="4038480" y="2286000"/>
              <a:ext cx="0" cy="213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4038480" y="4419720"/>
              <a:ext cx="1524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7" name="Arc 7"/>
            <p:cNvSpPr/>
            <p:nvPr/>
          </p:nvSpPr>
          <p:spPr>
            <a:xfrm>
              <a:off x="4038480" y="4002120"/>
              <a:ext cx="370440" cy="41724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бить углы на 3-и групп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Picture 4" descr="http://festival.1september.ru/articles/580098/img2.gif"/>
          <p:cNvPicPr/>
          <p:nvPr/>
        </p:nvPicPr>
        <p:blipFill>
          <a:blip r:embed="rId1"/>
          <a:stretch/>
        </p:blipFill>
        <p:spPr>
          <a:xfrm>
            <a:off x="1042920" y="1693800"/>
            <a:ext cx="7427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1619280" y="1700280"/>
            <a:ext cx="633744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!!!!!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</a:rPr>
              <a:t>Ломаная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539640" y="2565360"/>
            <a:ext cx="4104720" cy="1008000"/>
            <a:chOff x="539640" y="2565360"/>
            <a:chExt cx="4104720" cy="1008000"/>
          </a:xfrm>
        </p:grpSpPr>
        <p:sp>
          <p:nvSpPr>
            <p:cNvPr id="90" name="Line 9"/>
            <p:cNvSpPr/>
            <p:nvPr/>
          </p:nvSpPr>
          <p:spPr>
            <a:xfrm flipV="1">
              <a:off x="539640" y="2880360"/>
              <a:ext cx="1190880" cy="692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1" name="Group 12"/>
            <p:cNvGrpSpPr/>
            <p:nvPr/>
          </p:nvGrpSpPr>
          <p:grpSpPr>
            <a:xfrm>
              <a:off x="1730520" y="2565360"/>
              <a:ext cx="2913840" cy="1008000"/>
              <a:chOff x="1730520" y="2565360"/>
              <a:chExt cx="2913840" cy="1008000"/>
            </a:xfrm>
          </p:grpSpPr>
          <p:sp>
            <p:nvSpPr>
              <p:cNvPr id="92" name="Line 10"/>
              <p:cNvSpPr/>
              <p:nvPr/>
            </p:nvSpPr>
            <p:spPr>
              <a:xfrm>
                <a:off x="1730520" y="2880360"/>
                <a:ext cx="1518480" cy="692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 flipV="1">
                <a:off x="3249000" y="2565360"/>
                <a:ext cx="1395360" cy="1008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Rectangle 14"/>
          <p:cNvSpPr/>
          <p:nvPr/>
        </p:nvSpPr>
        <p:spPr>
          <a:xfrm>
            <a:off x="4788000" y="981000"/>
            <a:ext cx="4211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</a:rPr>
              <a:t>Угол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443640" y="2205000"/>
            <a:ext cx="1295280" cy="1844640"/>
            <a:chOff x="6443640" y="2205000"/>
            <a:chExt cx="1295280" cy="1844640"/>
          </a:xfrm>
        </p:grpSpPr>
        <p:sp>
          <p:nvSpPr>
            <p:cNvPr id="96" name="Line 16"/>
            <p:cNvSpPr/>
            <p:nvPr/>
          </p:nvSpPr>
          <p:spPr>
            <a:xfrm>
              <a:off x="6443640" y="2205000"/>
              <a:ext cx="0" cy="184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6443640" y="40496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" name="Arc 18"/>
            <p:cNvSpPr/>
            <p:nvPr/>
          </p:nvSpPr>
          <p:spPr>
            <a:xfrm>
              <a:off x="6443640" y="3688560"/>
              <a:ext cx="315000" cy="36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2 3 4 5 6 7 8 9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0 1 2 3 4 5 6 7 8 9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0  2  4 5 6 7 8 9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 3  5  7  9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спредели все геометрические фигуры на 2-е группы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img1"/>
          <p:cNvPicPr/>
          <p:nvPr/>
        </p:nvPicPr>
        <p:blipFill>
          <a:blip r:embed="rId1"/>
          <a:stretch/>
        </p:blipFill>
        <p:spPr>
          <a:xfrm>
            <a:off x="826920" y="2617920"/>
            <a:ext cx="7740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ttp://festival.1september.ru/articles/574393/img2.gif"/>
          <p:cNvPicPr/>
          <p:nvPr/>
        </p:nvPicPr>
        <p:blipFill>
          <a:blip r:embed="rId1"/>
          <a:stretch/>
        </p:blipFill>
        <p:spPr>
          <a:xfrm>
            <a:off x="1547640" y="631800"/>
            <a:ext cx="56883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"/>
          <p:cNvSpPr/>
          <p:nvPr/>
        </p:nvSpPr>
        <p:spPr>
          <a:xfrm>
            <a:off x="1042920" y="1052640"/>
            <a:ext cx="576360" cy="863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V="1">
            <a:off x="1619280" y="981000"/>
            <a:ext cx="576360" cy="936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2195640" y="981000"/>
            <a:ext cx="576000" cy="863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2771640" y="1197000"/>
            <a:ext cx="576360" cy="649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3348000" y="1197000"/>
            <a:ext cx="865080" cy="576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H="1">
            <a:off x="611280" y="2205000"/>
            <a:ext cx="576000" cy="4032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187280" y="2205000"/>
            <a:ext cx="505080" cy="2376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4211640" y="836640"/>
            <a:ext cx="647640" cy="936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4859280" y="836640"/>
            <a:ext cx="576360" cy="936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692360" y="2204640"/>
            <a:ext cx="718920" cy="2376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2205000"/>
            <a:ext cx="792360" cy="3600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 flipV="1">
            <a:off x="3203640" y="4220640"/>
            <a:ext cx="431640" cy="1584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788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H="1" flipV="1">
            <a:off x="3708000" y="3141720"/>
            <a:ext cx="647640" cy="12240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V="1">
            <a:off x="3708360" y="2565000"/>
            <a:ext cx="863640" cy="5763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572000" y="2565360"/>
            <a:ext cx="1871640" cy="4320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6443640" y="2997360"/>
            <a:ext cx="216000" cy="13683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 flipH="1">
            <a:off x="5003640" y="4365720"/>
            <a:ext cx="1656000" cy="107928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6732720" y="1197000"/>
            <a:ext cx="180000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H="1">
            <a:off x="7092720" y="1197000"/>
            <a:ext cx="1439640" cy="100800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7093080" y="2205000"/>
            <a:ext cx="1726920" cy="1152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 flipH="1">
            <a:off x="7451280" y="3357720"/>
            <a:ext cx="1368360" cy="14256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7451640" y="3500280"/>
            <a:ext cx="129708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6588000" y="5445000"/>
            <a:ext cx="2160720" cy="36036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Line 41"/>
          <p:cNvSpPr/>
          <p:nvPr/>
        </p:nvSpPr>
        <p:spPr>
          <a:xfrm flipV="1">
            <a:off x="6732720" y="620280"/>
            <a:ext cx="576000" cy="57636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1030736"/>
          <p:cNvPicPr/>
          <p:nvPr/>
        </p:nvPicPr>
        <p:blipFill>
          <a:blip r:embed="rId1"/>
          <a:stretch/>
        </p:blipFill>
        <p:spPr>
          <a:xfrm>
            <a:off x="324000" y="404640"/>
            <a:ext cx="3924000" cy="294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1030731"/>
          <p:cNvPicPr/>
          <p:nvPr/>
        </p:nvPicPr>
        <p:blipFill>
          <a:blip r:embed="rId2"/>
          <a:stretch/>
        </p:blipFill>
        <p:spPr>
          <a:xfrm>
            <a:off x="4643280" y="404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1030058"/>
          <p:cNvPicPr/>
          <p:nvPr/>
        </p:nvPicPr>
        <p:blipFill>
          <a:blip r:embed="rId3"/>
          <a:stretch/>
        </p:blipFill>
        <p:spPr>
          <a:xfrm>
            <a:off x="46836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DSC02642"/>
          <p:cNvPicPr/>
          <p:nvPr/>
        </p:nvPicPr>
        <p:blipFill>
          <a:blip r:embed="rId4"/>
          <a:stretch/>
        </p:blipFill>
        <p:spPr>
          <a:xfrm>
            <a:off x="4643280" y="3573360"/>
            <a:ext cx="3959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DSC08424"/>
          <p:cNvPicPr/>
          <p:nvPr/>
        </p:nvPicPr>
        <p:blipFill>
          <a:blip r:embed="rId1"/>
          <a:stretch/>
        </p:blipFill>
        <p:spPr>
          <a:xfrm>
            <a:off x="250920" y="260280"/>
            <a:ext cx="4860720" cy="364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1030733"/>
          <p:cNvPicPr/>
          <p:nvPr/>
        </p:nvPicPr>
        <p:blipFill>
          <a:blip r:embed="rId2"/>
          <a:stretch/>
        </p:blipFill>
        <p:spPr>
          <a:xfrm>
            <a:off x="5292720" y="76500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3"/>
          <p:cNvPicPr/>
          <p:nvPr/>
        </p:nvPicPr>
        <p:blipFill>
          <a:blip r:embed="rId3"/>
          <a:stretch/>
        </p:blipFill>
        <p:spPr>
          <a:xfrm>
            <a:off x="1979640" y="4076640"/>
            <a:ext cx="5761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1030738"/>
          <p:cNvPicPr/>
          <p:nvPr/>
        </p:nvPicPr>
        <p:blipFill>
          <a:blip r:embed="rId1"/>
          <a:stretch/>
        </p:blipFill>
        <p:spPr>
          <a:xfrm>
            <a:off x="322200" y="404640"/>
            <a:ext cx="85708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0:41:48Z</dcterms:created>
  <dc:creator>Customer</dc:creator>
  <dc:description/>
  <dc:language>en-US</dc:language>
  <cp:lastModifiedBy>Пользователь</cp:lastModifiedBy>
  <dcterms:modified xsi:type="dcterms:W3CDTF">2014-11-09T13:56:58Z</dcterms:modified>
  <cp:revision>9</cp:revision>
  <dc:subject/>
  <dc:title>Ломаная</dc:title>
</cp:coreProperties>
</file>