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908-2200-4AD5-89DB-AD90CFD9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D1B-406D-473D-9DB9-0095585E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EA2-CFEE-44F0-9A5C-F47B4DB9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581-F974-4CD1-A69F-DAD695CA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13B-B468-46B5-A031-420EE314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B2F-EDF7-444F-BA26-759EDB54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489-BC4D-49E8-B0BA-0825DAF2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074-00DB-42C3-B2F1-4F1D01BD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3F1-7BFE-4256-BC8D-24515AD7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05B-28C1-4A62-9C6D-92AD6884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0261-D972-4FBA-9926-254E6529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34F-B53A-4F41-9385-6CC9EAEA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8928-4B02-43F4-8E9D-B581A1ED2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ютчев Ф. 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image020"/>
          <p:cNvPicPr/>
          <p:nvPr/>
        </p:nvPicPr>
        <p:blipFill>
          <a:blip r:embed="rId1"/>
          <a:stretch/>
        </p:blipFill>
        <p:spPr>
          <a:xfrm>
            <a:off x="6443640" y="404640"/>
            <a:ext cx="2293920" cy="2664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258920" y="3141720"/>
            <a:ext cx="67690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юбимые женщины поэта.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Через год после смерти первой жены в 1839 году обвенчался с Эрнестин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1471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 осенью 1844 года вместе с женой и младшими детьми Марией и Дмитрием возвращается в Россию в Петербург. Дочери от первого брака временно остаются в Германии под присмотром теток. В 1845 он привезет дочерей в Россию. Дарья и Екатерина будут учиться в Смольном институте благородных девиц. Вместе с дочерьми воспитывалась в Смольном институте и Е.А. Денисьев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ерез 2 года после смерти поэта, Эрнестина просматривая свой гербарий, нашла листок со стихами: “Не знаю я, коснется ль благодать, моей души болезненно-греховной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ти строки, обращенные к жене и связанные с любовью к Денисьевой, поэт написал в 1851 год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было целое событие в моей жизни” - скажет Эрнестина. Не перестаешь удивляться силе любви этой женщины, ее умению прощать, когда читаешь о том, что Эрнестина, видевшая страдания Денисьевой, скажет: “Его скорбь для меня священна, какова бы ни была причина”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2421000"/>
            <a:ext cx="82152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Аксаков писал: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же была ее радость и скорбь при чтении этого привета, замогильного такого привета, такого признания ее подвига жены, её дела любви. Жена пережила Тютчева” на 21 го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Е. А. Денись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13200" y="2422440"/>
          <a:ext cx="3117600" cy="2013120"/>
        </p:xfrm>
        <a:graphic>
          <a:graphicData uri="http://schemas.openxmlformats.org/drawingml/2006/table">
            <a:tbl>
              <a:tblPr/>
              <a:tblGrid>
                <a:gridCol w="3117600"/>
              </a:tblGrid>
              <a:tr h="21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 </a:t>
                      </a:r>
                      <a:r>
                        <a:rPr b="0" lang="en-US" sz="115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9" descr="image045"/>
          <p:cNvPicPr/>
          <p:nvPr/>
        </p:nvPicPr>
        <p:blipFill>
          <a:blip r:embed="rId1"/>
          <a:stretch/>
        </p:blipFill>
        <p:spPr>
          <a:xfrm>
            <a:off x="324000" y="1844640"/>
            <a:ext cx="2808000" cy="3384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395280" y="566100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няя любовь поэ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тография 186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924360" y="1125360"/>
            <a:ext cx="396072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, как убийственно мы люб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в буйной слепоте стра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ы то всего вернее губ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сердцу нашему миле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5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35120" y="-655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95640" y="4005360"/>
            <a:ext cx="4248360" cy="28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, как на склоне наши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жней мы любим и суеверне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яй, сияй, прощальный с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юбви последней, зари вечерне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5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9000"/>
                            </p:stCondLst>
                            <p:childTnLst>
                              <p:par>
                                <p:cTn id="1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Принадлежала я к старинному, но обедневшему дворянскому роду. Рано лишилась матери и была на попечении тетушки, инспектрисы Смольного института. Она любила меня как дочь. Рано начала вывозить в свет. Бывали мы в доме Тютчевых, с Федором Ивановичем встречались в Смольном, когда он посещал своих дочерей. Наши отношения вылились в светский скандал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Однако с семьей Тютчев не порывал и никогда не смог бы решиться на это. Привязанность к жене совмещалась с любовью ко мне, и это вносило в его отношение к обеим женщинам мучительную раздвоенность. Передо мной навсегда закрылись двери домов, где я прежде была желанной гостьей. Отец от меня отрекс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лет продолжалась эта радостная, но и мучительная любовь. Мы жили в гражданском браке. У нас было трое детей. Все они носили фамилию Тютчева. Мучительная раздвоенность терзала е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ютчев пис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когда человек не стал бы столь любим другим человеком, сколь я любим ею, в течение одиннадцати лет не было ни одного дня в ее жизни когда, дабы упрочить мое счастье, она не согласилась бы, не колеблясь ни мгновенья, умереть за меня. Она, не колеблясь ни мгновенья, готова умереть за меня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5200" y="-31608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Е. А. Денись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та женщина стала последней любовью поэта. Она была для него и блаженством, и безнадежностью. Денисьевой он посветил целый цикл стихов о любви, который так и был назван “Денисьевский цикл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image045"/>
          <p:cNvPicPr/>
          <p:nvPr/>
        </p:nvPicPr>
        <p:blipFill>
          <a:blip r:embed="rId1"/>
          <a:stretch/>
        </p:blipFill>
        <p:spPr>
          <a:xfrm>
            <a:off x="6012000" y="3473280"/>
            <a:ext cx="280800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енисьевский цикл стихов вошел в сокровищницу мировой поэзии, а Е.Денисьева, благодаря стихам, обрела бессмер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2708280"/>
            <a:ext cx="821844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 августа 1864 Е. Денисьева умирает от скоротечной чесотки. Тютчев себя винит в ее смерти, раскаяние не покидает. На годовщину ее смерти он напишет стих, где вновь вспоминает о своей любви к Денисьевой: “Сегодня, друг мой, 15 лет минуло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Эл. Тютчева, первая жена поэ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3_4_02b"/>
          <p:cNvPicPr/>
          <p:nvPr/>
        </p:nvPicPr>
        <p:blipFill>
          <a:blip r:embed="rId1"/>
          <a:stretch/>
        </p:blipFill>
        <p:spPr>
          <a:xfrm>
            <a:off x="395280" y="1700280"/>
            <a:ext cx="3529080" cy="4465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250920" y="623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. И Шеллер, 182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500720" y="1916280"/>
            <a:ext cx="446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ой женой поэта стала Элеонора Петерсон, урожденная графиня Ботмер. От этого брака были три дочери: Анна, Дарья и Екатер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50920" y="5229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95280" y="40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Arial"/>
              </a:rPr>
              <a:t>А. М.Крюден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image051"/>
          <p:cNvPicPr/>
          <p:nvPr/>
        </p:nvPicPr>
        <p:blipFill>
          <a:blip r:embed="rId1"/>
          <a:stretch/>
        </p:blipFill>
        <p:spPr>
          <a:xfrm>
            <a:off x="539640" y="1628640"/>
            <a:ext cx="2952720" cy="3816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50920" y="5445000"/>
            <a:ext cx="367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любленная Ф.И.Тютч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работы И. Штил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3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924360" y="1557360"/>
            <a:ext cx="4895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.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 встретил вас – и все бы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отжившем сердце ожи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 вспомнил время золотое 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сердцу стало так теп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 июля 19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Arial"/>
              </a:rPr>
              <a:t>А. М.Крюден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Мы познакомились во второй половине 1823г. Я была пятью годами моложе его. Отец мой был дипломатом. Мы почувствовали симпатию друг к другу. Часто совершали прогулки по прекрасному Дунаю. Памятью о тех временах навеяно стихотвор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Я помню время золотое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Твой милый взор…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ако родители девушки  были против нашей женитьбы . Тютчев был убит горем. Его настроение отразилось в стихотворении “К Н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з 30 лет после их последней встречи (1870) они вновь увиделись в Карсбадене на лечении летом 1870г. В это время сюда съезжалась вся европейская и русская знать, многие знали Тютчева. Но самой радостной была встреча с Амалией. Прогулки с пожилой но все еще сохранявшей привлекательность графиней, вдохновили Тютчева на создание прекрасного стихотворения “Я встретил вас… (на стихи положен  романс “Я встретил ва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ff"/>
            </a:gs>
            <a:gs pos="50000">
              <a:srgbClr val="ffccff"/>
            </a:gs>
            <a:gs pos="100000">
              <a:srgbClr val="ffe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ледня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его встреча произошла 31 марта 1873г., разбитый параличом поэт увидел у своей постели Амалию. Лицо его просветлело, в глазах показались слезы. Он долго смотрел на нее, не говоря ни сл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малия пережила Тютчева на 15 лет. Ей он посвятил стихотворения: “Я помню время золотое…”, “Твой милый взор”, “Я встретил”, Я знал ее…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днолюбом Тютчев не был. Он мог страстно обожать двух женщин сразу. Женщины, которых он любил, отвечали ему еще более беззаветным и самоотверженным чувством. Он умел порой влюбить в себя женщин с первого взгляд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любовь в представлении Тютчева, чем она была для поэт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изображает Тютчев свою любиму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юбовь для Тютчева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блаженство и безнадежность, это жизнь, это радость, это счастье, это нежность, это страдание, это слезы, скорбь, разлука, ревность, это средство духовного прозр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ютчев сумел в своей любовной лирике отразить противоречивость этого чувства. Любовь, по мнению Тютчева, несет ему и счастье, и страдание, это роковой поединок двух сердец, это борьба, в ней есть победитель и побежден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ое, что увидел и высоко оценил Тютчев в женщине это – силу чувства, ее способность на подвиг, на самопожертвование, на самоотдач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ечно, можно по разному относиться к роковым страданиям Тютчева к разным женщинам. Но поэт – вне осуждения. Оправданием для него служит любовь женщин, которые его боготворили. Надо иметь немало внутренних достоинств, чтобы быть любимым такими женщинами. Тютчев был необыкновенно галантен, изысканно вежлив с женщинами, и это располагало, это притягивало женщин к поэту. Кроме того, он был блестящим собеседником и увлекательным рассказч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Открытие памят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памятник"/>
          <p:cNvPicPr/>
          <p:nvPr/>
        </p:nvPicPr>
        <p:blipFill>
          <a:blip r:embed="rId1"/>
          <a:stretch/>
        </p:blipFill>
        <p:spPr>
          <a:xfrm>
            <a:off x="395280" y="1413000"/>
            <a:ext cx="4103640" cy="48974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5076720" y="1628640"/>
            <a:ext cx="36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мятник Ф. И. Тютчеву, посвященный его 200-летию в городе Брянс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Arial"/>
              </a:rPr>
              <a:t>Элеонора Петерсо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том 1825 получив отказ от родителей Амалии, Тютчев уехал в отпуск, вернулся в 1826г. А 5 марта свадьба Тютчева. Я – вдова русского дипломата (Элеонора Петерсон была на четыре года старше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 нашей свадьбе никто не знал, даже родители поэта. Ведь я была лютеранкой, а он православного вероисповедания. Возникли трудности не только с получением родительского благословения, но и разрешения церковного. Мы скрывали свой брак. Сказать, что любила Тютчева – ничего не сказать, я его боготвори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38 году </a:t>
            </a: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Элеонора Петерс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режила страшное потрясение: «Пожар на корабле, где я находилась с тремя детьми. Этот несчастный случай подорвал мое здоровье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студа и волнение сделали свое. Через 3 месяца после этого события Элеонора скончалась в страданиях. Смерть жены потрясла Тютчева. Он поседел в одну ночь. Это стихотворение он посвятил е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ще томлюсь тоской желанья…”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это был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21. Тютчев только что окончил Моск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кий университет со степенью кандидата словесных наук и был определен на службу в коллегию иностранных дел в Петербурге. На домашнем совете было решено, что с блестящими способностями Феденьки можно сделать карьеру дипломата. И в середине 1822 года Тютчев едет в Германию в Мюнхен, где получает место сверх читанного чиновника при русской миссии. Никто не знал, что его отъезд обернется разл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mage017"/>
          <p:cNvPicPr/>
          <p:nvPr/>
        </p:nvPicPr>
        <p:blipFill>
          <a:blip r:embed="rId1"/>
          <a:stretch/>
        </p:blipFill>
        <p:spPr>
          <a:xfrm>
            <a:off x="7342200" y="0"/>
            <a:ext cx="180180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енно здесь, за границей, начинается его личная жизнь, полная страстей и горестей, здесь он начнет создавать изумительные стихи, посвященные своим возлюбленным. Здесь повстречает первую любовь, впервые женится, переживет смерть первой жены, женится вторично, испытывая пылкие чув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я общению с этими женщинами Тютчев создал изумительные стихи. Какую роль в судьбе и творчестве Тютчева сыграла каждая из них? Разную,но с полным правом о каждой из них можно сказать: “Любила ты, и так как ты любить, нет, никому еще не удавалось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image017"/>
          <p:cNvPicPr/>
          <p:nvPr/>
        </p:nvPicPr>
        <p:blipFill>
          <a:blip r:embed="rId1"/>
          <a:stretch/>
        </p:blipFill>
        <p:spPr>
          <a:xfrm>
            <a:off x="6659640" y="4292640"/>
            <a:ext cx="180180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Эрн. Тютчева, </a:t>
            </a:r>
            <a:br>
              <a:rPr sz="4000"/>
            </a:b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вторая жена поэ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3_4_03b"/>
          <p:cNvPicPr/>
          <p:nvPr/>
        </p:nvPicPr>
        <p:blipFill>
          <a:blip r:embed="rId2"/>
          <a:stretch/>
        </p:blipFill>
        <p:spPr>
          <a:xfrm>
            <a:off x="395280" y="1557360"/>
            <a:ext cx="3441600" cy="41162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179280" y="5805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ография Г. Бодмера с оригинала И. Штилл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140360" y="1844640"/>
            <a:ext cx="475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вдовев, поэт женился в 1839 г. на Эрнестине Дернберг, урожденной баронессе Пфеффель. В Мюнхене у них родились Мария и Дмитрий, а младший сын Иван –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1836 году он встретил и полюбил Эрнестину Дернберг, молодую вдову, на семь лет моложе поэта. Она была из первых красавиц Мюнхена, ее красота сочеталась с блестящим умом и прекрасным образованием. Эрнестине он посветил немало стихотворений, одно из них: “Люблю глаза твои”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2:52:45Z</dcterms:created>
  <dc:creator>Пользователь</dc:creator>
  <dc:description/>
  <dc:language>en-US</dc:language>
  <cp:lastModifiedBy>LENA</cp:lastModifiedBy>
  <dcterms:modified xsi:type="dcterms:W3CDTF">2007-01-09T00:17:36Z</dcterms:modified>
  <cp:revision>16</cp:revision>
  <dc:subject/>
  <dc:title>Тютчев Ф. И</dc:title>
</cp:coreProperties>
</file>