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4B8-8326-4EF1-A6D0-9ED6827C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BF5-933D-4521-8C16-6EB96B6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79B-ADC5-4FAC-B674-EE225B0C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63B-3B58-4D37-9839-34B6A11D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655F1-CFAE-49D5-8CB9-7F81A614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C77D-894C-43D8-9B01-F49380D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B194A-7E3F-42C0-817F-27AF8CB5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0F190-0CF5-4D32-81F2-AD7C9BB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FD7A9-C7F7-4242-9078-BC7AFFB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C50B9-3E01-477F-A7FE-8297B357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31EF-005B-4D42-AEDF-40C6376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CAD-0EDB-48DA-A2A4-9F92B42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85B6C-2B6B-4A03-9DFA-101ECE1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C1AD-B26F-4D99-BD59-27AFE33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3C42C-CF57-4DE6-85D7-582A43D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27B9E-C197-46E1-A017-51741FB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B5B0F-5AAA-43E0-AE92-BA9A31C1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51E-C05C-4705-9B42-818507D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4D7-CBB6-4580-AC31-35EF591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0DC-CF1E-40CA-B858-F5BC6849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CD5-6878-401E-AC80-D4A783C3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EDB-D399-44F8-8BAB-A093595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BE9-9A90-4AE3-A9C0-74DAD07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A59-F422-4431-8B2D-8A1FF24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8700-0132-4ABD-9AF9-4887F795C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D326-8F4D-40FB-BA3E-7545152427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общающий  урок  по  теме « Тепловые  явле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  учитель фи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СОШ с.Гаровка-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баровского муниципального  рай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саева  Любовь Анато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Какое  количество  теплоты  потребуется,  чтобы  20 кг  воды, взятой  при  температуре  10 С,  нагреть  до  кипения  и  обратить  в  пар?  Удельная  теплоемкость  вещества  С=4200Дж/кг С, удельная  теплота  парообразования  воды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=2260000  Дж/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шение  задач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20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=10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=100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4200 Дж/кг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2260000 Дж/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Найти: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427640" y="1484280"/>
          <a:ext cx="38163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484280"/>
                    <a:ext cx="3816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2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1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2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1)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) = 20(4200 * 90 + 2260000)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20 (378000+2260000)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20 * 2638000=52 760 000 ( Дж )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52,76 ( МДж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Ответ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52,76  МД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ведение  итогов  работ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/з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12 – 20  повторить,  сводная  таблица  по  тепловым  процесса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№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122,  1124,  11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Спасибо  за  работу 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Желаю  успехов  на  контрольной 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ить  и  систематизировать  изученный  материал  по  теме: «Тепловые  явле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ть  читать  графики  зависимости  температуры  от 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нять  полученные  знания  для  решения качественных 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ть  и  уметь  применять  основные  формулы  для  расчета  количества  теп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ан  урока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рминологический  дикта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укцион  граф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ы,  содержащие  физические  оши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а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м  знание  форм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аем  зада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рминологический  диктан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арение – это  процесс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блимация – это  процесс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авление -  это  процесс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пение – это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лизация – это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 в  ветреную  погоду  после  дождя  почва  просыхает  быстре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 вершине  4000 м  вода  закипает  при  температуре  86  С.  Как  это  объяснит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ую  наименьшую  температуру  можно  измерить  спиртовым  термометр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 столбик  термометра,  обмотанный  тканью,  смоченной  спиртом  или  водой,  падает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кцион  график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26920" y="1413000"/>
          <a:ext cx="7056720" cy="40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0567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каз,  содержащий  физ.ошиб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 яркий  солнечный  день  ребята  отправились  в  поход. Чтобы  было  не  так  жарко,  ребята  оделись  в  темные  костюмы.  На  ночлег  расположились  на  берегу  реки.  К  вечеру  стало  свежо,  но  после  купания  стало  теплее.  Над  костром  подвесили  два  чайника:  темный  и  светлый.  В  светлом  вода  закипела  быстрее.  Ребята  налили  себе  горячий  чай  в  железные  кружки  и  с  удовольствием  пили  его  не  обжигая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 очень  здорово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 найти  в  тексте  физические  ошибки  и  указать  их,  предложить  правильный  вариан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спериментальный  этап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На  чашах  весов  уравновешиваем  стакан  с  холодной  и  горячей  вод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чему  весы  быстро  выходят  из  равновеси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В  лапке  штатива  зажмем  кусочек  х/б  ткани,  смоченной  водой. Обольем  его  спиртом  и  подожжем.  Ткань  не  горит.  Объясните  наблюдаемое  явл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весы"/>
          <p:cNvPicPr/>
          <p:nvPr/>
        </p:nvPicPr>
        <p:blipFill>
          <a:blip r:embed="rId1"/>
          <a:stretch/>
        </p:blipFill>
        <p:spPr>
          <a:xfrm>
            <a:off x="1116000" y="2565360"/>
            <a:ext cx="633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рим  знание  форму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  обозначенные  физ.велич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, с,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Формулы  для  расчета  количества  теплоты.  Назови 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= 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. Знаете  ли  вы  единицы  измер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кг,  Дж,  Дж/кг С,  С,  Дж/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шение  задач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На  рисунке  изображены  графики  нагревания  и  кипения  одинаковых  масс  воды  и  спирта.  Укажите  график,  построенный  для  спирта. Объясните  свой выб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14"/>
          <p:cNvGraphicFramePr/>
          <p:nvPr/>
        </p:nvGraphicFramePr>
        <p:xfrm>
          <a:off x="5219640" y="2549520"/>
          <a:ext cx="2862360" cy="197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549520"/>
                    <a:ext cx="28623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038480"/>
          <a:ext cx="4038480" cy="2486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48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Object 46"/>
          <p:cNvGraphicFramePr/>
          <p:nvPr/>
        </p:nvGraphicFramePr>
        <p:xfrm>
          <a:off x="826920" y="3716280"/>
          <a:ext cx="4321440" cy="29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16280"/>
                    <a:ext cx="43214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7:10:17Z</dcterms:created>
  <dc:creator>USER</dc:creator>
  <dc:description/>
  <dc:language>en-US</dc:language>
  <cp:lastModifiedBy>Admin</cp:lastModifiedBy>
  <dcterms:modified xsi:type="dcterms:W3CDTF">2014-11-09T03:14:17Z</dcterms:modified>
  <cp:revision>8</cp:revision>
  <dc:subject/>
  <dc:title>Обобщающий  урок  по  теме « Тепловые  явления»</dc:title>
</cp:coreProperties>
</file>