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D83-21F4-4CDD-B5F0-D64BBDE5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6D6-E527-468C-B680-B5B2BCA6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75F-EF51-4701-9F06-F63530F7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5E3-BCB5-4D70-BF2C-2D439FE7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2E20-1DA3-4166-85DE-C9541E6E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672C-030F-4709-8B0E-2B2A9B61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48B9-FEA5-4285-9B3A-667421B0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8375-C400-4FAE-9B79-02329336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CE75-00BF-4A00-ACB8-F780502D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3297-8A6C-44E2-A3F3-84230C21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E38E-0F86-4E72-836D-3739327D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0B2-27D3-4AF9-BFFE-62293AAD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163B-5AC2-453F-A709-F9283081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8262-E45E-4AE8-B5FC-02963C2A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FAD5-7B97-4A9D-B276-29D70C40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2DB5-EDB7-4259-979D-0551E3D9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D31E-320A-44A6-B607-A91E88A8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284-4437-4647-A4F1-0B58E1DB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CC1-0F9E-449B-AB7A-2D3A70A1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1BA-1BA5-497E-806E-8BE7D1EE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963-7EAD-458E-B663-D736813F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854-2028-40D1-B9C0-A2AEC47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9F9-4C41-4069-8960-50BE086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7DD-C066-46CF-A0EE-4E341842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9367-DCC5-4376-88D6-60B474C2998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6980-541C-4594-BD5C-085827E2925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09520" y="3027240"/>
            <a:ext cx="604188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своение новой работы и адаптация в трудовом коллектив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5280" y="1196640"/>
            <a:ext cx="6472080" cy="399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Адаптация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это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оцесс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менения знакомства сотрудника с деятельностью и организацией и изменение собственного поведения в соответствии с требованиями среды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словно процесс адаптации можно разделить на 4 этап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ценка уровня подготовленности нович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иент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йственная адапт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ониров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              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ествует 5 видов адаптаци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10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ОФЕССИОНА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ОЦИАЛЬНО-ПСИХОЛОГИЧЕ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БЩЕСТВЕННО-ОРГАНИЗАЦИОН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УЛЬТУРНО-БЫТОВ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СИХОВИЗИОЛОГИЧЕ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6456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Различают два вида факторов    трудовой адаптаци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395280" y="2781360"/>
            <a:ext cx="2952720" cy="244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ЪЕКТИВ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5580000" y="2708280"/>
            <a:ext cx="3097440" cy="244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БЪЕКТИВ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419640" y="4005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4122360" y="3397320"/>
            <a:ext cx="4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5:18:48Z</dcterms:created>
  <dc:creator>Admin</dc:creator>
  <dc:description/>
  <dc:language>en-US</dc:language>
  <cp:lastModifiedBy>Юлия Федорова</cp:lastModifiedBy>
  <dcterms:modified xsi:type="dcterms:W3CDTF">2014-11-09T15:07:53Z</dcterms:modified>
  <cp:revision>5</cp:revision>
  <dc:subject/>
  <dc:title>КУРСОВОЙ ПРОЕКТ</dc:title>
</cp:coreProperties>
</file>