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26.jpeg" ContentType="image/jpeg"/>
  <Override PartName="/ppt/media/image36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8.gif" ContentType="image/gif"/>
  <Override PartName="/ppt/media/image38.gif" ContentType="image/gif"/>
  <Override PartName="/ppt/media/image31.jpeg" ContentType="image/jpeg"/>
  <Override PartName="/ppt/media/image33.png" ContentType="image/png"/>
  <Override PartName="/ppt/media/image28.gif" ContentType="image/gif"/>
  <Override PartName="/ppt/media/image12.png" ContentType="image/png"/>
  <Override PartName="/ppt/media/image34.jpeg" ContentType="image/jpeg"/>
  <Override PartName="/ppt/media/image39.gif" ContentType="image/gif"/>
  <Override PartName="/ppt/media/image9.png" ContentType="image/png"/>
  <Override PartName="/ppt/media/image5.gif" ContentType="image/gif"/>
  <Override PartName="/ppt/media/image35.gif" ContentType="image/gif"/>
  <Override PartName="/ppt/media/image11.jpeg" ContentType="image/jpeg"/>
  <Override PartName="/ppt/media/image4.gif" ContentType="image/gif"/>
  <Override PartName="/ppt/media/image2.png" ContentType="image/png"/>
  <Override PartName="/ppt/media/image25.jpeg" ContentType="image/jpeg"/>
  <Override PartName="/ppt/media/image32.png" ContentType="image/png"/>
  <Override PartName="/ppt/media/image3.jpeg" ContentType="image/jpeg"/>
  <Override PartName="/ppt/media/image3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496-F4C0-4FCC-9213-21B05A8D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95A-B96F-4F47-A4AC-4A39126F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682-0126-49FB-96D6-735B249C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8E4-5D93-4698-AD35-9637972D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FAC4-C2C1-422D-8D54-E5426A3B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A44D-392C-47F2-810B-6DE87207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9AF2-2457-44D1-BEBC-72841408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DB62-9CF0-4FC6-9827-E385D74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FB29-DFBC-457D-9DA0-368DC03C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BB88-5900-4AD4-A2E0-807F5D1C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8198-9E9E-4E7C-89AA-97A115F3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D2A-DD01-4EB8-AD2C-B650D537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E0F6-E21D-4D72-8370-D06252EE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3DDF-4921-46DF-83F9-2ECE3EA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C517-5CF5-4362-89B1-6B202262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396C-DC1F-4CB0-83F1-F7C0723F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5832-EE48-42E2-B30F-5FFFAC52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CBB-F18F-4C86-BB2B-0AE2B329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7CF-E536-4F63-8B07-C004633A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12E-EC46-49C4-A3FA-8CEAFD6C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0E4-CEC2-49C1-B5FF-B227C60B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4DC-32F6-45A6-909A-B3B003C1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D0D-E547-4CC8-867D-44B3AF5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913-D6B2-4B5F-AFAE-63BEEE9D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3E12-2C62-4FEA-8D78-4DE1879601B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9A2D-C3E1-4099-B037-9996821C355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-115920"/>
            <a:ext cx="8785080" cy="3449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42600" y="4214880"/>
            <a:ext cx="7929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70c0"/>
              </a:solidFill>
              <a:latin typeface="Times New Roman"/>
            </a:endParaRPr>
          </a:p>
        </p:txBody>
      </p:sp>
      <p:pic>
        <p:nvPicPr>
          <p:cNvPr id="84" name="Picture 16" descr="E:\данные\Картинки\пдд\Рисунок5.jpg"/>
          <p:cNvPicPr/>
          <p:nvPr/>
        </p:nvPicPr>
        <p:blipFill>
          <a:blip r:embed="rId2"/>
          <a:stretch/>
        </p:blipFill>
        <p:spPr>
          <a:xfrm>
            <a:off x="571680" y="714240"/>
            <a:ext cx="219384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0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БУДЬТЕ ВНИМАТЕЛЬНЫМИ И ОСТОРОЖНЫМ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НАЙТЕ И СОБЛЮДАЙ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РОЖНОГО ДВИЖЕНИЯ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E:\данные\Картинки\пдд\Рисунок19.jpg"/>
          <p:cNvPicPr/>
          <p:nvPr/>
        </p:nvPicPr>
        <p:blipFill>
          <a:blip r:embed="rId1"/>
          <a:stretch/>
        </p:blipFill>
        <p:spPr>
          <a:xfrm>
            <a:off x="7572240" y="1785960"/>
            <a:ext cx="103212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E:\данные\Картинки\анимация\Дети\BOY11A.GIF"/>
          <p:cNvPicPr/>
          <p:nvPr/>
        </p:nvPicPr>
        <p:blipFill>
          <a:blip r:embed="rId2"/>
          <a:stretch/>
        </p:blipFill>
        <p:spPr>
          <a:xfrm>
            <a:off x="4143240" y="535788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E:\данные\Картинки\анимация\свечи, огонь\098d0000.gif"/>
          <p:cNvPicPr/>
          <p:nvPr/>
        </p:nvPicPr>
        <p:blipFill>
          <a:blip r:embed="rId3"/>
          <a:stretch/>
        </p:blipFill>
        <p:spPr>
          <a:xfrm>
            <a:off x="214200" y="1714680"/>
            <a:ext cx="1000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856880" y="714240"/>
            <a:ext cx="56437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РАВИЛА     ДВИЖЕНИЯ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    БЕЗ    ИСКЛЮЧЕНИЯ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ТЬ    ДОЛЖНЫ    ЗВЕРЮШКИ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АРСУКИ  И   ХРЮШК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ЙЦЫ    И    ТИГРЯТА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НИ   И   КОТЯ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М,   РЕБЯТА,   Т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Х  НЕ  ЗНАТЬ    НЕГ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1" descr="E:\данные\Картинки\анимация\животные\28m1.gif"/>
          <p:cNvPicPr/>
          <p:nvPr/>
        </p:nvPicPr>
        <p:blipFill>
          <a:blip r:embed="rId1"/>
          <a:stretch/>
        </p:blipFill>
        <p:spPr>
          <a:xfrm>
            <a:off x="7643880" y="857160"/>
            <a:ext cx="639720" cy="57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данные\Картинки\анимация\животные\05600000.gif"/>
          <p:cNvPicPr/>
          <p:nvPr/>
        </p:nvPicPr>
        <p:blipFill>
          <a:blip r:embed="rId2"/>
          <a:stretch/>
        </p:blipFill>
        <p:spPr>
          <a:xfrm>
            <a:off x="642960" y="428760"/>
            <a:ext cx="1143000" cy="158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E:\данные\Картинки\анимация\животные\ь7.gif"/>
          <p:cNvPicPr/>
          <p:nvPr/>
        </p:nvPicPr>
        <p:blipFill>
          <a:blip r:embed="rId3"/>
          <a:stretch/>
        </p:blipFill>
        <p:spPr>
          <a:xfrm>
            <a:off x="7429680" y="428616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E:\данные\Картинки\анимация\мультяшки\dis12900.gif"/>
          <p:cNvPicPr/>
          <p:nvPr/>
        </p:nvPicPr>
        <p:blipFill>
          <a:blip r:embed="rId4"/>
          <a:stretch/>
        </p:blipFill>
        <p:spPr>
          <a:xfrm>
            <a:off x="7358040" y="2000160"/>
            <a:ext cx="1436760" cy="172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:\данные\Картинки\анимация\мультяшки\disney9qz9.gif"/>
          <p:cNvPicPr/>
          <p:nvPr/>
        </p:nvPicPr>
        <p:blipFill>
          <a:blip r:embed="rId5"/>
          <a:stretch/>
        </p:blipFill>
        <p:spPr>
          <a:xfrm>
            <a:off x="285840" y="3071880"/>
            <a:ext cx="159552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:\данные\Картинки\дети\reading1.gif"/>
          <p:cNvPicPr/>
          <p:nvPr/>
        </p:nvPicPr>
        <p:blipFill>
          <a:blip r:embed="rId6"/>
          <a:stretch/>
        </p:blipFill>
        <p:spPr>
          <a:xfrm>
            <a:off x="4071960" y="5357880"/>
            <a:ext cx="142884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ОЛЖЕН         ПОМНИТЬ      ПЕШЕХО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ЕРЕКРЁСТОК-ПЕРЕХ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ЕСТЬ    СИГНАЛЫ     СВЕТОФ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ДЧИНЯЙСЯ    ИМ    БЕЗ    СП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" descr="E:\данные\Картинки\пдд\Рисунок17.jpg"/>
          <p:cNvPicPr/>
          <p:nvPr/>
        </p:nvPicPr>
        <p:blipFill>
          <a:blip r:embed="rId2"/>
          <a:stretch/>
        </p:blipFill>
        <p:spPr>
          <a:xfrm>
            <a:off x="2714760" y="4000680"/>
            <a:ext cx="3981240" cy="2012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:\данные\Картинки\пдд\Рисунок6.png"/>
          <p:cNvPicPr/>
          <p:nvPr/>
        </p:nvPicPr>
        <p:blipFill>
          <a:blip r:embed="rId3"/>
          <a:stretch/>
        </p:blipFill>
        <p:spPr>
          <a:xfrm>
            <a:off x="7643880" y="357120"/>
            <a:ext cx="110808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57120" y="428760"/>
            <a:ext cx="5500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    СВЕ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М       ГОВОРИ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ОЙ! ОПАСНО! ПУТЬ    ЗАКРЫ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ЖЁЛТЫЙ    СВЕТ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-   ПРЕДУПРЕЖДЕНЬ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ЖДИ     СИГНАЛА   ДЛЯ   ДВИЖЕН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ЗЕЛЁНЫЙ   СВЕТ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ТКРЫЛ ДОРОГ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ЕРЕХОДИТЬ       РЕБЯТА        МО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ИДИ   ВПЕРЁ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ОРЯДОК      ЗНАЕШЬ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   МОСТООВОЙ    НЕ    ПОСТРАДАЕ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7072200" y="714240"/>
            <a:ext cx="1357560" cy="471492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7286760" y="928800"/>
            <a:ext cx="100008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7286760" y="2428920"/>
            <a:ext cx="1000080" cy="1071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7286760" y="3929040"/>
            <a:ext cx="1000080" cy="1071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14520" y="928800"/>
            <a:ext cx="47862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ки важные, дорожные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мпас взрослых и ребя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е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удьте осторожн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йт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Что нельзя, Что мож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ыполняйте непремен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, что знаки говоря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642960" y="1428840"/>
            <a:ext cx="2859120" cy="3314520"/>
            <a:chOff x="642960" y="1428840"/>
            <a:chExt cx="2859120" cy="3314520"/>
          </a:xfrm>
        </p:grpSpPr>
        <p:grpSp>
          <p:nvGrpSpPr>
            <p:cNvPr id="103" name="Group 2"/>
            <p:cNvGrpSpPr/>
            <p:nvPr/>
          </p:nvGrpSpPr>
          <p:grpSpPr>
            <a:xfrm>
              <a:off x="642960" y="1428840"/>
              <a:ext cx="2859120" cy="3314520"/>
              <a:chOff x="642960" y="1428840"/>
              <a:chExt cx="2859120" cy="3314520"/>
            </a:xfrm>
          </p:grpSpPr>
          <p:sp>
            <p:nvSpPr>
              <p:cNvPr id="104" name="Oval 3"/>
              <p:cNvSpPr/>
              <p:nvPr/>
            </p:nvSpPr>
            <p:spPr>
              <a:xfrm>
                <a:off x="2004480" y="1569600"/>
                <a:ext cx="204120" cy="186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4"/>
              <p:cNvSpPr/>
              <p:nvPr/>
            </p:nvSpPr>
            <p:spPr>
              <a:xfrm rot="16200000">
                <a:off x="1612800" y="1616400"/>
                <a:ext cx="987120" cy="612000"/>
              </a:xfrm>
              <a:prstGeom prst="flowChartTerminator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5"/>
              <p:cNvSpPr/>
              <p:nvPr/>
            </p:nvSpPr>
            <p:spPr>
              <a:xfrm>
                <a:off x="642960" y="1922760"/>
                <a:ext cx="2859120" cy="2820600"/>
              </a:xfrm>
              <a:prstGeom prst="ellipse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WordArt 6"/>
              <p:cNvSpPr txBox="1"/>
              <p:nvPr/>
            </p:nvSpPr>
            <p:spPr>
              <a:xfrm>
                <a:off x="913680" y="2133720"/>
                <a:ext cx="2314440" cy="2327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99"/>
                    </a:solidFill>
                    <a:latin typeface="Arial"/>
                  </a:rPr>
                  <a:t>*  *</a:t>
                </a:r>
                <a:endParaRPr b="0" i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08" name="Picture 7" descr="Копия Untitled-6"/>
              <p:cNvPicPr/>
              <p:nvPr/>
            </p:nvPicPr>
            <p:blipFill>
              <a:blip r:embed="rId1"/>
              <a:stretch/>
            </p:blipFill>
            <p:spPr>
              <a:xfrm>
                <a:off x="1425960" y="2823480"/>
                <a:ext cx="1270080" cy="158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WordArt 8"/>
              <p:cNvSpPr txBox="1"/>
              <p:nvPr/>
            </p:nvSpPr>
            <p:spPr>
              <a:xfrm rot="21058200">
                <a:off x="913320" y="2204280"/>
                <a:ext cx="2314440" cy="2326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Дорожные   знаки   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10" name="Picture 9" descr="1"/>
              <p:cNvPicPr/>
              <p:nvPr/>
            </p:nvPicPr>
            <p:blipFill>
              <a:blip r:embed="rId2"/>
              <a:stretch/>
            </p:blipFill>
            <p:spPr>
              <a:xfrm rot="306000">
                <a:off x="2648520" y="2931120"/>
                <a:ext cx="516600" cy="46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0" descr="1"/>
              <p:cNvPicPr/>
              <p:nvPr/>
            </p:nvPicPr>
            <p:blipFill>
              <a:blip r:embed="rId3"/>
              <a:stretch/>
            </p:blipFill>
            <p:spPr>
              <a:xfrm rot="20570400">
                <a:off x="1732320" y="2295000"/>
                <a:ext cx="510120" cy="4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1" descr="4"/>
              <p:cNvPicPr/>
              <p:nvPr/>
            </p:nvPicPr>
            <p:blipFill>
              <a:blip r:embed="rId4"/>
              <a:stretch/>
            </p:blipFill>
            <p:spPr>
              <a:xfrm rot="1800600">
                <a:off x="2344320" y="2506320"/>
                <a:ext cx="4089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12" descr="6"/>
              <p:cNvPicPr/>
              <p:nvPr/>
            </p:nvPicPr>
            <p:blipFill>
              <a:blip r:embed="rId5"/>
              <a:stretch/>
            </p:blipFill>
            <p:spPr>
              <a:xfrm rot="20464800">
                <a:off x="1324080" y="2506320"/>
                <a:ext cx="378360" cy="48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3" descr="5"/>
              <p:cNvPicPr/>
              <p:nvPr/>
            </p:nvPicPr>
            <p:blipFill>
              <a:blip r:embed="rId6"/>
              <a:stretch/>
            </p:blipFill>
            <p:spPr>
              <a:xfrm rot="1959000">
                <a:off x="1287360" y="3689280"/>
                <a:ext cx="4053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4" descr="3"/>
              <p:cNvPicPr/>
              <p:nvPr/>
            </p:nvPicPr>
            <p:blipFill>
              <a:blip r:embed="rId7"/>
              <a:stretch/>
            </p:blipFill>
            <p:spPr>
              <a:xfrm>
                <a:off x="1119240" y="3035520"/>
                <a:ext cx="50760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Oval 15"/>
            <p:cNvSpPr/>
            <p:nvPr/>
          </p:nvSpPr>
          <p:spPr>
            <a:xfrm>
              <a:off x="2013480" y="15422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E:\данные\Картинки\пдд\Движение пешеходов запрещено.gif"/>
          <p:cNvPicPr/>
          <p:nvPr/>
        </p:nvPicPr>
        <p:blipFill>
          <a:blip r:embed="rId2"/>
          <a:stretch/>
        </p:blipFill>
        <p:spPr>
          <a:xfrm>
            <a:off x="4214880" y="392904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данные\Картинки\пдд\Дети.gif"/>
          <p:cNvPicPr/>
          <p:nvPr/>
        </p:nvPicPr>
        <p:blipFill>
          <a:blip r:embed="rId3"/>
          <a:stretch/>
        </p:blipFill>
        <p:spPr>
          <a:xfrm>
            <a:off x="1571760" y="3857760"/>
            <a:ext cx="795240" cy="69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:\данные\Картинки\пдд\Дорожные работы.gif"/>
          <p:cNvPicPr/>
          <p:nvPr/>
        </p:nvPicPr>
        <p:blipFill>
          <a:blip r:embed="rId4"/>
          <a:stretch/>
        </p:blipFill>
        <p:spPr>
          <a:xfrm>
            <a:off x="6643800" y="3929040"/>
            <a:ext cx="838080" cy="72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E:\данные\Картинки\пдд\Blue bicycle sign.jpg"/>
          <p:cNvPicPr/>
          <p:nvPr/>
        </p:nvPicPr>
        <p:blipFill>
          <a:blip r:embed="rId5"/>
          <a:stretch/>
        </p:blipFill>
        <p:spPr>
          <a:xfrm>
            <a:off x="6643800" y="1643040"/>
            <a:ext cx="1057320" cy="102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E:\данные\Картинки\пдд\Car passing sign.jpg"/>
          <p:cNvPicPr/>
          <p:nvPr/>
        </p:nvPicPr>
        <p:blipFill>
          <a:blip r:embed="rId6"/>
          <a:stretch/>
        </p:blipFill>
        <p:spPr>
          <a:xfrm>
            <a:off x="3835440" y="1571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E:\данные\Картинки\пдд\Рисунок10.jpg"/>
          <p:cNvPicPr/>
          <p:nvPr/>
        </p:nvPicPr>
        <p:blipFill>
          <a:blip r:embed="rId7"/>
          <a:srcRect l="0" t="0" r="1023" b="0"/>
          <a:stretch/>
        </p:blipFill>
        <p:spPr>
          <a:xfrm>
            <a:off x="1500120" y="1643040"/>
            <a:ext cx="1028880" cy="1039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3"/>
          <p:cNvSpPr/>
          <p:nvPr/>
        </p:nvSpPr>
        <p:spPr>
          <a:xfrm>
            <a:off x="428760" y="292896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ПЕШЕХОДНЫЙ ПЕРЕХ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3357720" y="292896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ОБГОН ЗАПРЕЩ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6000840" y="29289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ВЕЛОСИПЕДНАЯ ДОРОЖ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571680" y="492912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Е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3214800" y="500076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ВИЖЕНИЕ ПЕШЕХОД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6143760" y="50007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ОРОЖНЫЕ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28760" y="356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Движением полон город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Бегут машины в ряд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Цветные светофо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день и ночь гор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" descr="E:\данные\Картинки\пдд\Рисунок14.jpg"/>
          <p:cNvPicPr/>
          <p:nvPr/>
        </p:nvPicPr>
        <p:blipFill>
          <a:blip r:embed="rId1"/>
          <a:stretch/>
        </p:blipFill>
        <p:spPr>
          <a:xfrm>
            <a:off x="1714680" y="3286080"/>
            <a:ext cx="5572080" cy="2651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714920" y="428760"/>
            <a:ext cx="3684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ам, где днём трамва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Спешат со всех сторон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ходить, зевая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считать ворон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E:\данные\Картинки\анимация\транспорт\a2e308d6873de3476e535e50353e0380.gif"/>
          <p:cNvPicPr/>
          <p:nvPr/>
        </p:nvPicPr>
        <p:blipFill>
          <a:blip r:embed="rId2"/>
          <a:stretch/>
        </p:blipFill>
        <p:spPr>
          <a:xfrm>
            <a:off x="6786720" y="1143000"/>
            <a:ext cx="213984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-109440" y="268200"/>
            <a:ext cx="913752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071720" y="1499760"/>
            <a:ext cx="36432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проспекты, и бульвары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юду улицы шум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по тротуар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олько с правой стороны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ут шалить, мешать народ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Быть примерным пешеход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ты гуляешь просто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ё равно вперёд гляд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Через шумный перекрёс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Осторожно проход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ереход при красном све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и зелёном даже дет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E:\данные\Картинки\пдд\Рисунок15.jpg"/>
          <p:cNvPicPr/>
          <p:nvPr/>
        </p:nvPicPr>
        <p:blipFill>
          <a:blip r:embed="rId2"/>
          <a:stretch/>
        </p:blipFill>
        <p:spPr>
          <a:xfrm>
            <a:off x="5857920" y="3786120"/>
            <a:ext cx="2857320" cy="2941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4870440" y="1428840"/>
            <a:ext cx="32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едешь ты в трамва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вокруг тебя наро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Не толкаясь, не зев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скорей вперё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хать «зайцем», как извес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Уступить старушке 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E:\данные\Картинки\пдд\Рисунок3.jpg"/>
          <p:cNvPicPr/>
          <p:nvPr/>
        </p:nvPicPr>
        <p:blipFill>
          <a:blip r:embed="rId3"/>
          <a:stretch/>
        </p:blipFill>
        <p:spPr>
          <a:xfrm>
            <a:off x="142920" y="1643040"/>
            <a:ext cx="915840" cy="9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E:\данные\Картинки\пдд\Рисунок9.png"/>
          <p:cNvPicPr/>
          <p:nvPr/>
        </p:nvPicPr>
        <p:blipFill>
          <a:blip r:embed="rId4"/>
          <a:stretch/>
        </p:blipFill>
        <p:spPr>
          <a:xfrm>
            <a:off x="142920" y="3929040"/>
            <a:ext cx="99216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369280" cy="1560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E:\данные\Картинки\пдд\Рисунок16.jpg"/>
          <p:cNvPicPr/>
          <p:nvPr/>
        </p:nvPicPr>
        <p:blipFill>
          <a:blip r:embed="rId2"/>
          <a:stretch/>
        </p:blipFill>
        <p:spPr>
          <a:xfrm>
            <a:off x="4214880" y="1500120"/>
            <a:ext cx="4438440" cy="48643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42920" y="2214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Трамвай обходят спер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71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Автобус обходят сз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E:\данные\Картинки\анимация\РАЗНОЕ\AG00092_.GIF"/>
          <p:cNvPicPr/>
          <p:nvPr/>
        </p:nvPicPr>
        <p:blipFill>
          <a:blip r:embed="rId3"/>
          <a:stretch/>
        </p:blipFill>
        <p:spPr>
          <a:xfrm>
            <a:off x="3786120" y="228600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E:\данные\Картинки\анимация\РАЗНОЕ\AG00092_.GIF"/>
          <p:cNvPicPr/>
          <p:nvPr/>
        </p:nvPicPr>
        <p:blipFill>
          <a:blip r:embed="rId4"/>
          <a:stretch/>
        </p:blipFill>
        <p:spPr>
          <a:xfrm>
            <a:off x="3786120" y="500076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8" descr=""/>
          <p:cNvPicPr/>
          <p:nvPr/>
        </p:nvPicPr>
        <p:blipFill>
          <a:blip r:embed="rId5"/>
          <a:stretch/>
        </p:blipFill>
        <p:spPr>
          <a:xfrm>
            <a:off x="360360" y="3078000"/>
            <a:ext cx="393048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4:00Z</dcterms:created>
  <dc:creator>ooo</dc:creator>
  <dc:description/>
  <dc:language>en-US</dc:language>
  <cp:lastModifiedBy>1</cp:lastModifiedBy>
  <dcterms:modified xsi:type="dcterms:W3CDTF">2014-11-09T08:16:03Z</dcterms:modified>
  <cp:revision>19</cp:revision>
  <dc:subject/>
  <dc:title>ПРАВИЛА ДОРОЖНОГО ДВИЖЕНИЯ</dc:title>
</cp:coreProperties>
</file>