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BE8-659A-4725-8317-93223F3F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F36-E789-41BF-A200-3CAA2CBE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1B4-8FA0-4AB1-B848-CB170826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60E-41FA-47C0-A601-76FDE011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372B-45D2-44AF-9E0F-F14DD4A8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9768-37FE-4C80-93E6-B5D73A6A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454D-9BBF-40B8-9EBE-B3E2608A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2A0E-EF48-43B8-86C7-E66D458F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FA7A-A1D6-4B83-81EF-8BECC482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D054-17D3-4DF7-AD77-322E0501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377E-3D94-4110-924D-EA9BC696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036-2E12-4F02-BEC9-BC90D919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B582-2CBC-473D-9E92-AC4C2872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1BCD-9221-4FED-9501-5BD5D923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5B35-BFBC-4E4A-890F-53A6533B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3191-E24F-48BE-9355-BABACFBE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76F2-23DC-4914-9914-E50BAB80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C6E-CD91-48E6-9E2B-4B20D0C3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D44-C046-439E-AAC1-2FF3818B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E54-106F-48F5-BB94-DE786E1F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AFA-D392-4F0A-8D15-B9B0E351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0DA-4EBC-499E-849B-0B700D2F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196-2E3F-47FC-9B86-56EB7E83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F68-6108-4006-8113-3702F545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3033-93C1-41AF-AC52-5C9D8300BF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F9A7-5E12-49D3-99B5-1FEC3220D7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Классный час по ПДД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ля 1 - 6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работала  Яворская С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Прежде чем переходить дорогу, посмотрите налево, а дойдя до середины дороги – направо, убедитесь в отсутствии тран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Переходить дорогу можно только по пешеходным переходам. Если на улице, особенно на перекрёстке, нет пешеходного перехода, то её переходят только на перекрёстках по линии тротуара или обо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914400" y="277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должен знать каждый!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Если на улице нет перекрёстка, то переходить дорогу можно только после того, как вы убедитесь, что переход безопасен (нет движущихся вблизи маш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Если вы не успели перейти улицу, особенно с двусторонним движением, то можно переждать движение транспорта на линии, разделяющей дорогу посередине, или на «островке безопас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914400" y="277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должен знать каждый!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При приближении машин с включённым проблесковым маячком и специальным звуковым сигналом (сиреной) – улицу переходить нельзя! Ведь таким машинам можно ехать на красный сигнал светофора. Кто из вас знает – что это за маши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914400" y="277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должен знать каждый!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Arial"/>
              </a:rPr>
              <a:t>Пожарная ма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Arial"/>
              </a:rPr>
              <a:t>Полицейская ма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Arial"/>
              </a:rPr>
              <a:t>Скор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Arial"/>
              </a:rPr>
              <a:t>Реани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машины"/>
          <p:cNvPicPr/>
          <p:nvPr/>
        </p:nvPicPr>
        <p:blipFill>
          <a:blip r:embed="rId1"/>
          <a:stretch/>
        </p:blipFill>
        <p:spPr>
          <a:xfrm>
            <a:off x="5219640" y="1268280"/>
            <a:ext cx="3384720" cy="482616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755640" y="0"/>
            <a:ext cx="727236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шины  со  спецсигнал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990000"/>
                </a:solidFill>
                <a:latin typeface="Times New Roman"/>
              </a:rPr>
              <a:t>Тут придётся задержаться, чтоб в движенье разобраться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Times New Roman"/>
              </a:rPr>
              <a:t>В этой сложной обстанов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990000"/>
                </a:solidFill>
                <a:latin typeface="Times New Roman"/>
              </a:rPr>
              <a:t>должен ты определ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990000"/>
                </a:solidFill>
                <a:latin typeface="Times New Roman"/>
              </a:rPr>
              <a:t>где и как на остановк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Times New Roman"/>
              </a:rPr>
              <a:t>нужно транспорт обход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Трамвай                 Автобус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Обходи трамвай       а автобус                                                                                                                                   как лошадь,              как бы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(спереди)                  (сзад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лош5"/>
          <p:cNvPicPr/>
          <p:nvPr/>
        </p:nvPicPr>
        <p:blipFill>
          <a:blip r:embed="rId1"/>
          <a:stretch/>
        </p:blipFill>
        <p:spPr>
          <a:xfrm>
            <a:off x="1476360" y="357336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бык1"/>
          <p:cNvPicPr/>
          <p:nvPr/>
        </p:nvPicPr>
        <p:blipFill>
          <a:blip r:embed="rId2"/>
          <a:stretch/>
        </p:blipFill>
        <p:spPr>
          <a:xfrm>
            <a:off x="5292720" y="3645000"/>
            <a:ext cx="2736720" cy="223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bf0000"/>
                </a:solidFill>
                <a:latin typeface="Arial"/>
              </a:rPr>
              <a:t>Мне хочется детям напомнить о важном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f0000"/>
                </a:solidFill>
                <a:latin typeface="Arial"/>
              </a:rPr>
              <a:t>Дорога бывает опасной и страш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f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bf0000"/>
                </a:solidFill>
                <a:latin typeface="Arial"/>
              </a:rPr>
              <a:t>Если вы правил не знали дорож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f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bf0000"/>
                </a:solidFill>
                <a:latin typeface="Arial"/>
              </a:rPr>
              <a:t>Я рассказала о бедах возмож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619280" y="333360"/>
            <a:ext cx="60483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7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мн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7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611280" y="1773360"/>
            <a:ext cx="82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ктор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Что нужно делать, если видишь красный цвет на светоф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Если нет тротуара, по какой стороне дороги надо ходить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Какие вы знаете машины со спецсигналами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С какой стороны надо обходить трамвай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С какой стороны надо обходить автобус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Два колеса подряд – их ногами верт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поверх торчком сам хозяин крюч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елосип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На чужой спине ед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на своей груз нес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ед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Шесть ног, две головы,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ин хвост – кто это?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садник на лошади.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.Тянется нит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в клубок не смо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р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5.Два братца убегают,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а догоня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ередние и задние колё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539640" y="260280"/>
            <a:ext cx="784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2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971640" y="620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7f0000"/>
                </a:solidFill>
                <a:uFillTx/>
                <a:latin typeface="Arial"/>
              </a:rPr>
              <a:t>Разминка для у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ребус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52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7f0000"/>
                </a:solidFill>
                <a:uFillTx/>
                <a:latin typeface="Times New Roman"/>
              </a:rPr>
              <a:t>Ответы: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 горизонтали:        По вертик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4.Велосипед.            1.Регулировщ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5.Зебра.                     2.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7.Дети.                      3.Пере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8.Автомобиль.        6.Светоф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9.Троту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Ребус1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2411280" y="26028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7f0000"/>
                </a:solidFill>
                <a:uFillTx/>
                <a:latin typeface="Arial"/>
              </a:rPr>
              <a:t>Ребу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46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f0000"/>
                </a:solidFill>
                <a:latin typeface="Times New Roman"/>
              </a:rPr>
              <a:t>	</a:t>
            </a:r>
            <a:r>
              <a:rPr b="1" i="1" lang="ru-RU" sz="6000" spc="-1" strike="noStrike">
                <a:solidFill>
                  <a:srgbClr val="7f0000"/>
                </a:solidFill>
                <a:latin typeface="Times New Roman"/>
              </a:rPr>
              <a:t>Ответы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755640" y="177336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1.Вод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2.Ул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3.Покры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4.Домк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орожный 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"Светофо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гулирование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40000"/>
                </a:solidFill>
                <a:latin typeface="Arial"/>
                <a:ea typeface="Arial"/>
              </a:rPr>
              <a:t>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0000"/>
                </a:solidFill>
                <a:latin typeface="Arial"/>
                <a:ea typeface="Arial"/>
              </a:rPr>
              <a:t>Если видишь красный свет, стоп, ни с места: хода нет.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0000"/>
                </a:solidFill>
                <a:latin typeface="Arial"/>
                <a:ea typeface="Arial"/>
              </a:rPr>
              <a:t>Если жёлтый свет заметишь - будь внимателен и ж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0000"/>
                </a:solidFill>
                <a:latin typeface="Arial"/>
                <a:ea typeface="Arial"/>
              </a:rPr>
              <a:t>Только при зелёном свете улицу переходи!</a:t>
            </a:r>
            <a:r>
              <a:rPr b="0" lang="ru-RU" sz="2800" spc="-1" strike="noStrike">
                <a:solidFill>
                  <a:srgbClr val="840000"/>
                </a:solidFill>
                <a:latin typeface="Arial"/>
                <a:ea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image014"/>
          <p:cNvPicPr/>
          <p:nvPr/>
        </p:nvPicPr>
        <p:blipFill>
          <a:blip r:embed="rId1"/>
          <a:stretch/>
        </p:blipFill>
        <p:spPr>
          <a:xfrm>
            <a:off x="5508720" y="1773360"/>
            <a:ext cx="2016000" cy="1800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395280" y="40464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f0000"/>
                </a:solidFill>
                <a:uFillTx/>
                <a:latin typeface="Arial"/>
              </a:rPr>
              <a:t>Знаки, которые нужно зн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Arial Unicode MS"/>
              </a:rPr>
              <a:t>Дорожный знак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Arial Unicode MS"/>
              </a:rPr>
              <a:t>"Движение без остановки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Arial Unicode MS"/>
              </a:rPr>
              <a:t>запрещено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Здесь уже иного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казатель пере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Засветилась красным цве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дпись: «Стойте!» - значит СТ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4" descr="image050"/>
          <p:cNvPicPr/>
          <p:nvPr/>
        </p:nvPicPr>
        <p:blipFill>
          <a:blip r:embed="rId1"/>
          <a:stretch/>
        </p:blipFill>
        <p:spPr>
          <a:xfrm>
            <a:off x="684360" y="1484280"/>
            <a:ext cx="2374920" cy="23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Разрешается ходить только по тротуарам, пешеходным дорожкам, а при их отсутствии – по обоч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Если вы идёте группой (более4 человек), не растягивайтесь на всю ширину улицы, дороги. Идите парами или тройками, чтобы не мешать двигаться другим людям и маши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Если нет тротуара и вы идёте по обочине, то можно идти только с левой стороны, навстречу движению транс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611280" y="333360"/>
            <a:ext cx="7934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должен знать каждый!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8:59:10Z</dcterms:created>
  <dc:creator>pupil</dc:creator>
  <dc:description/>
  <dc:language>en-US</dc:language>
  <cp:lastModifiedBy>Home</cp:lastModifiedBy>
  <dcterms:modified xsi:type="dcterms:W3CDTF">2014-11-09T12:16:43Z</dcterms:modified>
  <cp:revision>15</cp:revision>
  <dc:subject/>
  <dc:title>Классный час по ПДД</dc:title>
</cp:coreProperties>
</file>