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132E-9762-4418-8750-D6E0C3AEA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0CB-A0AB-497F-B44E-82B325C25C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A82-8954-4454-838B-DFEE3EE874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3D4E-30EC-4E63-9371-98F54FEB60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778-F1BF-4947-997D-56FD133B13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32C-9AA0-4F73-B8D6-2484349B60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426-5925-453B-8D78-D3D4490A5E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B3C4-23B5-4AF1-AB8C-286C7E1EE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BD5-D286-4DB9-97A7-6152487B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D12-0740-4180-BEC0-04B03C4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036-C530-4AA9-A1D9-91F49DCC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AD9-4EB0-4CEB-84DF-A76C747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391-3517-4DD0-840C-4B1449D9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F5BB-1498-44AC-9851-6105B47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598-3308-445D-9BF5-AAAB3A9B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B8E-D1AE-441B-B6A1-7BE1C33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5BB-E415-4064-9A3C-6280314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A6C3-94F7-47E2-8282-FDEEF84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66A1-186C-415C-867E-04BE587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873-C2E1-4D77-B665-3755AD0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718-47B2-4EB9-A240-555C95B9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D462-92AE-452B-9DDF-8EB1FB8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C75F-74FC-4A0C-BF53-6F8AC4EB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C1E7-D333-4CDB-B41A-D2A61DB5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8B58-C6B1-4AB2-AFE2-C0F862BF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24D-4AD3-4F66-B28E-19322E39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5F6-22AB-4751-B915-CAF50B9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DC7-8E51-41DD-99C8-1484681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ED8-6E04-4051-B301-048800E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33F-C4C5-47F4-A082-031BFF4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7A8-F985-4F1B-9DF4-BA0ED4C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7BB-0F51-4592-AC6B-E0B25524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419A-9AA8-42E8-8123-6D2E54044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AA3-26E0-4E99-A20C-1197A7EE1D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42920" y="836640"/>
            <a:ext cx="6337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то такие зимующие птицы и перелетные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уби, воробьи, сороки, галки, рябчики, тетерева, дятл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воробей"/>
          <p:cNvPicPr/>
          <p:nvPr/>
        </p:nvPicPr>
        <p:blipFill>
          <a:blip r:embed="rId1"/>
          <a:stretch/>
        </p:blipFill>
        <p:spPr>
          <a:xfrm>
            <a:off x="2843280" y="2060640"/>
            <a:ext cx="2520720" cy="1849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голуби"/>
          <p:cNvPicPr/>
          <p:nvPr/>
        </p:nvPicPr>
        <p:blipFill>
          <a:blip r:embed="rId2"/>
          <a:stretch/>
        </p:blipFill>
        <p:spPr>
          <a:xfrm>
            <a:off x="179280" y="2060640"/>
            <a:ext cx="2524320" cy="1886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сорока"/>
          <p:cNvPicPr/>
          <p:nvPr/>
        </p:nvPicPr>
        <p:blipFill>
          <a:blip r:embed="rId3"/>
          <a:stretch/>
        </p:blipFill>
        <p:spPr>
          <a:xfrm>
            <a:off x="5508720" y="2060640"/>
            <a:ext cx="2950920" cy="17748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7"/>
          <p:cNvSpPr txBox="1"/>
          <p:nvPr/>
        </p:nvSpPr>
        <p:spPr>
          <a:xfrm>
            <a:off x="684360" y="260280"/>
            <a:ext cx="5903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едлые птицы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2" name="Picture 4" descr="дятел1"/>
          <p:cNvPicPr/>
          <p:nvPr/>
        </p:nvPicPr>
        <p:blipFill>
          <a:blip r:embed="rId4"/>
          <a:stretch/>
        </p:blipFill>
        <p:spPr>
          <a:xfrm>
            <a:off x="7020000" y="4005360"/>
            <a:ext cx="1908000" cy="1730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тетерев"/>
          <p:cNvPicPr/>
          <p:nvPr/>
        </p:nvPicPr>
        <p:blipFill>
          <a:blip r:embed="rId5"/>
          <a:stretch/>
        </p:blipFill>
        <p:spPr>
          <a:xfrm>
            <a:off x="4859280" y="4076640"/>
            <a:ext cx="2017800" cy="1689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nwe282"/>
          <p:cNvPicPr/>
          <p:nvPr/>
        </p:nvPicPr>
        <p:blipFill>
          <a:blip r:embed="rId6"/>
          <a:stretch/>
        </p:blipFill>
        <p:spPr>
          <a:xfrm>
            <a:off x="179280" y="4076640"/>
            <a:ext cx="2111400" cy="1689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untitled"/>
          <p:cNvPicPr/>
          <p:nvPr/>
        </p:nvPicPr>
        <p:blipFill>
          <a:blip r:embed="rId7"/>
          <a:stretch/>
        </p:blipFill>
        <p:spPr>
          <a:xfrm>
            <a:off x="2411280" y="4076640"/>
            <a:ext cx="23749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е совы, клесты, снегири, гусь-гумен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1d13d3d634ba"/>
          <p:cNvPicPr/>
          <p:nvPr/>
        </p:nvPicPr>
        <p:blipFill>
          <a:blip r:embed="rId1"/>
          <a:stretch/>
        </p:blipFill>
        <p:spPr>
          <a:xfrm>
            <a:off x="539640" y="4581360"/>
            <a:ext cx="2698920" cy="2024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клёст"/>
          <p:cNvPicPr/>
          <p:nvPr/>
        </p:nvPicPr>
        <p:blipFill>
          <a:blip r:embed="rId2"/>
          <a:stretch/>
        </p:blipFill>
        <p:spPr>
          <a:xfrm>
            <a:off x="3564000" y="4581360"/>
            <a:ext cx="2160360" cy="206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снегирь 4"/>
          <p:cNvPicPr/>
          <p:nvPr/>
        </p:nvPicPr>
        <p:blipFill>
          <a:blip r:embed="rId3"/>
          <a:stretch/>
        </p:blipFill>
        <p:spPr>
          <a:xfrm>
            <a:off x="6659640" y="4581360"/>
            <a:ext cx="1939680" cy="20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гусь"/>
          <p:cNvPicPr/>
          <p:nvPr/>
        </p:nvPicPr>
        <p:blipFill>
          <a:blip r:embed="rId4"/>
          <a:stretch/>
        </p:blipFill>
        <p:spPr>
          <a:xfrm>
            <a:off x="2340000" y="2276640"/>
            <a:ext cx="3925800" cy="21049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7"/>
          <p:cNvSpPr txBox="1"/>
          <p:nvPr/>
        </p:nvSpPr>
        <p:spPr>
          <a:xfrm>
            <a:off x="539640" y="404640"/>
            <a:ext cx="583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чующие птицы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, которые ежегодно совершают перелёты от родных мест к местам зимовок и обра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- ласточки, стрижи, кукушки, соловьи, журавли, а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684360" y="333360"/>
            <a:ext cx="455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лётные птицы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5" name="Picture 4" descr="журавль"/>
          <p:cNvPicPr/>
          <p:nvPr/>
        </p:nvPicPr>
        <p:blipFill>
          <a:blip r:embed="rId1"/>
          <a:stretch/>
        </p:blipFill>
        <p:spPr>
          <a:xfrm>
            <a:off x="4284720" y="4653000"/>
            <a:ext cx="2089080" cy="199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ласточки"/>
          <p:cNvPicPr/>
          <p:nvPr/>
        </p:nvPicPr>
        <p:blipFill>
          <a:blip r:embed="rId2"/>
          <a:stretch/>
        </p:blipFill>
        <p:spPr>
          <a:xfrm>
            <a:off x="6659640" y="4724280"/>
            <a:ext cx="1944720" cy="1895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зяблик"/>
          <p:cNvPicPr/>
          <p:nvPr/>
        </p:nvPicPr>
        <p:blipFill>
          <a:blip r:embed="rId3"/>
          <a:stretch/>
        </p:blipFill>
        <p:spPr>
          <a:xfrm>
            <a:off x="3492360" y="2637000"/>
            <a:ext cx="1684440" cy="1944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полевой жаворонок"/>
          <p:cNvPicPr/>
          <p:nvPr/>
        </p:nvPicPr>
        <p:blipFill>
          <a:blip r:embed="rId4"/>
          <a:stretch/>
        </p:blipFill>
        <p:spPr>
          <a:xfrm>
            <a:off x="2124000" y="4581360"/>
            <a:ext cx="1901880" cy="2060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кукушка"/>
          <p:cNvPicPr/>
          <p:nvPr/>
        </p:nvPicPr>
        <p:blipFill>
          <a:blip r:embed="rId5"/>
          <a:stretch/>
        </p:blipFill>
        <p:spPr>
          <a:xfrm>
            <a:off x="179280" y="4581360"/>
            <a:ext cx="1860480" cy="208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скворец"/>
          <p:cNvPicPr/>
          <p:nvPr/>
        </p:nvPicPr>
        <p:blipFill>
          <a:blip r:embed="rId6"/>
          <a:stretch/>
        </p:blipFill>
        <p:spPr>
          <a:xfrm>
            <a:off x="5796000" y="2708280"/>
            <a:ext cx="2573280" cy="1746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грач"/>
          <p:cNvPicPr/>
          <p:nvPr/>
        </p:nvPicPr>
        <p:blipFill>
          <a:blip r:embed="rId7"/>
          <a:stretch/>
        </p:blipFill>
        <p:spPr>
          <a:xfrm>
            <a:off x="324000" y="2708280"/>
            <a:ext cx="22842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771640" y="2205000"/>
            <a:ext cx="22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3"/>
          <p:cNvSpPr txBox="1"/>
          <p:nvPr/>
        </p:nvSpPr>
        <p:spPr>
          <a:xfrm>
            <a:off x="1042920" y="765000"/>
            <a:ext cx="6077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делите на две группы: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1258920" y="1700280"/>
            <a:ext cx="57150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имующие и перелетны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27280" y="476280"/>
            <a:ext cx="3673440" cy="8650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395280" y="2492280"/>
            <a:ext cx="4105440" cy="10098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им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5292720" y="2492280"/>
            <a:ext cx="3743280" cy="107964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ерелё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 flipH="1">
            <a:off x="2627280" y="1341360"/>
            <a:ext cx="1728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4356000" y="1413000"/>
            <a:ext cx="1656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23"/>
          <p:cNvSpPr/>
          <p:nvPr/>
        </p:nvSpPr>
        <p:spPr>
          <a:xfrm>
            <a:off x="179280" y="4724280"/>
            <a:ext cx="3527640" cy="107964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чу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4"/>
          <p:cNvSpPr/>
          <p:nvPr/>
        </p:nvSpPr>
        <p:spPr>
          <a:xfrm>
            <a:off x="4572000" y="4797360"/>
            <a:ext cx="3889440" cy="10810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ед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 flipH="1">
            <a:off x="468360" y="3573360"/>
            <a:ext cx="1800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2268360" y="3573360"/>
            <a:ext cx="251964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в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468360" y="260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ый жилет, красный бер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с, как топор, хвост, как упо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184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м слепая, ночью зряча. Мышей ловит, а не к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50920" y="27813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аской сероватая, повадкой ворова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кунья хрипловатая, известная персо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же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50920" y="4005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оседа пестрая, птица длиннохвоста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а говорливая, самая болтлив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84360" y="486900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весь день ловлю жучк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летаю червяч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плый край я не лета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под крышей обит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к-чирик! Не роб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бывалый … (вороб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дятел1"/>
          <p:cNvPicPr/>
          <p:nvPr/>
        </p:nvPicPr>
        <p:blipFill>
          <a:blip r:embed="rId1"/>
          <a:stretch/>
        </p:blipFill>
        <p:spPr>
          <a:xfrm>
            <a:off x="7236000" y="115920"/>
            <a:ext cx="1439640" cy="13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1d13d3d634ba"/>
          <p:cNvPicPr/>
          <p:nvPr/>
        </p:nvPicPr>
        <p:blipFill>
          <a:blip r:embed="rId2"/>
          <a:stretch/>
        </p:blipFill>
        <p:spPr>
          <a:xfrm>
            <a:off x="7236000" y="1484280"/>
            <a:ext cx="1620720" cy="1216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ворона"/>
          <p:cNvPicPr/>
          <p:nvPr/>
        </p:nvPicPr>
        <p:blipFill>
          <a:blip r:embed="rId3"/>
          <a:srcRect l="0" t="19019" r="0" b="0"/>
          <a:stretch/>
        </p:blipFill>
        <p:spPr>
          <a:xfrm>
            <a:off x="7236000" y="2852640"/>
            <a:ext cx="1584000" cy="1343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сорока"/>
          <p:cNvPicPr/>
          <p:nvPr/>
        </p:nvPicPr>
        <p:blipFill>
          <a:blip r:embed="rId4"/>
          <a:srcRect l="0" t="0" r="11078" b="0"/>
          <a:stretch/>
        </p:blipFill>
        <p:spPr>
          <a:xfrm>
            <a:off x="7236000" y="4292640"/>
            <a:ext cx="165708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воробей"/>
          <p:cNvPicPr/>
          <p:nvPr/>
        </p:nvPicPr>
        <p:blipFill>
          <a:blip r:embed="rId5"/>
          <a:stretch/>
        </p:blipFill>
        <p:spPr>
          <a:xfrm>
            <a:off x="7236000" y="5516640"/>
            <a:ext cx="16570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332000" y="333360"/>
            <a:ext cx="575928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3" descr="ст1"/>
          <p:cNvPicPr/>
          <p:nvPr/>
        </p:nvPicPr>
        <p:blipFill>
          <a:blip r:embed="rId1"/>
          <a:stretch/>
        </p:blipFill>
        <p:spPr>
          <a:xfrm>
            <a:off x="900000" y="1628640"/>
            <a:ext cx="2735280" cy="221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к1"/>
          <p:cNvPicPr/>
          <p:nvPr/>
        </p:nvPicPr>
        <p:blipFill>
          <a:blip r:embed="rId2"/>
          <a:stretch/>
        </p:blipFill>
        <p:spPr>
          <a:xfrm>
            <a:off x="4356000" y="1557360"/>
            <a:ext cx="3024360" cy="2225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пин2"/>
          <p:cNvPicPr/>
          <p:nvPr/>
        </p:nvPicPr>
        <p:blipFill>
          <a:blip r:embed="rId3"/>
          <a:stretch/>
        </p:blipFill>
        <p:spPr>
          <a:xfrm>
            <a:off x="971640" y="4365720"/>
            <a:ext cx="2879640" cy="1936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леб"/>
          <p:cNvPicPr/>
          <p:nvPr/>
        </p:nvPicPr>
        <p:blipFill>
          <a:blip r:embed="rId4"/>
          <a:stretch/>
        </p:blipFill>
        <p:spPr>
          <a:xfrm>
            <a:off x="4572000" y="4292640"/>
            <a:ext cx="26640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195640" y="5084640"/>
            <a:ext cx="403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-танагра,                              7-овсянка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2-нектарник,                          8-трясогузка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-ткачик,                                9-клёст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-амадина,                           10-снегирь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-поползень,                        11-сойка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6-синица,                              12-соро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пт2"/>
          <p:cNvPicPr/>
          <p:nvPr/>
        </p:nvPicPr>
        <p:blipFill>
          <a:blip r:embed="rId1"/>
          <a:stretch/>
        </p:blipFill>
        <p:spPr>
          <a:xfrm>
            <a:off x="755640" y="260280"/>
            <a:ext cx="662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forest019"/>
          <p:cNvPicPr/>
          <p:nvPr/>
        </p:nvPicPr>
        <p:blipFill>
          <a:blip r:embed="rId1"/>
          <a:stretch/>
        </p:blipFill>
        <p:spPr>
          <a:xfrm>
            <a:off x="468360" y="189000"/>
            <a:ext cx="817236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2627280" y="476280"/>
            <a:ext cx="3673440" cy="8650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395280" y="2492280"/>
            <a:ext cx="4105440" cy="10098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им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5292720" y="2492280"/>
            <a:ext cx="3743280" cy="107964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ерелё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2627280" y="1341360"/>
            <a:ext cx="1728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4356000" y="1413000"/>
            <a:ext cx="1656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179280" y="4724280"/>
            <a:ext cx="3527640" cy="107964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чу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>
            <a:off x="4572000" y="4797360"/>
            <a:ext cx="3889440" cy="10810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ед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 flipH="1">
            <a:off x="468360" y="3573360"/>
            <a:ext cx="1800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268360" y="3573360"/>
            <a:ext cx="251964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92" descr="снегирь"/>
          <p:cNvPicPr/>
          <p:nvPr/>
        </p:nvPicPr>
        <p:blipFill>
          <a:blip r:embed="rId1"/>
          <a:stretch/>
        </p:blipFill>
        <p:spPr>
          <a:xfrm>
            <a:off x="395280" y="333360"/>
            <a:ext cx="4248000" cy="3255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свиристель"/>
          <p:cNvPicPr/>
          <p:nvPr/>
        </p:nvPicPr>
        <p:blipFill>
          <a:blip r:embed="rId2"/>
          <a:stretch/>
        </p:blipFill>
        <p:spPr>
          <a:xfrm>
            <a:off x="4788000" y="3500280"/>
            <a:ext cx="3960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, которые зимой не улетают на юг. У них с осени образуется толстый слой подкожного жира, который помогает им переносить голод и холод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826920" y="18900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имующие птицы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395280" y="2133720"/>
            <a:ext cx="5904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едлые птицы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95280" y="2781360"/>
            <a:ext cx="77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цы, которые круглый год живут в одной местности и не улетают на зимовку, так как могут найти корм в холодное время год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9640" y="494172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цы, живущие на далёком севере, и они ежегодно кочуют в пределах определённой области, не улетают в страны с тёплым клим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468360" y="4149720"/>
            <a:ext cx="583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чующие птицы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32:58Z</dcterms:created>
  <dc:creator>Пользователь</dc:creator>
  <dc:description/>
  <dc:language>en-US</dc:language>
  <cp:lastModifiedBy>1</cp:lastModifiedBy>
  <dcterms:modified xsi:type="dcterms:W3CDTF">2014-10-14T08:56:57Z</dcterms:modified>
  <cp:revision>8</cp:revision>
  <dc:subject/>
  <dc:title>Слайд 1</dc:title>
</cp:coreProperties>
</file>