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E31-1F2A-42D5-8DEF-6C56FD77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142-9DB3-4F4A-BBF5-2C0C83ED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A9D-2A76-491D-983C-5DD06733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3D4-BD31-4D97-84DD-4970A88F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FE6-F62E-4874-94EB-150604A7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F2F-F935-46A0-BF9C-9421F1A5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7FE-A93B-4019-BC7B-C6E440FE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D89-E94B-45DF-995E-51615A52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A3A-FD9E-4A20-B538-9419EEFC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004-31A0-4522-BD29-02A7A91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BAC-8102-49E1-928C-C8E6555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E6E-1725-4DEB-ACFA-C42C8EC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739-3187-4F32-A49C-5EB1717C7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Правописание чередующихся гласных </a:t>
            </a: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 и </a:t>
            </a: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1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в</a:t>
            </a: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корне</a:t>
            </a: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7200" spc="-1" strike="noStrike">
                <a:solidFill>
                  <a:srgbClr val="ff0000"/>
                </a:solidFill>
                <a:latin typeface="Arial Black"/>
              </a:rPr>
              <a:t>-рос- </a:t>
            </a: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i="1" lang="ru-RU" sz="7200" spc="-1" strike="noStrike">
                <a:solidFill>
                  <a:srgbClr val="ff0000"/>
                </a:solidFill>
                <a:latin typeface="Arial Black"/>
              </a:rPr>
              <a:t>-раст-</a:t>
            </a: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i="1" lang="ru-RU" sz="7200" spc="-1" strike="noStrike">
                <a:solidFill>
                  <a:srgbClr val="ff0000"/>
                </a:solidFill>
                <a:latin typeface="Arial Black"/>
              </a:rPr>
              <a:t>-ращ-</a:t>
            </a: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14200" y="785880"/>
          <a:ext cx="8786880" cy="5124240"/>
        </p:xfrm>
        <a:graphic>
          <a:graphicData uri="http://schemas.openxmlformats.org/drawingml/2006/table">
            <a:tbl>
              <a:tblPr/>
              <a:tblGrid>
                <a:gridCol w="7286760"/>
                <a:gridCol w="1500120"/>
              </a:tblGrid>
              <a:tr h="5223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4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Знание теоретического материала. Умени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пределять, в каких случаях происходит чередование гласных в корнях -раст-, -ращ-, -рос-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Умение правильно писать сло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корнями -раст-, -ращ-, -ро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мени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пределя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слово по его лексическому значен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Умение конструировать словосочетания, используя слова на изученное прави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3" descr=""/>
          <p:cNvPicPr/>
          <p:nvPr/>
        </p:nvPicPr>
        <p:blipFill>
          <a:blip r:embed="rId1"/>
          <a:stretch/>
        </p:blipFill>
        <p:spPr>
          <a:xfrm>
            <a:off x="-401760" y="743040"/>
            <a:ext cx="100393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42920" y="240480"/>
            <a:ext cx="88581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 по выбор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Выполнить упражнение из учеб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Составить карточку для соседа на изученное правило (10 слов с пропущенными буквами в корнях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Написать небольшой рассказ «Мой любимый уголок природы», употребляя слова и словосочетан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корня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-раст-, -ращ-, -рос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5" descr="Цветок.jpg"/>
          <p:cNvPicPr/>
          <p:nvPr/>
        </p:nvPicPr>
        <p:blipFill>
          <a:blip r:embed="rId1"/>
          <a:stretch/>
        </p:blipFill>
        <p:spPr>
          <a:xfrm>
            <a:off x="2214720" y="-38160"/>
            <a:ext cx="42861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4"/>
          <p:cNvSpPr/>
          <p:nvPr/>
        </p:nvSpPr>
        <p:spPr>
          <a:xfrm>
            <a:off x="142920" y="214200"/>
            <a:ext cx="8786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зделите данные слова на групп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оснуйте свое решен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ставьте пропущенные бук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500040" y="28576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С…довник, р…стение, р…сточек, прил…жить, изл...гать, выр...щенный, в...дяной, выр...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42920" y="385920"/>
            <a:ext cx="8858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-раст-, -ращ-, но - рос- —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Простой вопро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Легко запомнит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-раст-, -ращ-, но - рос-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А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— в -раст-, -ращ-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— только в - рос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42920" y="174600"/>
            <a:ext cx="9001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Отрасль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отдельная область какого-либо рода деятельности, например металлургическая область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ок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стебель растения в самом начале его развития из зерна или кор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овщик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дающий деньги в долг под большие проценты.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214200" y="428760"/>
            <a:ext cx="8715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ов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один из старейших городов России, входящий в Золотое кольцо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ислав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мужское имя, образовавшееся от двух корней: -рост- (росток) и –слав- (слав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537480" y="71280"/>
            <a:ext cx="77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ингвистическая 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97704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лово с О – хло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яно с лукошко, так и выр..сло немнож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во дерево, такова и отр..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..стешь – свое нажив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йте же, дети, р..стите на воле. (Н. Некрасо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и гордые пальмы высоко р..сли. (М.Лермонто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..сли кустарника образовали непроходимую чащ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 р..стет на болотистых мес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г моря покрыт водор..с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и места удивляют богатой р..стительность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1728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 «Угадай-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Молодой ле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(поросль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отдельная область производства, нау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(отрасль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частый кустарник, которым заросло какое-нибудь мес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(заросли)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42920" y="563400"/>
          <a:ext cx="8858160" cy="6456600"/>
        </p:xfrm>
        <a:graphic>
          <a:graphicData uri="http://schemas.openxmlformats.org/drawingml/2006/table">
            <a:tbl>
              <a:tblPr/>
              <a:tblGrid>
                <a:gridCol w="1971720"/>
                <a:gridCol w="4172040"/>
                <a:gridCol w="2714400"/>
              </a:tblGrid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р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 gridSpan="3"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А / 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лож/л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 перед ж, а перед г. Искл. п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ложить — полага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кос/к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, если суффикс -а-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снуться — касать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ос/раст (ращ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 перед с, а перед ст(щ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скл.: отрасль, ростовщик, росток, Ростов, Ростисла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росль — расти, выращен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зор/з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 ударения — а.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л.: зоревать, зоревой, зоря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я - зори, зарев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гор/г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 — без ударения, а — под ударением.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л.: выгарки, прига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гореть — заг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клон/клан, твор/тв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 ударения - о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л.: утва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лонить—кланяться, поклон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ю — тварь, затв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скоч/скак (скач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 ударения о перед ч, а перед к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л.: скачок, скачу, скачи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кочить — скака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: скачки, соск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84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плов/плав (пл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 только в словах: пловец, пловчиха, плов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вучий, поплавок плыву, плыву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ровн/рав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 — ровный, гладкий, прямой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— равный, одинаковый, наравн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л.: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внина, равнение, равняться, поров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, сровня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ять, сравни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(моч) мок/м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 перед ч + мокнуть, пропускать, впитывать жидкость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- макать в жидк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чить, промокать, намокать, обмакну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 / 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/б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беру - собир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р/д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деру — сдир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/п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переть — запир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р/т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, если в слове суффикс -а-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еть — стир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р/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реть — умир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л/сти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стелить — застил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г/жи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жегший — выжиг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т/ч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сочетание, сочетать — от че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чет — вычит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лест/бл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лестеть — блист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А(Я) / ИМ, 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а/жи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lIns="31680" rIns="316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корне им, ин, если суффикс -а-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жать — пожим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я/ни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нять — сним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/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ать — начин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я/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ять — примин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я/кл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клясть — проклин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2"/>
          <p:cNvSpPr/>
          <p:nvPr/>
        </p:nvSpPr>
        <p:spPr>
          <a:xfrm>
            <a:off x="3013920" y="82440"/>
            <a:ext cx="3115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ДОВАНИЕ ГЛАСНЫХ В КОР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4:56:45Z</dcterms:created>
  <dc:creator>User</dc:creator>
  <dc:description/>
  <dc:language>en-US</dc:language>
  <cp:lastModifiedBy>User</cp:lastModifiedBy>
  <dcterms:modified xsi:type="dcterms:W3CDTF">2013-09-24T06:46:11Z</dcterms:modified>
  <cp:revision>12</cp:revision>
  <dc:subject/>
  <dc:title>Правописание чередующихся гласных о и а в корне -рос- ,       -раст-, рос.</dc:title>
</cp:coreProperties>
</file>