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108-598B-43D9-BBEB-6E5D5228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2EA-91C4-4D07-9BCB-C85485C7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764-ED69-4D5A-832A-E4198302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07F-A70B-4BA4-9250-06DA2B76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542-A802-474F-9E2C-72952269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3BD-D46A-430E-BEEC-4E41B78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606-F602-4CEA-ACEA-AE36690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8FE-D667-4313-9C50-FC2E6B5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F89-2967-41EC-8F3B-21458DA6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6DB-60E6-4C4B-8B2D-404240B8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15C-8C98-494D-8F1F-B8EE731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D53-6AEF-4C5D-9B0C-6905D76B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6BC4-3B03-4E25-B2B8-2596D3FBB2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2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116000" y="1413000"/>
            <a:ext cx="662472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воя  иг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2340000" y="3500280"/>
            <a:ext cx="4753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ктори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56000" y="429264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Monotype Corsiva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Monotype Corsiva"/>
              </a:rPr>
              <a:t>Учитель МХ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Monotype Corsiva"/>
              </a:rPr>
              <a:t>МОУ «Гимназия № 34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Monotype Corsiva"/>
              </a:rPr>
              <a:t>Заводского района, г. Сарат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Monotype Corsiva"/>
              </a:rPr>
              <a:t>Аникеева  Наталья Вячеслав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187280" y="836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пределите автора следующих стр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258920" y="1484280"/>
            <a:ext cx="69134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«А что, Джотто,- сказал он,- вдруг бы нам сейчас повстречался человек, который никогда тебя  не видел, - как ты думаешь; поверил бы он,  что  ты -  лучший живописец в мире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« Я думаю, мессер,  что поверил бы в том случае,  если  бы  взглянув  на вас, поверил  бы, что  вы  умеете  читать по склад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nextslide"/>
          </p:cNvPr>
          <p:cNvSpPr/>
          <p:nvPr/>
        </p:nvSpPr>
        <p:spPr>
          <a:xfrm>
            <a:off x="3995640" y="4941720"/>
            <a:ext cx="1081080" cy="93528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4966" h="21600">
                <a:moveTo>
                  <a:pt x="0" y="0"/>
                </a:moveTo>
                <a:lnTo>
                  <a:pt x="24966" y="0"/>
                </a:lnTo>
                <a:lnTo>
                  <a:pt x="24966" y="21600"/>
                </a:lnTo>
                <a:lnTo>
                  <a:pt x="0" y="21600"/>
                </a:lnTo>
                <a:close/>
              </a:path>
              <a:path fill="lightenLess" w="24966" h="21600">
                <a:moveTo>
                  <a:pt x="0" y="0"/>
                </a:moveTo>
                <a:lnTo>
                  <a:pt x="24966" y="0"/>
                </a:lnTo>
                <a:lnTo>
                  <a:pt x="23566" y="1400"/>
                </a:lnTo>
                <a:lnTo>
                  <a:pt x="1400" y="1400"/>
                </a:lnTo>
                <a:close/>
              </a:path>
              <a:path fill="darken" w="24966" h="21600">
                <a:moveTo>
                  <a:pt x="24966" y="0"/>
                </a:moveTo>
                <a:lnTo>
                  <a:pt x="24966" y="21600"/>
                </a:lnTo>
                <a:lnTo>
                  <a:pt x="23566" y="20200"/>
                </a:lnTo>
                <a:lnTo>
                  <a:pt x="23566" y="1400"/>
                </a:lnTo>
                <a:close/>
              </a:path>
              <a:path fill="darkenLess" w="24966" h="21600">
                <a:moveTo>
                  <a:pt x="24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66" y="20200"/>
                </a:lnTo>
                <a:close/>
              </a:path>
              <a:path fill="lighten" w="24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66" h="21600">
                <a:moveTo>
                  <a:pt x="1248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66" h="21600">
                <a:moveTo>
                  <a:pt x="13588" y="14281"/>
                </a:moveTo>
                <a:lnTo>
                  <a:pt x="13588" y="12323"/>
                </a:lnTo>
                <a:cubicBezTo>
                  <a:pt x="13588" y="11496"/>
                  <a:pt x="13919" y="10800"/>
                  <a:pt x="14520" y="10800"/>
                </a:cubicBezTo>
                <a:cubicBezTo>
                  <a:pt x="15651" y="10800"/>
                  <a:pt x="16548" y="9434"/>
                  <a:pt x="16548" y="7849"/>
                </a:cubicBezTo>
                <a:cubicBezTo>
                  <a:pt x="16548" y="5534"/>
                  <a:pt x="14694" y="3794"/>
                  <a:pt x="12483" y="3794"/>
                </a:cubicBezTo>
                <a:cubicBezTo>
                  <a:pt x="10272" y="3794"/>
                  <a:pt x="8601" y="5534"/>
                  <a:pt x="8601" y="7849"/>
                </a:cubicBezTo>
                <a:lnTo>
                  <a:pt x="10455" y="7849"/>
                </a:lnTo>
                <a:cubicBezTo>
                  <a:pt x="10455" y="6709"/>
                  <a:pt x="11378" y="5821"/>
                  <a:pt x="12483" y="5821"/>
                </a:cubicBezTo>
                <a:cubicBezTo>
                  <a:pt x="13588" y="5821"/>
                  <a:pt x="14520" y="6709"/>
                  <a:pt x="14520" y="7849"/>
                </a:cubicBezTo>
                <a:cubicBezTo>
                  <a:pt x="14520" y="8589"/>
                  <a:pt x="14050" y="9320"/>
                  <a:pt x="13588" y="9320"/>
                </a:cubicBezTo>
                <a:cubicBezTo>
                  <a:pt x="12483" y="9320"/>
                  <a:pt x="11378" y="10800"/>
                  <a:pt x="11378" y="12323"/>
                </a:cubicBezTo>
                <a:lnTo>
                  <a:pt x="11378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660033"/>
                </a:solidFill>
                <a:latin typeface="Monotype Corsiva"/>
              </a:rPr>
              <a:t>Боккаччо « Декамерон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042920" y="573408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3" h="21600">
                <a:moveTo>
                  <a:pt x="11776" y="3837"/>
                </a:moveTo>
                <a:lnTo>
                  <a:pt x="14353" y="6448"/>
                </a:lnTo>
                <a:lnTo>
                  <a:pt x="14353" y="4707"/>
                </a:lnTo>
                <a:lnTo>
                  <a:pt x="16128" y="4707"/>
                </a:lnTo>
                <a:lnTo>
                  <a:pt x="16128" y="8224"/>
                </a:lnTo>
                <a:lnTo>
                  <a:pt x="18739" y="10800"/>
                </a:lnTo>
                <a:lnTo>
                  <a:pt x="17086" y="10800"/>
                </a:lnTo>
                <a:lnTo>
                  <a:pt x="17086" y="17989"/>
                </a:lnTo>
                <a:lnTo>
                  <a:pt x="6467" y="17989"/>
                </a:lnTo>
                <a:lnTo>
                  <a:pt x="6467" y="10800"/>
                </a:lnTo>
                <a:lnTo>
                  <a:pt x="4814" y="10800"/>
                </a:lnTo>
                <a:close/>
              </a:path>
              <a:path fill="darkenLess" w="23553" h="21600">
                <a:moveTo>
                  <a:pt x="14353" y="6448"/>
                </a:moveTo>
                <a:lnTo>
                  <a:pt x="14353" y="4707"/>
                </a:lnTo>
                <a:lnTo>
                  <a:pt x="16128" y="4707"/>
                </a:lnTo>
                <a:lnTo>
                  <a:pt x="16128" y="8224"/>
                </a:lnTo>
                <a:close/>
              </a:path>
              <a:path fill="darkenLess" w="23553" h="21600">
                <a:moveTo>
                  <a:pt x="10854" y="14299"/>
                </a:moveTo>
                <a:lnTo>
                  <a:pt x="12699" y="14299"/>
                </a:lnTo>
                <a:lnTo>
                  <a:pt x="12699" y="17989"/>
                </a:lnTo>
                <a:lnTo>
                  <a:pt x="17086" y="17989"/>
                </a:lnTo>
                <a:lnTo>
                  <a:pt x="17086" y="10800"/>
                </a:lnTo>
                <a:lnTo>
                  <a:pt x="6467" y="10800"/>
                </a:lnTo>
                <a:lnTo>
                  <a:pt x="6467" y="17989"/>
                </a:lnTo>
                <a:lnTo>
                  <a:pt x="1085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0081006202612!511"/>
          <p:cNvPicPr/>
          <p:nvPr/>
        </p:nvPicPr>
        <p:blipFill>
          <a:blip r:embed="rId1"/>
          <a:stretch/>
        </p:blipFill>
        <p:spPr>
          <a:xfrm>
            <a:off x="2843280" y="1413000"/>
            <a:ext cx="3070080" cy="47433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>
            <a:hlinkClick r:id="" action="ppaction://hlinkshowjump?jump=nextslide"/>
          </p:cNvPr>
          <p:cNvSpPr/>
          <p:nvPr/>
        </p:nvSpPr>
        <p:spPr>
          <a:xfrm>
            <a:off x="4067280" y="4941720"/>
            <a:ext cx="934920" cy="7923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84" h="21600">
                <a:moveTo>
                  <a:pt x="0" y="0"/>
                </a:moveTo>
                <a:lnTo>
                  <a:pt x="25484" y="0"/>
                </a:lnTo>
                <a:lnTo>
                  <a:pt x="25484" y="21600"/>
                </a:lnTo>
                <a:lnTo>
                  <a:pt x="0" y="21600"/>
                </a:lnTo>
                <a:close/>
              </a:path>
              <a:path fill="lightenLess" w="25484" h="21600">
                <a:moveTo>
                  <a:pt x="0" y="0"/>
                </a:moveTo>
                <a:lnTo>
                  <a:pt x="25484" y="0"/>
                </a:lnTo>
                <a:lnTo>
                  <a:pt x="24084" y="1400"/>
                </a:lnTo>
                <a:lnTo>
                  <a:pt x="1400" y="1400"/>
                </a:lnTo>
                <a:close/>
              </a:path>
              <a:path fill="darken" w="25484" h="21600">
                <a:moveTo>
                  <a:pt x="25484" y="0"/>
                </a:moveTo>
                <a:lnTo>
                  <a:pt x="25484" y="21600"/>
                </a:lnTo>
                <a:lnTo>
                  <a:pt x="24084" y="20200"/>
                </a:lnTo>
                <a:lnTo>
                  <a:pt x="24084" y="1400"/>
                </a:lnTo>
                <a:close/>
              </a:path>
              <a:path fill="darkenLess" w="25484" h="21600">
                <a:moveTo>
                  <a:pt x="25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84" y="20200"/>
                </a:lnTo>
                <a:close/>
              </a:path>
              <a:path fill="lighten" w="25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84" h="21600">
                <a:moveTo>
                  <a:pt x="127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84" h="21600">
                <a:moveTo>
                  <a:pt x="13848" y="14281"/>
                </a:moveTo>
                <a:lnTo>
                  <a:pt x="13848" y="12323"/>
                </a:lnTo>
                <a:cubicBezTo>
                  <a:pt x="13848" y="11496"/>
                  <a:pt x="14178" y="10800"/>
                  <a:pt x="14779" y="10800"/>
                </a:cubicBezTo>
                <a:cubicBezTo>
                  <a:pt x="15910" y="10800"/>
                  <a:pt x="16807" y="9434"/>
                  <a:pt x="16807" y="7849"/>
                </a:cubicBezTo>
                <a:cubicBezTo>
                  <a:pt x="16807" y="5534"/>
                  <a:pt x="14953" y="3794"/>
                  <a:pt x="12742" y="3794"/>
                </a:cubicBezTo>
                <a:cubicBezTo>
                  <a:pt x="10531" y="3794"/>
                  <a:pt x="8860" y="5534"/>
                  <a:pt x="8860" y="7849"/>
                </a:cubicBezTo>
                <a:lnTo>
                  <a:pt x="10714" y="7849"/>
                </a:lnTo>
                <a:cubicBezTo>
                  <a:pt x="10714" y="6709"/>
                  <a:pt x="11637" y="5821"/>
                  <a:pt x="12742" y="5821"/>
                </a:cubicBezTo>
                <a:cubicBezTo>
                  <a:pt x="13848" y="5821"/>
                  <a:pt x="14779" y="6709"/>
                  <a:pt x="14779" y="7849"/>
                </a:cubicBezTo>
                <a:cubicBezTo>
                  <a:pt x="14779" y="8589"/>
                  <a:pt x="14309" y="9320"/>
                  <a:pt x="13848" y="9320"/>
                </a:cubicBezTo>
                <a:cubicBezTo>
                  <a:pt x="12742" y="9320"/>
                  <a:pt x="11637" y="10800"/>
                  <a:pt x="11637" y="12323"/>
                </a:cubicBezTo>
                <a:lnTo>
                  <a:pt x="11637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126880" y="836640"/>
            <a:ext cx="50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Определите автора следующих ст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23840" y="1504800"/>
            <a:ext cx="72932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Благословен день, месяц, лето,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  миг, когда мой взор те очи встре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Благословен  тот край и  дом тот свет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де пленником  я стал прекрасных гла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2843280" y="404640"/>
            <a:ext cx="3384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етрар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140360" y="558972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983204098_tonnel"/>
          <p:cNvPicPr/>
          <p:nvPr/>
        </p:nvPicPr>
        <p:blipFill>
          <a:blip r:embed="rId2"/>
          <a:stretch/>
        </p:blipFill>
        <p:spPr>
          <a:xfrm>
            <a:off x="2987640" y="1268280"/>
            <a:ext cx="3149640" cy="420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aramond"/>
              </a:rPr>
              <a:t>Кто автор этого произведения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4" descr="бегство в Египет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97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AutoShape 5">
            <a:hlinkClick r:id="" action="ppaction://hlinkshowjump?jump=nextslide"/>
          </p:cNvPr>
          <p:cNvSpPr/>
          <p:nvPr/>
        </p:nvSpPr>
        <p:spPr>
          <a:xfrm>
            <a:off x="179280" y="6093000"/>
            <a:ext cx="576360" cy="6490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324">
                <a:moveTo>
                  <a:pt x="0" y="0"/>
                </a:moveTo>
                <a:lnTo>
                  <a:pt x="21600" y="0"/>
                </a:lnTo>
                <a:lnTo>
                  <a:pt x="21600" y="24324"/>
                </a:lnTo>
                <a:lnTo>
                  <a:pt x="0" y="24324"/>
                </a:lnTo>
                <a:close/>
              </a:path>
              <a:path fill="lightenLess" w="21600" h="24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24">
                <a:moveTo>
                  <a:pt x="21600" y="0"/>
                </a:moveTo>
                <a:lnTo>
                  <a:pt x="21600" y="24324"/>
                </a:lnTo>
                <a:lnTo>
                  <a:pt x="20200" y="22924"/>
                </a:lnTo>
                <a:lnTo>
                  <a:pt x="20200" y="1400"/>
                </a:lnTo>
                <a:close/>
              </a:path>
              <a:path fill="darkenLess" w="21600" h="24324">
                <a:moveTo>
                  <a:pt x="21600" y="24324"/>
                </a:moveTo>
                <a:lnTo>
                  <a:pt x="0" y="24324"/>
                </a:lnTo>
                <a:lnTo>
                  <a:pt x="1400" y="22924"/>
                </a:lnTo>
                <a:lnTo>
                  <a:pt x="20200" y="22924"/>
                </a:lnTo>
                <a:close/>
              </a:path>
              <a:path fill="lighten" w="21600" h="24324">
                <a:moveTo>
                  <a:pt x="0" y="24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24"/>
                </a:lnTo>
                <a:close/>
              </a:path>
              <a:path fill="darken" w="21600" h="24324">
                <a:moveTo>
                  <a:pt x="10800" y="161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324">
                <a:moveTo>
                  <a:pt x="11905" y="15643"/>
                </a:moveTo>
                <a:lnTo>
                  <a:pt x="11905" y="13685"/>
                </a:lnTo>
                <a:cubicBezTo>
                  <a:pt x="11905" y="12858"/>
                  <a:pt x="12236" y="12162"/>
                  <a:pt x="12837" y="12162"/>
                </a:cubicBezTo>
                <a:cubicBezTo>
                  <a:pt x="13968" y="12162"/>
                  <a:pt x="14865" y="10795"/>
                  <a:pt x="14865" y="9211"/>
                </a:cubicBezTo>
                <a:cubicBezTo>
                  <a:pt x="14865" y="6896"/>
                  <a:pt x="13011" y="5155"/>
                  <a:pt x="10800" y="5155"/>
                </a:cubicBezTo>
                <a:cubicBezTo>
                  <a:pt x="8589" y="5155"/>
                  <a:pt x="6918" y="6896"/>
                  <a:pt x="6918" y="9211"/>
                </a:cubicBezTo>
                <a:lnTo>
                  <a:pt x="8772" y="9211"/>
                </a:lnTo>
                <a:cubicBezTo>
                  <a:pt x="8772" y="8071"/>
                  <a:pt x="9695" y="7183"/>
                  <a:pt x="10800" y="7183"/>
                </a:cubicBezTo>
                <a:cubicBezTo>
                  <a:pt x="11905" y="7183"/>
                  <a:pt x="12837" y="8071"/>
                  <a:pt x="12837" y="9211"/>
                </a:cubicBezTo>
                <a:cubicBezTo>
                  <a:pt x="12837" y="9951"/>
                  <a:pt x="12367" y="10682"/>
                  <a:pt x="11905" y="10682"/>
                </a:cubicBezTo>
                <a:cubicBezTo>
                  <a:pt x="10800" y="10682"/>
                  <a:pt x="9695" y="12162"/>
                  <a:pt x="9695" y="13685"/>
                </a:cubicBezTo>
                <a:lnTo>
                  <a:pt x="9695" y="1564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/>
          <p:cNvSpPr/>
          <p:nvPr/>
        </p:nvSpPr>
        <p:spPr>
          <a:xfrm>
            <a:off x="3924360" y="4941720"/>
            <a:ext cx="934920" cy="71928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3837"/>
                </a:moveTo>
                <a:lnTo>
                  <a:pt x="16613" y="6448"/>
                </a:lnTo>
                <a:lnTo>
                  <a:pt x="16613" y="4707"/>
                </a:lnTo>
                <a:lnTo>
                  <a:pt x="18388" y="4707"/>
                </a:lnTo>
                <a:lnTo>
                  <a:pt x="18388" y="8224"/>
                </a:lnTo>
                <a:lnTo>
                  <a:pt x="20999" y="10800"/>
                </a:lnTo>
                <a:lnTo>
                  <a:pt x="19345" y="10800"/>
                </a:lnTo>
                <a:lnTo>
                  <a:pt x="19345" y="17989"/>
                </a:lnTo>
                <a:lnTo>
                  <a:pt x="8727" y="17989"/>
                </a:lnTo>
                <a:lnTo>
                  <a:pt x="8727" y="10800"/>
                </a:lnTo>
                <a:lnTo>
                  <a:pt x="7073" y="10800"/>
                </a:lnTo>
                <a:close/>
              </a:path>
              <a:path fill="darkenLess" w="28072" h="21600">
                <a:moveTo>
                  <a:pt x="16613" y="6448"/>
                </a:moveTo>
                <a:lnTo>
                  <a:pt x="16613" y="4707"/>
                </a:lnTo>
                <a:lnTo>
                  <a:pt x="18388" y="4707"/>
                </a:lnTo>
                <a:lnTo>
                  <a:pt x="18388" y="8224"/>
                </a:lnTo>
                <a:close/>
              </a:path>
              <a:path fill="darkenLess" w="28072" h="21600">
                <a:moveTo>
                  <a:pt x="13114" y="14299"/>
                </a:moveTo>
                <a:lnTo>
                  <a:pt x="14959" y="14299"/>
                </a:lnTo>
                <a:lnTo>
                  <a:pt x="14959" y="17989"/>
                </a:lnTo>
                <a:lnTo>
                  <a:pt x="19345" y="17989"/>
                </a:lnTo>
                <a:lnTo>
                  <a:pt x="19345" y="10800"/>
                </a:lnTo>
                <a:lnTo>
                  <a:pt x="8727" y="10800"/>
                </a:lnTo>
                <a:lnTo>
                  <a:pt x="8727" y="17989"/>
                </a:lnTo>
                <a:lnTo>
                  <a:pt x="1311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468360" y="1916280"/>
            <a:ext cx="828036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жотто  «Бегство в Египет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68360" y="476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aramond"/>
              </a:rPr>
              <a:t>Кто автор этого произ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ietta"/>
          <p:cNvPicPr/>
          <p:nvPr/>
        </p:nvPicPr>
        <p:blipFill>
          <a:blip r:embed="rId2"/>
          <a:stretch/>
        </p:blipFill>
        <p:spPr>
          <a:xfrm>
            <a:off x="2700360" y="1197000"/>
            <a:ext cx="3325680" cy="4978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nextslide"/>
          </p:cNvPr>
          <p:cNvSpPr/>
          <p:nvPr/>
        </p:nvSpPr>
        <p:spPr>
          <a:xfrm>
            <a:off x="1332000" y="515772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2" h="21600">
                <a:moveTo>
                  <a:pt x="1177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42" h="21600">
                <a:moveTo>
                  <a:pt x="12876" y="14281"/>
                </a:moveTo>
                <a:lnTo>
                  <a:pt x="12876" y="12323"/>
                </a:lnTo>
                <a:cubicBezTo>
                  <a:pt x="12876" y="11496"/>
                  <a:pt x="13207" y="10800"/>
                  <a:pt x="13808" y="10800"/>
                </a:cubicBezTo>
                <a:cubicBezTo>
                  <a:pt x="14939" y="10800"/>
                  <a:pt x="15836" y="9434"/>
                  <a:pt x="15836" y="7849"/>
                </a:cubicBezTo>
                <a:cubicBezTo>
                  <a:pt x="15836" y="5534"/>
                  <a:pt x="13982" y="3794"/>
                  <a:pt x="11771" y="3794"/>
                </a:cubicBezTo>
                <a:cubicBezTo>
                  <a:pt x="9560" y="3794"/>
                  <a:pt x="7889" y="5534"/>
                  <a:pt x="7889" y="7849"/>
                </a:cubicBezTo>
                <a:lnTo>
                  <a:pt x="9743" y="7849"/>
                </a:lnTo>
                <a:cubicBezTo>
                  <a:pt x="9743" y="6709"/>
                  <a:pt x="10666" y="5821"/>
                  <a:pt x="11771" y="5821"/>
                </a:cubicBezTo>
                <a:cubicBezTo>
                  <a:pt x="12876" y="5821"/>
                  <a:pt x="13808" y="6709"/>
                  <a:pt x="13808" y="7849"/>
                </a:cubicBezTo>
                <a:cubicBezTo>
                  <a:pt x="13808" y="8589"/>
                  <a:pt x="13338" y="9320"/>
                  <a:pt x="12876" y="9320"/>
                </a:cubicBezTo>
                <a:cubicBezTo>
                  <a:pt x="11771" y="9320"/>
                  <a:pt x="10666" y="10800"/>
                  <a:pt x="10666" y="12323"/>
                </a:cubicBezTo>
                <a:lnTo>
                  <a:pt x="10666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/>
          <p:cNvSpPr/>
          <p:nvPr/>
        </p:nvSpPr>
        <p:spPr>
          <a:xfrm>
            <a:off x="3995640" y="4653000"/>
            <a:ext cx="935280" cy="719280"/>
          </a:xfrm>
          <a:custGeom>
            <a:avLst/>
            <a:gdLst>
              <a:gd name="textAreaLeft" fmla="*/ 46440 w 935280"/>
              <a:gd name="textAreaRight" fmla="*/ 888840 w 9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083" h="21600">
                <a:moveTo>
                  <a:pt x="0" y="0"/>
                </a:moveTo>
                <a:lnTo>
                  <a:pt x="28083" y="0"/>
                </a:lnTo>
                <a:lnTo>
                  <a:pt x="28083" y="21600"/>
                </a:lnTo>
                <a:lnTo>
                  <a:pt x="0" y="21600"/>
                </a:lnTo>
                <a:close/>
              </a:path>
              <a:path fill="lightenLess" w="28083" h="21600">
                <a:moveTo>
                  <a:pt x="0" y="0"/>
                </a:moveTo>
                <a:lnTo>
                  <a:pt x="28083" y="0"/>
                </a:lnTo>
                <a:lnTo>
                  <a:pt x="26683" y="1400"/>
                </a:lnTo>
                <a:lnTo>
                  <a:pt x="1400" y="1400"/>
                </a:lnTo>
                <a:close/>
              </a:path>
              <a:path fill="darken" w="28083" h="21600">
                <a:moveTo>
                  <a:pt x="28083" y="0"/>
                </a:moveTo>
                <a:lnTo>
                  <a:pt x="28083" y="21600"/>
                </a:lnTo>
                <a:lnTo>
                  <a:pt x="26683" y="20200"/>
                </a:lnTo>
                <a:lnTo>
                  <a:pt x="26683" y="1400"/>
                </a:lnTo>
                <a:close/>
              </a:path>
              <a:path fill="darkenLess" w="28083" h="21600">
                <a:moveTo>
                  <a:pt x="28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3" y="20200"/>
                </a:lnTo>
                <a:close/>
              </a:path>
              <a:path fill="lighten" w="28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3" h="21600">
                <a:moveTo>
                  <a:pt x="14042" y="3837"/>
                </a:moveTo>
                <a:lnTo>
                  <a:pt x="16618" y="6448"/>
                </a:lnTo>
                <a:lnTo>
                  <a:pt x="16618" y="4707"/>
                </a:lnTo>
                <a:lnTo>
                  <a:pt x="18393" y="4707"/>
                </a:lnTo>
                <a:lnTo>
                  <a:pt x="18393" y="8224"/>
                </a:lnTo>
                <a:lnTo>
                  <a:pt x="21005" y="10800"/>
                </a:lnTo>
                <a:lnTo>
                  <a:pt x="19351" y="10800"/>
                </a:lnTo>
                <a:lnTo>
                  <a:pt x="19351" y="17989"/>
                </a:lnTo>
                <a:lnTo>
                  <a:pt x="8732" y="17989"/>
                </a:lnTo>
                <a:lnTo>
                  <a:pt x="8732" y="10800"/>
                </a:lnTo>
                <a:lnTo>
                  <a:pt x="7079" y="10800"/>
                </a:lnTo>
                <a:close/>
              </a:path>
              <a:path fill="darkenLess" w="28083" h="21600">
                <a:moveTo>
                  <a:pt x="16618" y="6448"/>
                </a:moveTo>
                <a:lnTo>
                  <a:pt x="16618" y="4707"/>
                </a:lnTo>
                <a:lnTo>
                  <a:pt x="18393" y="4707"/>
                </a:lnTo>
                <a:lnTo>
                  <a:pt x="18393" y="8224"/>
                </a:lnTo>
                <a:close/>
              </a:path>
              <a:path fill="darkenLess" w="28083" h="21600">
                <a:moveTo>
                  <a:pt x="13119" y="14299"/>
                </a:moveTo>
                <a:lnTo>
                  <a:pt x="14964" y="14299"/>
                </a:lnTo>
                <a:lnTo>
                  <a:pt x="14964" y="17989"/>
                </a:lnTo>
                <a:lnTo>
                  <a:pt x="19351" y="17989"/>
                </a:lnTo>
                <a:lnTo>
                  <a:pt x="19351" y="10800"/>
                </a:lnTo>
                <a:lnTo>
                  <a:pt x="8732" y="10800"/>
                </a:lnTo>
                <a:lnTo>
                  <a:pt x="8732" y="17989"/>
                </a:lnTo>
                <a:lnTo>
                  <a:pt x="1311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684360" y="1700280"/>
            <a:ext cx="748800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келанджело « Пьетта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049120" y="69228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Кто  автор  этого произве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284720" y="242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>
            <a:hlinkClick r:id="" action="ppaction://hlinkshowjump?jump=nextslide"/>
          </p:cNvPr>
          <p:cNvSpPr/>
          <p:nvPr/>
        </p:nvSpPr>
        <p:spPr>
          <a:xfrm>
            <a:off x="4067280" y="5229360"/>
            <a:ext cx="1081080" cy="93636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37" h="21600">
                <a:moveTo>
                  <a:pt x="0" y="0"/>
                </a:moveTo>
                <a:lnTo>
                  <a:pt x="24937" y="0"/>
                </a:lnTo>
                <a:lnTo>
                  <a:pt x="24937" y="21600"/>
                </a:lnTo>
                <a:lnTo>
                  <a:pt x="0" y="21600"/>
                </a:lnTo>
                <a:close/>
              </a:path>
              <a:path fill="lightenLess" w="24937" h="21600">
                <a:moveTo>
                  <a:pt x="0" y="0"/>
                </a:moveTo>
                <a:lnTo>
                  <a:pt x="24937" y="0"/>
                </a:lnTo>
                <a:lnTo>
                  <a:pt x="23537" y="1400"/>
                </a:lnTo>
                <a:lnTo>
                  <a:pt x="1400" y="1400"/>
                </a:lnTo>
                <a:close/>
              </a:path>
              <a:path fill="darken" w="24937" h="21600">
                <a:moveTo>
                  <a:pt x="24937" y="0"/>
                </a:moveTo>
                <a:lnTo>
                  <a:pt x="24937" y="21600"/>
                </a:lnTo>
                <a:lnTo>
                  <a:pt x="23537" y="20200"/>
                </a:lnTo>
                <a:lnTo>
                  <a:pt x="23537" y="1400"/>
                </a:lnTo>
                <a:close/>
              </a:path>
              <a:path fill="darkenLess" w="24937" h="21600">
                <a:moveTo>
                  <a:pt x="24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37" y="20200"/>
                </a:lnTo>
                <a:close/>
              </a:path>
              <a:path fill="lighten" w="24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37" h="21600">
                <a:moveTo>
                  <a:pt x="124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37" h="21600">
                <a:moveTo>
                  <a:pt x="13574" y="14281"/>
                </a:moveTo>
                <a:lnTo>
                  <a:pt x="13574" y="12323"/>
                </a:lnTo>
                <a:cubicBezTo>
                  <a:pt x="13574" y="11496"/>
                  <a:pt x="13905" y="10800"/>
                  <a:pt x="14505" y="10800"/>
                </a:cubicBezTo>
                <a:cubicBezTo>
                  <a:pt x="15637" y="10800"/>
                  <a:pt x="16533" y="9434"/>
                  <a:pt x="16533" y="7849"/>
                </a:cubicBezTo>
                <a:cubicBezTo>
                  <a:pt x="16533" y="5534"/>
                  <a:pt x="14679" y="3794"/>
                  <a:pt x="12469" y="3794"/>
                </a:cubicBezTo>
                <a:cubicBezTo>
                  <a:pt x="10258" y="3794"/>
                  <a:pt x="8587" y="5534"/>
                  <a:pt x="8587" y="7849"/>
                </a:cubicBezTo>
                <a:lnTo>
                  <a:pt x="10441" y="7849"/>
                </a:lnTo>
                <a:cubicBezTo>
                  <a:pt x="10441" y="6709"/>
                  <a:pt x="11363" y="5821"/>
                  <a:pt x="12469" y="5821"/>
                </a:cubicBezTo>
                <a:cubicBezTo>
                  <a:pt x="13574" y="5821"/>
                  <a:pt x="14505" y="6709"/>
                  <a:pt x="14505" y="7849"/>
                </a:cubicBezTo>
                <a:cubicBezTo>
                  <a:pt x="14505" y="8589"/>
                  <a:pt x="14035" y="9320"/>
                  <a:pt x="13574" y="9320"/>
                </a:cubicBezTo>
                <a:cubicBezTo>
                  <a:pt x="12469" y="9320"/>
                  <a:pt x="11363" y="10800"/>
                  <a:pt x="11363" y="12323"/>
                </a:cubicBezTo>
                <a:lnTo>
                  <a:pt x="11363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>
            <a:off x="3995640" y="4653000"/>
            <a:ext cx="935280" cy="719280"/>
          </a:xfrm>
          <a:custGeom>
            <a:avLst/>
            <a:gdLst>
              <a:gd name="textAreaLeft" fmla="*/ 46440 w 935280"/>
              <a:gd name="textAreaRight" fmla="*/ 888840 w 9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083" h="21600">
                <a:moveTo>
                  <a:pt x="0" y="0"/>
                </a:moveTo>
                <a:lnTo>
                  <a:pt x="28083" y="0"/>
                </a:lnTo>
                <a:lnTo>
                  <a:pt x="28083" y="21600"/>
                </a:lnTo>
                <a:lnTo>
                  <a:pt x="0" y="21600"/>
                </a:lnTo>
                <a:close/>
              </a:path>
              <a:path fill="lightenLess" w="28083" h="21600">
                <a:moveTo>
                  <a:pt x="0" y="0"/>
                </a:moveTo>
                <a:lnTo>
                  <a:pt x="28083" y="0"/>
                </a:lnTo>
                <a:lnTo>
                  <a:pt x="26683" y="1400"/>
                </a:lnTo>
                <a:lnTo>
                  <a:pt x="1400" y="1400"/>
                </a:lnTo>
                <a:close/>
              </a:path>
              <a:path fill="darken" w="28083" h="21600">
                <a:moveTo>
                  <a:pt x="28083" y="0"/>
                </a:moveTo>
                <a:lnTo>
                  <a:pt x="28083" y="21600"/>
                </a:lnTo>
                <a:lnTo>
                  <a:pt x="26683" y="20200"/>
                </a:lnTo>
                <a:lnTo>
                  <a:pt x="26683" y="1400"/>
                </a:lnTo>
                <a:close/>
              </a:path>
              <a:path fill="darkenLess" w="28083" h="21600">
                <a:moveTo>
                  <a:pt x="28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3" y="20200"/>
                </a:lnTo>
                <a:close/>
              </a:path>
              <a:path fill="lighten" w="28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3" h="21600">
                <a:moveTo>
                  <a:pt x="14042" y="3837"/>
                </a:moveTo>
                <a:lnTo>
                  <a:pt x="16618" y="6448"/>
                </a:lnTo>
                <a:lnTo>
                  <a:pt x="16618" y="4707"/>
                </a:lnTo>
                <a:lnTo>
                  <a:pt x="18393" y="4707"/>
                </a:lnTo>
                <a:lnTo>
                  <a:pt x="18393" y="8224"/>
                </a:lnTo>
                <a:lnTo>
                  <a:pt x="21005" y="10800"/>
                </a:lnTo>
                <a:lnTo>
                  <a:pt x="19351" y="10800"/>
                </a:lnTo>
                <a:lnTo>
                  <a:pt x="19351" y="17989"/>
                </a:lnTo>
                <a:lnTo>
                  <a:pt x="8732" y="17989"/>
                </a:lnTo>
                <a:lnTo>
                  <a:pt x="8732" y="10800"/>
                </a:lnTo>
                <a:lnTo>
                  <a:pt x="7079" y="10800"/>
                </a:lnTo>
                <a:close/>
              </a:path>
              <a:path fill="darkenLess" w="28083" h="21600">
                <a:moveTo>
                  <a:pt x="16618" y="6448"/>
                </a:moveTo>
                <a:lnTo>
                  <a:pt x="16618" y="4707"/>
                </a:lnTo>
                <a:lnTo>
                  <a:pt x="18393" y="4707"/>
                </a:lnTo>
                <a:lnTo>
                  <a:pt x="18393" y="8224"/>
                </a:lnTo>
                <a:close/>
              </a:path>
              <a:path fill="darkenLess" w="28083" h="21600">
                <a:moveTo>
                  <a:pt x="13119" y="14299"/>
                </a:moveTo>
                <a:lnTo>
                  <a:pt x="14964" y="14299"/>
                </a:lnTo>
                <a:lnTo>
                  <a:pt x="14964" y="17989"/>
                </a:lnTo>
                <a:lnTo>
                  <a:pt x="19351" y="17989"/>
                </a:lnTo>
                <a:lnTo>
                  <a:pt x="19351" y="10800"/>
                </a:lnTo>
                <a:lnTo>
                  <a:pt x="8732" y="10800"/>
                </a:lnTo>
                <a:lnTo>
                  <a:pt x="8732" y="17989"/>
                </a:lnTo>
                <a:lnTo>
                  <a:pt x="1311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1042920" y="1700280"/>
            <a:ext cx="712800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.  В. Бетховен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  Симфония  №9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8"/>
          <p:cNvSpPr/>
          <p:nvPr/>
        </p:nvSpPr>
        <p:spPr>
          <a:xfrm>
            <a:off x="6740640" y="4106880"/>
            <a:ext cx="1719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4946760" y="4106880"/>
            <a:ext cx="17938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3376440" y="4106880"/>
            <a:ext cx="157032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611280" y="4106880"/>
            <a:ext cx="276516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Шедев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740640" y="2751120"/>
            <a:ext cx="1719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946760" y="2751120"/>
            <a:ext cx="1793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76440" y="2751120"/>
            <a:ext cx="157032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611280" y="2751120"/>
            <a:ext cx="27651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В поэтической мастер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6740640" y="1197000"/>
            <a:ext cx="171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946760" y="1197000"/>
            <a:ext cx="179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376440" y="1197000"/>
            <a:ext cx="1570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11280" y="1197000"/>
            <a:ext cx="2765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Позвольте  представ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611280" y="119700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611280" y="27511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611280" y="41068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611280" y="546084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611280" y="1197000"/>
            <a:ext cx="0" cy="42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3376440" y="1197000"/>
            <a:ext cx="0" cy="42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4946760" y="1197000"/>
            <a:ext cx="0" cy="42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6740640" y="1197000"/>
            <a:ext cx="0" cy="42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8459640" y="1197000"/>
            <a:ext cx="0" cy="42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042920" y="157644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Monotype Corsiva"/>
              </a:rPr>
              <a:t>Это  выдающийся  итальянский поэт 13-14 вв., создатель итальянского  литературного  языка, оказал большое влияние на  развитие  европейской 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nextslide"/>
          </p:cNvPr>
          <p:cNvSpPr/>
          <p:nvPr/>
        </p:nvSpPr>
        <p:spPr>
          <a:xfrm>
            <a:off x="4211640" y="5445000"/>
            <a:ext cx="1009800" cy="720720"/>
          </a:xfrm>
          <a:custGeom>
            <a:avLst/>
            <a:gdLst>
              <a:gd name="textAreaLeft" fmla="*/ 46440 w 1009800"/>
              <a:gd name="textAreaRight" fmla="*/ 963360 w 10098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59" h="21600">
                <a:moveTo>
                  <a:pt x="0" y="0"/>
                </a:moveTo>
                <a:lnTo>
                  <a:pt x="30259" y="0"/>
                </a:lnTo>
                <a:lnTo>
                  <a:pt x="30259" y="21600"/>
                </a:lnTo>
                <a:lnTo>
                  <a:pt x="0" y="21600"/>
                </a:lnTo>
                <a:close/>
              </a:path>
              <a:path fill="lightenLess" w="30259" h="21600">
                <a:moveTo>
                  <a:pt x="0" y="0"/>
                </a:moveTo>
                <a:lnTo>
                  <a:pt x="30259" y="0"/>
                </a:lnTo>
                <a:lnTo>
                  <a:pt x="28859" y="1400"/>
                </a:lnTo>
                <a:lnTo>
                  <a:pt x="1400" y="1400"/>
                </a:lnTo>
                <a:close/>
              </a:path>
              <a:path fill="darken" w="30259" h="21600">
                <a:moveTo>
                  <a:pt x="30259" y="0"/>
                </a:moveTo>
                <a:lnTo>
                  <a:pt x="30259" y="21600"/>
                </a:lnTo>
                <a:lnTo>
                  <a:pt x="28859" y="20200"/>
                </a:lnTo>
                <a:lnTo>
                  <a:pt x="28859" y="1400"/>
                </a:lnTo>
                <a:close/>
              </a:path>
              <a:path fill="darkenLess" w="30259" h="21600">
                <a:moveTo>
                  <a:pt x="30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9" y="20200"/>
                </a:lnTo>
                <a:close/>
              </a:path>
              <a:path fill="lighten" w="30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9" h="21600">
                <a:moveTo>
                  <a:pt x="1513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59" h="21600">
                <a:moveTo>
                  <a:pt x="16235" y="14281"/>
                </a:moveTo>
                <a:lnTo>
                  <a:pt x="16235" y="12323"/>
                </a:lnTo>
                <a:cubicBezTo>
                  <a:pt x="16235" y="11496"/>
                  <a:pt x="16566" y="10800"/>
                  <a:pt x="17166" y="10800"/>
                </a:cubicBezTo>
                <a:cubicBezTo>
                  <a:pt x="18298" y="10800"/>
                  <a:pt x="19194" y="9434"/>
                  <a:pt x="19194" y="7849"/>
                </a:cubicBezTo>
                <a:cubicBezTo>
                  <a:pt x="19194" y="5534"/>
                  <a:pt x="17340" y="3794"/>
                  <a:pt x="15130" y="3794"/>
                </a:cubicBezTo>
                <a:cubicBezTo>
                  <a:pt x="12919" y="3794"/>
                  <a:pt x="11248" y="5534"/>
                  <a:pt x="11248" y="7849"/>
                </a:cubicBezTo>
                <a:lnTo>
                  <a:pt x="13102" y="7849"/>
                </a:lnTo>
                <a:cubicBezTo>
                  <a:pt x="13102" y="6709"/>
                  <a:pt x="14024" y="5821"/>
                  <a:pt x="15130" y="5821"/>
                </a:cubicBezTo>
                <a:cubicBezTo>
                  <a:pt x="16235" y="5821"/>
                  <a:pt x="17166" y="6709"/>
                  <a:pt x="17166" y="7849"/>
                </a:cubicBezTo>
                <a:cubicBezTo>
                  <a:pt x="17166" y="8589"/>
                  <a:pt x="16696" y="9320"/>
                  <a:pt x="16235" y="9320"/>
                </a:cubicBezTo>
                <a:cubicBezTo>
                  <a:pt x="15130" y="9320"/>
                  <a:pt x="14024" y="10800"/>
                  <a:pt x="14024" y="12323"/>
                </a:cubicBezTo>
                <a:lnTo>
                  <a:pt x="14024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1619280" y="33336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анте Алигьер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6" descr="Dante_alighieri"/>
          <p:cNvPicPr/>
          <p:nvPr/>
        </p:nvPicPr>
        <p:blipFill>
          <a:blip r:embed="rId1"/>
          <a:stretch/>
        </p:blipFill>
        <p:spPr>
          <a:xfrm>
            <a:off x="2268360" y="1268280"/>
            <a:ext cx="4097520" cy="5305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>
            <a:hlinkClick r:id="rId2" action="ppaction://hlinksldjump"/>
          </p:cNvPr>
          <p:cNvSpPr/>
          <p:nvPr/>
        </p:nvSpPr>
        <p:spPr>
          <a:xfrm>
            <a:off x="46836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403280" y="1916280"/>
            <a:ext cx="6573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н был не только другом Петрарки, но  и автором «Декамерона», « Жизни Дан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>
            <a:hlinkClick r:id="rId2" action="ppaction://hlinksldjump"/>
          </p:cNvPr>
          <p:cNvSpPr/>
          <p:nvPr/>
        </p:nvSpPr>
        <p:spPr>
          <a:xfrm>
            <a:off x="4140360" y="5013360"/>
            <a:ext cx="1150920" cy="1079640"/>
          </a:xfrm>
          <a:custGeom>
            <a:avLst/>
            <a:gdLst>
              <a:gd name="textAreaLeft" fmla="*/ 69840 w 1150920"/>
              <a:gd name="textAreaRight" fmla="*/ 1081080 w 11509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3026" h="21600">
                <a:moveTo>
                  <a:pt x="0" y="0"/>
                </a:moveTo>
                <a:lnTo>
                  <a:pt x="23026" y="0"/>
                </a:lnTo>
                <a:lnTo>
                  <a:pt x="23026" y="21600"/>
                </a:lnTo>
                <a:lnTo>
                  <a:pt x="0" y="21600"/>
                </a:lnTo>
                <a:close/>
              </a:path>
              <a:path fill="lightenLess" w="23026" h="21600">
                <a:moveTo>
                  <a:pt x="0" y="0"/>
                </a:moveTo>
                <a:lnTo>
                  <a:pt x="23026" y="0"/>
                </a:lnTo>
                <a:lnTo>
                  <a:pt x="21626" y="1400"/>
                </a:lnTo>
                <a:lnTo>
                  <a:pt x="1400" y="1400"/>
                </a:lnTo>
                <a:close/>
              </a:path>
              <a:path fill="darken" w="23026" h="21600">
                <a:moveTo>
                  <a:pt x="23026" y="0"/>
                </a:moveTo>
                <a:lnTo>
                  <a:pt x="23026" y="21600"/>
                </a:lnTo>
                <a:lnTo>
                  <a:pt x="21626" y="20200"/>
                </a:lnTo>
                <a:lnTo>
                  <a:pt x="21626" y="1400"/>
                </a:lnTo>
                <a:close/>
              </a:path>
              <a:path fill="darkenLess" w="23026" h="21600">
                <a:moveTo>
                  <a:pt x="23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6" y="20200"/>
                </a:lnTo>
                <a:close/>
              </a:path>
              <a:path fill="lighten" w="23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6" h="21600">
                <a:moveTo>
                  <a:pt x="11513" y="3837"/>
                </a:moveTo>
                <a:lnTo>
                  <a:pt x="14089" y="6448"/>
                </a:lnTo>
                <a:lnTo>
                  <a:pt x="14089" y="4707"/>
                </a:lnTo>
                <a:lnTo>
                  <a:pt x="15865" y="4707"/>
                </a:lnTo>
                <a:lnTo>
                  <a:pt x="15865" y="8224"/>
                </a:lnTo>
                <a:lnTo>
                  <a:pt x="18476" y="10800"/>
                </a:lnTo>
                <a:lnTo>
                  <a:pt x="16822" y="10800"/>
                </a:lnTo>
                <a:lnTo>
                  <a:pt x="16822" y="17989"/>
                </a:lnTo>
                <a:lnTo>
                  <a:pt x="6204" y="17989"/>
                </a:lnTo>
                <a:lnTo>
                  <a:pt x="6204" y="10800"/>
                </a:lnTo>
                <a:lnTo>
                  <a:pt x="4550" y="10800"/>
                </a:lnTo>
                <a:close/>
              </a:path>
              <a:path fill="darkenLess" w="23026" h="21600">
                <a:moveTo>
                  <a:pt x="14089" y="6448"/>
                </a:moveTo>
                <a:lnTo>
                  <a:pt x="14089" y="4707"/>
                </a:lnTo>
                <a:lnTo>
                  <a:pt x="15865" y="4707"/>
                </a:lnTo>
                <a:lnTo>
                  <a:pt x="15865" y="8224"/>
                </a:lnTo>
                <a:close/>
              </a:path>
              <a:path fill="darkenLess" w="23026" h="21600">
                <a:moveTo>
                  <a:pt x="10590" y="14299"/>
                </a:moveTo>
                <a:lnTo>
                  <a:pt x="12435" y="14299"/>
                </a:lnTo>
                <a:lnTo>
                  <a:pt x="12435" y="17989"/>
                </a:lnTo>
                <a:lnTo>
                  <a:pt x="16822" y="17989"/>
                </a:lnTo>
                <a:lnTo>
                  <a:pt x="16822" y="10800"/>
                </a:lnTo>
                <a:lnTo>
                  <a:pt x="6204" y="10800"/>
                </a:lnTo>
                <a:lnTo>
                  <a:pt x="6204" y="17989"/>
                </a:lnTo>
                <a:lnTo>
                  <a:pt x="10590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042920" y="1700280"/>
            <a:ext cx="71503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Этого иностранного художника называли  и  «королём  живописи» и «живописцем коро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>
            <a:hlinkClick r:id="" action="ppaction://hlinkshowjump?jump=nextslide"/>
          </p:cNvPr>
          <p:cNvSpPr/>
          <p:nvPr/>
        </p:nvSpPr>
        <p:spPr>
          <a:xfrm>
            <a:off x="4284720" y="5157720"/>
            <a:ext cx="934920" cy="7923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84" h="21600">
                <a:moveTo>
                  <a:pt x="0" y="0"/>
                </a:moveTo>
                <a:lnTo>
                  <a:pt x="25484" y="0"/>
                </a:lnTo>
                <a:lnTo>
                  <a:pt x="25484" y="21600"/>
                </a:lnTo>
                <a:lnTo>
                  <a:pt x="0" y="21600"/>
                </a:lnTo>
                <a:close/>
              </a:path>
              <a:path fill="lightenLess" w="25484" h="21600">
                <a:moveTo>
                  <a:pt x="0" y="0"/>
                </a:moveTo>
                <a:lnTo>
                  <a:pt x="25484" y="0"/>
                </a:lnTo>
                <a:lnTo>
                  <a:pt x="24084" y="1400"/>
                </a:lnTo>
                <a:lnTo>
                  <a:pt x="1400" y="1400"/>
                </a:lnTo>
                <a:close/>
              </a:path>
              <a:path fill="darken" w="25484" h="21600">
                <a:moveTo>
                  <a:pt x="25484" y="0"/>
                </a:moveTo>
                <a:lnTo>
                  <a:pt x="25484" y="21600"/>
                </a:lnTo>
                <a:lnTo>
                  <a:pt x="24084" y="20200"/>
                </a:lnTo>
                <a:lnTo>
                  <a:pt x="24084" y="1400"/>
                </a:lnTo>
                <a:close/>
              </a:path>
              <a:path fill="darkenLess" w="25484" h="21600">
                <a:moveTo>
                  <a:pt x="25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84" y="20200"/>
                </a:lnTo>
                <a:close/>
              </a:path>
              <a:path fill="lighten" w="25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84" h="21600">
                <a:moveTo>
                  <a:pt x="127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84" h="21600">
                <a:moveTo>
                  <a:pt x="13848" y="14281"/>
                </a:moveTo>
                <a:lnTo>
                  <a:pt x="13848" y="12323"/>
                </a:lnTo>
                <a:cubicBezTo>
                  <a:pt x="13848" y="11496"/>
                  <a:pt x="14178" y="10800"/>
                  <a:pt x="14779" y="10800"/>
                </a:cubicBezTo>
                <a:cubicBezTo>
                  <a:pt x="15910" y="10800"/>
                  <a:pt x="16807" y="9434"/>
                  <a:pt x="16807" y="7849"/>
                </a:cubicBezTo>
                <a:cubicBezTo>
                  <a:pt x="16807" y="5534"/>
                  <a:pt x="14953" y="3794"/>
                  <a:pt x="12742" y="3794"/>
                </a:cubicBezTo>
                <a:cubicBezTo>
                  <a:pt x="10531" y="3794"/>
                  <a:pt x="8860" y="5534"/>
                  <a:pt x="8860" y="7849"/>
                </a:cubicBezTo>
                <a:lnTo>
                  <a:pt x="10714" y="7849"/>
                </a:lnTo>
                <a:cubicBezTo>
                  <a:pt x="10714" y="6709"/>
                  <a:pt x="11637" y="5821"/>
                  <a:pt x="12742" y="5821"/>
                </a:cubicBezTo>
                <a:cubicBezTo>
                  <a:pt x="13848" y="5821"/>
                  <a:pt x="14779" y="6709"/>
                  <a:pt x="14779" y="7849"/>
                </a:cubicBezTo>
                <a:cubicBezTo>
                  <a:pt x="14779" y="8589"/>
                  <a:pt x="14309" y="9320"/>
                  <a:pt x="13848" y="9320"/>
                </a:cubicBezTo>
                <a:cubicBezTo>
                  <a:pt x="12742" y="9320"/>
                  <a:pt x="11637" y="10800"/>
                  <a:pt x="11637" y="12323"/>
                </a:cubicBezTo>
                <a:lnTo>
                  <a:pt x="11637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6">
            <a:hlinkClick r:id="rId2" action="ppaction://hlinksldjump"/>
          </p:cNvPr>
          <p:cNvSpPr/>
          <p:nvPr/>
        </p:nvSpPr>
        <p:spPr>
          <a:xfrm>
            <a:off x="4356000" y="544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2" h="21600">
                <a:moveTo>
                  <a:pt x="11771" y="3837"/>
                </a:moveTo>
                <a:lnTo>
                  <a:pt x="14347" y="6448"/>
                </a:ln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lnTo>
                  <a:pt x="18734" y="10800"/>
                </a:lnTo>
                <a:lnTo>
                  <a:pt x="17080" y="10800"/>
                </a:lnTo>
                <a:lnTo>
                  <a:pt x="17080" y="17989"/>
                </a:lnTo>
                <a:lnTo>
                  <a:pt x="6462" y="17989"/>
                </a:lnTo>
                <a:lnTo>
                  <a:pt x="6462" y="10800"/>
                </a:lnTo>
                <a:lnTo>
                  <a:pt x="4808" y="10800"/>
                </a:lnTo>
                <a:close/>
              </a:path>
              <a:path fill="darkenLess" w="23542" h="21600">
                <a:moveTo>
                  <a:pt x="14347" y="6448"/>
                </a:move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close/>
              </a:path>
              <a:path fill="darkenLess" w="23542" h="21600">
                <a:moveTo>
                  <a:pt x="10849" y="14299"/>
                </a:moveTo>
                <a:lnTo>
                  <a:pt x="12694" y="14299"/>
                </a:lnTo>
                <a:lnTo>
                  <a:pt x="12694" y="17989"/>
                </a:lnTo>
                <a:lnTo>
                  <a:pt x="17080" y="17989"/>
                </a:lnTo>
                <a:lnTo>
                  <a:pt x="17080" y="10800"/>
                </a:lnTo>
                <a:lnTo>
                  <a:pt x="6462" y="10800"/>
                </a:lnTo>
                <a:lnTo>
                  <a:pt x="6462" y="17989"/>
                </a:lnTo>
                <a:lnTo>
                  <a:pt x="1084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564000" y="404640"/>
            <a:ext cx="2170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ци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0" descr="автопортрет(1566) "/>
          <p:cNvPicPr/>
          <p:nvPr/>
        </p:nvPicPr>
        <p:blipFill>
          <a:blip r:embed="rId3"/>
          <a:stretch/>
        </p:blipFill>
        <p:spPr>
          <a:xfrm>
            <a:off x="3348000" y="1268280"/>
            <a:ext cx="2817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187280" y="836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пределите автора следующих стр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258920" y="1484280"/>
            <a:ext cx="64278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Земную жизнь пройдя до пол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Я очутился в сумрачном ле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Утратив правый путь в конце дол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Каков он был, о, как произне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Тот дикий лес, дремлющий и грозящ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Monotype Corsiva"/>
              </a:rPr>
              <a:t>Чей  давний ужас в памяти несу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>
            <a:hlinkClick r:id="" action="ppaction://hlinkshowjump?jump=nextslide"/>
          </p:cNvPr>
          <p:cNvSpPr/>
          <p:nvPr/>
        </p:nvSpPr>
        <p:spPr>
          <a:xfrm>
            <a:off x="3995640" y="4941720"/>
            <a:ext cx="1081080" cy="93528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4966" h="21600">
                <a:moveTo>
                  <a:pt x="0" y="0"/>
                </a:moveTo>
                <a:lnTo>
                  <a:pt x="24966" y="0"/>
                </a:lnTo>
                <a:lnTo>
                  <a:pt x="24966" y="21600"/>
                </a:lnTo>
                <a:lnTo>
                  <a:pt x="0" y="21600"/>
                </a:lnTo>
                <a:close/>
              </a:path>
              <a:path fill="lightenLess" w="24966" h="21600">
                <a:moveTo>
                  <a:pt x="0" y="0"/>
                </a:moveTo>
                <a:lnTo>
                  <a:pt x="24966" y="0"/>
                </a:lnTo>
                <a:lnTo>
                  <a:pt x="23566" y="1400"/>
                </a:lnTo>
                <a:lnTo>
                  <a:pt x="1400" y="1400"/>
                </a:lnTo>
                <a:close/>
              </a:path>
              <a:path fill="darken" w="24966" h="21600">
                <a:moveTo>
                  <a:pt x="24966" y="0"/>
                </a:moveTo>
                <a:lnTo>
                  <a:pt x="24966" y="21600"/>
                </a:lnTo>
                <a:lnTo>
                  <a:pt x="23566" y="20200"/>
                </a:lnTo>
                <a:lnTo>
                  <a:pt x="23566" y="1400"/>
                </a:lnTo>
                <a:close/>
              </a:path>
              <a:path fill="darkenLess" w="24966" h="21600">
                <a:moveTo>
                  <a:pt x="24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66" y="20200"/>
                </a:lnTo>
                <a:close/>
              </a:path>
              <a:path fill="lighten" w="24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66" h="21600">
                <a:moveTo>
                  <a:pt x="1248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66" h="21600">
                <a:moveTo>
                  <a:pt x="13588" y="14281"/>
                </a:moveTo>
                <a:lnTo>
                  <a:pt x="13588" y="12323"/>
                </a:lnTo>
                <a:cubicBezTo>
                  <a:pt x="13588" y="11496"/>
                  <a:pt x="13919" y="10800"/>
                  <a:pt x="14520" y="10800"/>
                </a:cubicBezTo>
                <a:cubicBezTo>
                  <a:pt x="15651" y="10800"/>
                  <a:pt x="16548" y="9434"/>
                  <a:pt x="16548" y="7849"/>
                </a:cubicBezTo>
                <a:cubicBezTo>
                  <a:pt x="16548" y="5534"/>
                  <a:pt x="14694" y="3794"/>
                  <a:pt x="12483" y="3794"/>
                </a:cubicBezTo>
                <a:cubicBezTo>
                  <a:pt x="10272" y="3794"/>
                  <a:pt x="8601" y="5534"/>
                  <a:pt x="8601" y="7849"/>
                </a:cubicBezTo>
                <a:lnTo>
                  <a:pt x="10455" y="7849"/>
                </a:lnTo>
                <a:cubicBezTo>
                  <a:pt x="10455" y="6709"/>
                  <a:pt x="11378" y="5821"/>
                  <a:pt x="12483" y="5821"/>
                </a:cubicBezTo>
                <a:cubicBezTo>
                  <a:pt x="13588" y="5821"/>
                  <a:pt x="14520" y="6709"/>
                  <a:pt x="14520" y="7849"/>
                </a:cubicBezTo>
                <a:cubicBezTo>
                  <a:pt x="14520" y="8589"/>
                  <a:pt x="14050" y="9320"/>
                  <a:pt x="13588" y="9320"/>
                </a:cubicBezTo>
                <a:cubicBezTo>
                  <a:pt x="12483" y="9320"/>
                  <a:pt x="11378" y="10800"/>
                  <a:pt x="11378" y="12323"/>
                </a:cubicBezTo>
                <a:lnTo>
                  <a:pt x="11378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Monotype Corsiva"/>
              </a:rPr>
              <a:t>Данте Алигьери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Monotype Corsiva"/>
              </a:rPr>
              <a:t>«Божественная  комедия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Picture 4" descr="Dante_alighieri"/>
          <p:cNvPicPr/>
          <p:nvPr/>
        </p:nvPicPr>
        <p:blipFill>
          <a:blip r:embed="rId1"/>
          <a:stretch/>
        </p:blipFill>
        <p:spPr>
          <a:xfrm>
            <a:off x="2843280" y="1341360"/>
            <a:ext cx="3539880" cy="45846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91" name="AutoShape 5">
            <a:hlinkClick r:id="rId2" action="ppaction://hlinksldjump"/>
          </p:cNvPr>
          <p:cNvSpPr/>
          <p:nvPr/>
        </p:nvSpPr>
        <p:spPr>
          <a:xfrm>
            <a:off x="611280" y="5877000"/>
            <a:ext cx="936360" cy="86508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79" h="21600">
                <a:moveTo>
                  <a:pt x="0" y="0"/>
                </a:moveTo>
                <a:lnTo>
                  <a:pt x="23379" y="0"/>
                </a:lnTo>
                <a:lnTo>
                  <a:pt x="23379" y="21600"/>
                </a:lnTo>
                <a:lnTo>
                  <a:pt x="0" y="21600"/>
                </a:lnTo>
                <a:close/>
              </a:path>
              <a:path fill="lightenLess" w="23379" h="21600">
                <a:moveTo>
                  <a:pt x="0" y="0"/>
                </a:moveTo>
                <a:lnTo>
                  <a:pt x="23379" y="0"/>
                </a:lnTo>
                <a:lnTo>
                  <a:pt x="21979" y="1400"/>
                </a:lnTo>
                <a:lnTo>
                  <a:pt x="1400" y="1400"/>
                </a:lnTo>
                <a:close/>
              </a:path>
              <a:path fill="darken" w="23379" h="21600">
                <a:moveTo>
                  <a:pt x="23379" y="0"/>
                </a:moveTo>
                <a:lnTo>
                  <a:pt x="23379" y="21600"/>
                </a:lnTo>
                <a:lnTo>
                  <a:pt x="21979" y="20200"/>
                </a:lnTo>
                <a:lnTo>
                  <a:pt x="21979" y="1400"/>
                </a:lnTo>
                <a:close/>
              </a:path>
              <a:path fill="darkenLess" w="23379" h="21600">
                <a:moveTo>
                  <a:pt x="23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79" y="20200"/>
                </a:lnTo>
                <a:close/>
              </a:path>
              <a:path fill="lighten" w="23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79" h="21600">
                <a:moveTo>
                  <a:pt x="11690" y="3837"/>
                </a:moveTo>
                <a:lnTo>
                  <a:pt x="14266" y="6448"/>
                </a:lnTo>
                <a:lnTo>
                  <a:pt x="14266" y="4707"/>
                </a:lnTo>
                <a:lnTo>
                  <a:pt x="16041" y="4707"/>
                </a:lnTo>
                <a:lnTo>
                  <a:pt x="16041" y="8224"/>
                </a:lnTo>
                <a:lnTo>
                  <a:pt x="18652" y="10800"/>
                </a:lnTo>
                <a:lnTo>
                  <a:pt x="16999" y="10800"/>
                </a:lnTo>
                <a:lnTo>
                  <a:pt x="16999" y="17989"/>
                </a:lnTo>
                <a:lnTo>
                  <a:pt x="6380" y="17989"/>
                </a:lnTo>
                <a:lnTo>
                  <a:pt x="6380" y="10800"/>
                </a:lnTo>
                <a:lnTo>
                  <a:pt x="4727" y="10800"/>
                </a:lnTo>
                <a:close/>
              </a:path>
              <a:path fill="darkenLess" w="23379" h="21600">
                <a:moveTo>
                  <a:pt x="14266" y="6448"/>
                </a:moveTo>
                <a:lnTo>
                  <a:pt x="14266" y="4707"/>
                </a:lnTo>
                <a:lnTo>
                  <a:pt x="16041" y="4707"/>
                </a:lnTo>
                <a:lnTo>
                  <a:pt x="16041" y="8224"/>
                </a:lnTo>
                <a:close/>
              </a:path>
              <a:path fill="darkenLess" w="23379" h="21600">
                <a:moveTo>
                  <a:pt x="10767" y="14299"/>
                </a:moveTo>
                <a:lnTo>
                  <a:pt x="12612" y="14299"/>
                </a:lnTo>
                <a:lnTo>
                  <a:pt x="12612" y="17989"/>
                </a:lnTo>
                <a:lnTo>
                  <a:pt x="16999" y="17989"/>
                </a:lnTo>
                <a:lnTo>
                  <a:pt x="16999" y="10800"/>
                </a:lnTo>
                <a:lnTo>
                  <a:pt x="6380" y="10800"/>
                </a:lnTo>
                <a:lnTo>
                  <a:pt x="6380" y="17989"/>
                </a:lnTo>
                <a:lnTo>
                  <a:pt x="1076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02:27Z</dcterms:created>
  <dc:creator>Customer</dc:creator>
  <dc:description/>
  <dc:language>en-US</dc:language>
  <cp:lastModifiedBy>аникеевы</cp:lastModifiedBy>
  <dcterms:modified xsi:type="dcterms:W3CDTF">2014-11-09T13:26:09Z</dcterms:modified>
  <cp:revision>10</cp:revision>
  <dc:subject/>
  <dc:title>Слайд 1</dc:title>
</cp:coreProperties>
</file>