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BE8-12EC-414B-96F5-D4600FC2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FCC-EBC7-40B8-8F1C-4732715A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52CFB-8273-4674-986A-63E24360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65C03-7494-4FA2-B998-F7F2FBB1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957D0-3282-498A-9E34-D151F32A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6A373-84E8-4A18-ACA1-24821359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D7E2F-D533-459A-AE1F-05243FFA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F5C7B-BE06-4CBA-9A3F-B2491CB8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5A8E8-DE63-4684-94EC-12FDF39B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5DC88-F16C-46CA-A5B3-6BFC0389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1F45D-6F93-41A9-8B09-154E794D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5D9F2-F94E-4BE6-937A-9A546E31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B66C-AE91-4748-A571-ECD3C3E8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62E2F-9057-4C73-9F9F-42D0BDCC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B294C-D5E9-4FD4-8F30-E427B1DE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38CC4-4CA6-4CC6-99AE-F3930B2F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777DE-7C02-4771-B672-EAD7A157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65BE8-56DF-4EE8-8D08-A272FFDA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5F57C-D81E-46CE-A91B-F6F0737C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A2C8E-3475-4E15-BA65-552C66CA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BF4BE-77E0-43E9-9210-D5443F1A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BE8B8-D145-49BB-AA33-C6DD3942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C1D0E-E6DB-4AA2-8A77-2A9F4E65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064-F212-4862-A477-D827DCEE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9A450-092A-4E87-A9F2-321B00F9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1F2E2-AB3F-46F8-B28D-9630D76A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D5900-1DAC-47EA-A7C0-6DFC62A5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1BEF8-8EE9-4E4A-AECC-151D6CB5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9FAE1-E966-4141-9449-A510F778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97029-17AE-452C-8C4F-6A7F5EA5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B4273-B2EE-4BAE-AD55-726F8C25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04476-8BDF-46B0-9C83-F1AA88E8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998A9-BEAC-4ADE-8D18-55AB1789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4AA17-58A9-4A49-83F9-301EEA2E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4286-9AFB-444F-B14A-88A87F10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DD83E-C154-41D7-A219-0B2928C7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46570-7BFC-4703-B999-7B2F76C8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5F245-DC96-44E4-B241-7797323E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B6D0A-36A2-4D74-8346-08F6181F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55668-51E1-4A24-BAD7-FED5344C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99630-DCEA-45D5-8A4C-229185E5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12E78-B109-4C59-BD83-F673FFCB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716D1-0520-4A8B-B32F-83D6D4F9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3EE36-DEA6-410E-8304-F0DB5E90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BF63E-3C37-4F37-A1D8-7F7E17B0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CC60-097A-446A-AD1F-A97D1422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036B6-EB22-4AC6-942A-8D6C9F68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41082-3EEC-4543-8593-2E9A60FF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233F2-8907-4BC1-B2D8-4E69738F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1CDD4-FECB-4D8F-9527-55A54C67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64373-F1D8-45B6-8C8F-255D57B0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0501E-5359-452E-98B3-9BA112D4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0D6B4-CD78-41DE-9F42-FC3428BA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96C8C-8E84-4496-BC02-CA7E2900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2F229-B3C8-4AB2-9644-15BA8886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44780-0B1E-447B-B73D-FA36EE03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14FA-BD04-4596-85D3-29469330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69325-47C7-466C-8B5C-1ECF6B70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AD39B-645F-4071-9D87-494937B8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1616D-2493-41DE-88D6-C1AE8AB9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31026-D04D-4A56-A377-93D4E688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A6D78-B99C-485D-8125-5DFC0E22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5DBF1-E65E-407B-BC63-05303355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D9145-DBE5-4991-86BA-7E4515B4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961909-5EC6-43A8-BA30-0E4B775E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695F94-EE25-4E4A-9975-1FE079F0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08C87F-41C3-4AD7-9E2D-05CB3BC0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B2EE-4308-45D7-B904-D007A59F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CA322-AA36-4722-A8B9-322BBC6F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FA2F8F-9EB1-4AB2-B352-5F354BCB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672457-5BB5-4375-BC1C-732E0021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09605-BE3A-4C61-8A56-4DE9D41F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ED7073-218A-4687-A8D3-72758232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CB4138-B525-4BD0-AFB1-7F87DCFD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568F7-4EA5-4A21-B533-CABB612C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34F74B-9837-47A3-8114-BF1AAA2A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ACD42-C32F-447F-9161-8FA95E67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8C87-04BE-4BC9-BFD0-59B0B6DE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A94D-2FCA-4828-801F-1673BC1C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DF96-4D8D-4DF8-B16F-1CAFC1A9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B912-981C-4772-9D32-4D78DA2C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36A0-703F-4129-B5C6-8A6A2C86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880B-32AA-4AE1-9AE5-24F59246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839C-1473-4D05-A264-01E7316C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2A3A-DD66-4889-A411-463431EA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580B-10C1-4C6F-91BB-8C21673F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95381-FA7A-4CFA-AE63-41347F4C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1A45E-1F94-440A-9194-B6DD109B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3D98C-5CCE-4E34-904E-0B15CCB3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B801C-A259-44FC-8D6D-0BB228EF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8A16-E0CA-4BF6-B0F9-3C169AB7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90F-7350-4496-9475-933F3BF1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C61E5-BC99-401E-80E4-A05FF113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C5107-FC70-46CC-BD89-5E07C1FB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DE984-5E76-4608-8E53-819C22BA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8FE6-7B0C-4A2D-8865-3F9941F2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FB695-69CA-4C16-8045-9F16B4FD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118C9-516D-4E5F-A3EE-00367CFA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68025-EC98-442D-A839-37A0E326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F27BD-EB1D-42B8-BB6A-AB5BDDED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5884B-3318-4D60-9CF6-F2F2DF94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FC5EA-121A-4B5B-A131-E93AFBEE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DC1-93BC-43E4-BEB4-8C515132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3B125-EDEE-4974-BA6A-4C65D55F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D62C9-E609-4664-98ED-2F1FD0E6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C1127-3394-431A-9F0C-01A45C8A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94D36-BCF6-477B-8133-EBD70C93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432BA-3A68-4C25-AC92-938AE909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A0719-2BDD-4BD0-86CD-A90E1525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3F4F8-F27E-4BB5-B89B-F19863C4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51335-DB4B-44B5-B4A6-1C8DD3C2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916B8-D449-4EC1-9248-15593BC1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2DE25-27E8-44FC-8124-CD8C228D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608-FFA2-4863-97E7-1710564E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703A6-98B6-40A8-A8DF-3B0D9045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03DD0-E20F-4EEB-8912-636E1FBD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C9262-69C6-44EA-81CF-64AF141D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AE885-EC93-4185-BC24-F1CF2F96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91CF7-E5EE-4F7C-A5D3-E1939D74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39E76-12BE-49D9-901D-D118FE15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EE235-A10A-42E1-80DB-B21D1AB5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6D274-D3F3-4A3A-A155-2562290C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D02CA-A268-45C6-A032-6F783ED6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0A454-72E2-467D-B28D-838FE479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4F86-DF1E-4D30-AEA4-41986D74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A7E7A-C542-4184-9DCE-EDB61F03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0BCB6-F1B1-4313-ACA8-E7CD93C5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C2ABC-FE08-4237-8765-890D8E4B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748C5-C9F7-4871-A2EE-3A429AB6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3E6AB-E02F-4407-AA2A-FF5E7536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8B9C5-9D7D-457F-AF75-4F63D8F1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D6AF3-9081-4000-8C66-51F3E04E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EEF03-F5B7-4E1F-A7E5-0E5889E7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73A21-64C5-46D8-BD06-4E59C9E6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95F9F-F1F4-4157-AA3D-E0C5E4D9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13E-2036-4104-82F4-32AEB35B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0C9EA-2DB5-4DE5-A822-354CEABF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30F5D-BE36-481B-BC44-49CCFEA5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100EB-E9CE-4C18-89F2-AA3C70BE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B6796-952D-4DAD-9FCF-F44CAC2A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04EFC-29C0-41B4-BA07-7B095201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5328A-B22D-4C27-9179-51963E1B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9EC68-2E7E-4D36-B1CC-314CD712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4759C-3DBB-46CB-8D35-A8A882FF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85931-12C7-4C74-ACBC-C1B89D6B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7FD6D-1F38-4E56-8C49-7F708540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1B2-B4E0-42A5-B4EB-604FEFB1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A8642-D213-4D11-9772-3154BA15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B6558-B2D3-4ED3-BB82-EF680F98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28FD4-CCB1-4390-A8E1-3CFC1E91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A91C5-E343-40E8-9C93-34D5A17E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ADD6F-C687-4045-B3E3-C23B6F32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EDC97-1778-480F-86D6-461A2925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D7451-F5F6-4FD6-A13B-C425DCB2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9C932-8E61-45F9-9008-5A20B66F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EAF88-2A8A-4C3D-8E84-09D8D747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A206A-B723-48A3-8F13-2E7AAA28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D651-E94D-449C-98EE-36F503DB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4BAC7-5858-4C11-98CB-4195AB07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A74DF-538D-4F8F-A40C-B3D50DF3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9601F-E5F3-4532-A8C2-6508DC6C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948EE-380D-4EEF-AACB-981ADB36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FC4B1-768C-40A5-87D8-CA955370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CA168-5B9A-4056-BFD5-1DBB6DAD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09081-3B49-4968-B8ED-780B316C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FF535-180A-4BB1-B560-4D0234DC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F46C5-A1DA-4BB6-BC14-0F3160B1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4144E-F35F-4A10-A7BE-5384CC17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2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33BE-1770-4924-9373-B4D53E7E0E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15" name="Arc 2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16" name="Arc 3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17" name="Rectangle 4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18" name="AutoShape 5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BFDA-CAFD-4C1F-87C0-442EA5832D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6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61" name="Arc 2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62" name="Arc 3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63" name="Rectangle 4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64" name="AutoShape 5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05FB-3778-4F80-A793-3ACD313D5F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6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507" name="Arc 2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8" name="Arc 3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9" name="Rectangle 4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10" name="AutoShape 5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8DA0-B93D-4AB1-8E0D-5FF6A8D66A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6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553" name="Arc 2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4" name="Arc 3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5" name="Rectangle 4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6" name="AutoShape 5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9E94-6253-4CD3-BC09-47CCEA28FA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6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599" name="Arc 2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0" name="Arc 3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1" name="Rectangle 4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2" name="AutoShape 5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0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1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70D0-D3E6-4A26-A730-0D88708950F8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2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460E-D8F5-4665-A104-42FB758EEC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6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93" name="Arc 2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4" name="Arc 3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5" name="Rectangle 4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4BFF-49B0-429F-AB96-9475013022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6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39" name="Arc 2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0" name="Arc 3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1" name="Rectangle 4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2" name="AutoShape 5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5EBB-D5A9-4305-A562-2BFD174381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6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85" name="Arc 2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6" name="Arc 3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7" name="Rectangle 4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A4CC-B5EA-43C7-8F16-C512FB33C4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6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31" name="Arc 2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2" name="Arc 3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3" name="Rectangle 4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4" name="AutoShape 5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C504-2DD6-41C7-A227-42C770FABF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6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77" name="Arc 2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8" name="Arc 3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9" name="Rectangle 4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0" name="AutoShape 5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4EFB-9F65-49F1-9FD9-EF707EFD4C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6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323" name="Arc 2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4" name="Arc 3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5" name="Rectangle 4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6" name="AutoShape 5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F7D9-DA1B-4BE4-81FA-579472BBAC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6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369" name="Arc 2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70" name="Arc 3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71" name="Rectangle 4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72" name="AutoShape 5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2AE3-8F7D-4C9F-BE77-9AFB8E3B14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1370160" y="837720"/>
            <a:ext cx="73929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Интегрированный урок исследовательской деятельности по английскому языку и информатике. 11 класс. «Цивилизации, которых больше нет»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0808"/>
                </a:solidFill>
                <a:latin typeface="Arial"/>
              </a:rPr>
              <a:t>«</a:t>
            </a:r>
            <a:r>
              <a:rPr b="1" i="1" lang="en-US" sz="2400" spc="-1" strike="noStrike">
                <a:solidFill>
                  <a:srgbClr val="080808"/>
                </a:solidFill>
                <a:latin typeface="Arial"/>
              </a:rPr>
              <a:t>Everything passes …….</a:t>
            </a:r>
            <a:r>
              <a:rPr b="1" i="1" lang="ru-RU" sz="2400" spc="-1" strike="noStrike">
                <a:solidFill>
                  <a:srgbClr val="080808"/>
                </a:solidFill>
                <a:latin typeface="Arial"/>
              </a:rPr>
              <a:t>»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Arial"/>
              </a:rPr>
              <a:t>Tsar Solom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1370160" y="837720"/>
            <a:ext cx="73929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80808"/>
                </a:solidFill>
                <a:uFillTx/>
                <a:latin typeface="Arial"/>
              </a:rPr>
              <a:t>Ancient Egyp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646" name="Picture 4" descr="hunter"/>
          <p:cNvPicPr/>
          <p:nvPr/>
        </p:nvPicPr>
        <p:blipFill>
          <a:blip r:embed="rId1"/>
          <a:stretch/>
        </p:blipFill>
        <p:spPr>
          <a:xfrm>
            <a:off x="2590920" y="1447920"/>
            <a:ext cx="541008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Relig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370160" y="762120"/>
            <a:ext cx="739296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080808"/>
                </a:solidFill>
                <a:latin typeface="Arial"/>
              </a:rPr>
              <a:t>Religion was the most important part of an Egyptian’s existence. Many Egyptian gods were portrayed as animals or human beings with animal heads  like Anubis-the god of dead, because the Egyptians considered all animals to be sacred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80808"/>
                </a:solidFill>
                <a:latin typeface="Arial"/>
              </a:rPr>
              <a:t>Re –the god of the Sun was the main god in Egypt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1751040" y="464832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650" name="Picture 8" descr="AtonRays"/>
          <p:cNvPicPr/>
          <p:nvPr/>
        </p:nvPicPr>
        <p:blipFill>
          <a:blip r:embed="rId1"/>
          <a:stretch/>
        </p:blipFill>
        <p:spPr>
          <a:xfrm>
            <a:off x="2819520" y="2362320"/>
            <a:ext cx="4267080" cy="21333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9" descr="Anubis"/>
          <p:cNvPicPr/>
          <p:nvPr/>
        </p:nvPicPr>
        <p:blipFill>
          <a:blip r:embed="rId2"/>
          <a:stretch/>
        </p:blipFill>
        <p:spPr>
          <a:xfrm>
            <a:off x="2819520" y="4495680"/>
            <a:ext cx="2286000" cy="23623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1" descr="QQQ5"/>
          <p:cNvPicPr/>
          <p:nvPr/>
        </p:nvPicPr>
        <p:blipFill>
          <a:blip r:embed="rId3"/>
          <a:stretch/>
        </p:blipFill>
        <p:spPr>
          <a:xfrm>
            <a:off x="5105520" y="4495680"/>
            <a:ext cx="198108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13698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99"/>
                </a:solidFill>
                <a:latin typeface="Arial"/>
              </a:rPr>
              <a:t>      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4" name="Rectangle 4"/>
          <p:cNvSpPr/>
          <p:nvPr/>
        </p:nvSpPr>
        <p:spPr>
          <a:xfrm>
            <a:off x="1751040" y="464832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55" name="Rectangle 5"/>
          <p:cNvSpPr/>
          <p:nvPr/>
        </p:nvSpPr>
        <p:spPr>
          <a:xfrm>
            <a:off x="1371600" y="7621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80808"/>
                </a:solidFill>
                <a:latin typeface="Arial"/>
              </a:rPr>
              <a:t>What great achievments of Ancient (Egyptians, Greeks, Romans) were mentioned in the presentations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1828800" y="1905120"/>
          <a:ext cx="7086600" cy="3047760"/>
        </p:xfrm>
        <a:graphic>
          <a:graphicData uri="http://schemas.openxmlformats.org/drawingml/2006/table">
            <a:tbl>
              <a:tblPr/>
              <a:tblGrid>
                <a:gridCol w="1771560"/>
                <a:gridCol w="1771920"/>
                <a:gridCol w="1771560"/>
                <a:gridCol w="17715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Egyptians</a:t>
                      </a:r>
                      <a:r>
                        <a:rPr b="1" lang="ru-RU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eek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man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rchitecture</a:t>
                      </a:r>
                      <a:r>
                        <a:rPr b="1" lang="ru-RU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rt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cienc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ing</a:t>
                      </a:r>
                      <a:r>
                        <a:rPr b="1" lang="ru-RU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Rectangle 87"/>
          <p:cNvSpPr/>
          <p:nvPr/>
        </p:nvSpPr>
        <p:spPr>
          <a:xfrm>
            <a:off x="1447920" y="5410080"/>
            <a:ext cx="73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80808"/>
                </a:solidFill>
                <a:latin typeface="Arial"/>
              </a:rPr>
              <a:t>Why do we call these civilizations great,</a:t>
            </a:r>
            <a:r>
              <a:rPr b="1" i="1" lang="ru-RU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80808"/>
                </a:solidFill>
                <a:latin typeface="Arial"/>
              </a:rPr>
              <a:t>what tribute have they made in the world’s history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ря</cp:lastModifiedBy>
  <dcterms:modified xsi:type="dcterms:W3CDTF">2014-11-08T21:15:38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