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C3B-D89F-4BBC-95CA-3E039CC3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25B-33AE-479E-A9BB-65881671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9E9-C9A1-4853-A188-3BC06573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B7FB-72CE-4852-80AB-557BC05A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C595-7AAD-45EB-8EAA-79CD94A0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3C38-3711-4DDB-BD8B-C5C05123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798E-B172-4F29-9BC7-B7487E62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CEB3-3464-4577-8996-7D2F5A0F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E3CE-EA00-490C-A577-3756194A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DEDB-4CE3-454C-8C74-76565C3E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2E5B-4B00-44E9-987A-FD1C0252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10D-9A73-4C89-8370-A4896A61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B840-095E-4095-B793-E1AAED88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A4D8-0221-4070-AF3A-D0AE107D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6062-FF64-43CE-A433-F5BB242A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9528-4B84-4748-A511-BD3DEF5A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92FE-3552-475B-9208-E086E995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0E83-410C-4939-95C8-846CF923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339-02CA-4423-8654-0A7DB884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440-206C-4FAD-AFA5-92C80951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CBC3-D07E-41D4-9F47-FE016AC7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841-8BC1-4EA1-9106-856532E4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7E5-CA8A-4CC4-992F-CF82A35A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102-A2AF-423E-B644-6E48D722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CAB6-EB79-49C3-89A0-A9CEEC2F38C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9AB3-3377-4D03-8D57-DA88FCB49C6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47840" y="23637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765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Кожа – индикатор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здоровья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0" y="0"/>
          <a:ext cx="9144000" cy="4888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мпонент минерального состава вод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едельно допустимая концентрация (ПДК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личие минерального компонента в действительнос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e2+  , Fe3+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0,3 мг/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0,5мг/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g 2+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00 мг/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40 мг/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2+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0 мг/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50 мг/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282960" y="5084640"/>
            <a:ext cx="84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ывод: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да с большим содержанием  кальция, магния и желез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жесткая вода) пагубно влияет на здоровье человека, в том числе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кожу. Повышенное содержание железа в воде обуславливает сухост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жи и зуд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674640"/>
            <a:ext cx="9144000" cy="66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1" lang="ru-RU" sz="4800" spc="-1" strike="noStrike">
                <a:solidFill>
                  <a:srgbClr val="ffff99"/>
                </a:solidFill>
                <a:latin typeface="Arial"/>
              </a:rPr>
              <a:t>Или люди сделают так, чтобы в воздухе</a:t>
            </a:r>
            <a:br>
              <a:rPr sz="4800"/>
            </a:br>
            <a:r>
              <a:rPr b="1" lang="ru-RU" sz="4800" spc="-1" strike="noStrike">
                <a:solidFill>
                  <a:srgbClr val="ffff99"/>
                </a:solidFill>
                <a:latin typeface="Arial"/>
              </a:rPr>
              <a:t>стало меньше дыма, или дым сделает так,</a:t>
            </a:r>
            <a:br>
              <a:rPr sz="4800"/>
            </a:br>
            <a:r>
              <a:rPr b="1" lang="ru-RU" sz="4800" spc="-1" strike="noStrike">
                <a:solidFill>
                  <a:srgbClr val="ffff99"/>
                </a:solidFill>
                <a:latin typeface="Arial"/>
              </a:rPr>
              <a:t>чтобы на Земле стало меньше людей.</a:t>
            </a:r>
            <a:br>
              <a:rPr sz="4800"/>
            </a:br>
            <a:r>
              <a:rPr b="1" lang="ru-RU" sz="4800" spc="-1" strike="noStrike">
                <a:solidFill>
                  <a:srgbClr val="ffff99"/>
                </a:solidFill>
                <a:latin typeface="Arial"/>
              </a:rPr>
              <a:t>Дж. Баттон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92360" y="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лияние воздух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Ожоги кожи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лнеч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рмически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940360" y="1773360"/>
            <a:ext cx="3203640" cy="5084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Вторая группа факторов, влияющая на состояние кожи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дные привыч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знание структуры своей кожи, отсутствие ухода за н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Цвет кожи – это индикатор состояния здоровья человек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Шершавая»  кожа – это болезнь пеллагра (недостаток никотиновой кислоты в организме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явление трещин, рубцов, сухости кожи – недостаток витамина 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едность кожи воскового оттенка – нехватка ионов желез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17520" y="5805360"/>
            <a:ext cx="857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вод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итание любого организма должно быть правильно сбалансирован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сновные компоненты табачного дыма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549360"/>
          <a:ext cx="8964720" cy="5002200"/>
        </p:xfrm>
        <a:graphic>
          <a:graphicData uri="http://schemas.openxmlformats.org/drawingml/2006/table">
            <a:tbl>
              <a:tblPr/>
              <a:tblGrid>
                <a:gridCol w="2241720"/>
                <a:gridCol w="1969920"/>
                <a:gridCol w="2808360"/>
                <a:gridCol w="194472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имические соеди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75"/>
                        </a:gs>
                        <a:gs pos="100000">
                          <a:srgbClr val="0066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держание (мкг/сигарет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100000">
                          <a:srgbClr val="ff00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имические соеди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75"/>
                        </a:gs>
                        <a:gs pos="100000">
                          <a:srgbClr val="0066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держание (мкг/сигарет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100000">
                          <a:srgbClr val="ff0000"/>
                        </a:gs>
                      </a:gsLst>
                      <a:lin ang="13500000"/>
                    </a:gradFill>
                  </a:tcPr>
                </a:tc>
              </a:tr>
              <a:tr h="383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азовая фа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2f75"/>
                        </a:gs>
                        <a:gs pos="100000">
                          <a:srgbClr val="9966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сид углер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75"/>
                        </a:gs>
                        <a:gs pos="100000">
                          <a:srgbClr val="0066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100000">
                          <a:srgbClr val="ff00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итрозодиметилам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75"/>
                        </a:gs>
                        <a:gs pos="100000">
                          <a:srgbClr val="0066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100000">
                          <a:srgbClr val="ff0000"/>
                        </a:gs>
                      </a:gsLst>
                      <a:lin ang="13500000"/>
                    </a:gradFill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иоксид углер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75"/>
                        </a:gs>
                        <a:gs pos="100000">
                          <a:srgbClr val="0066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100000">
                          <a:srgbClr val="ff00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итрометилэтилам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75"/>
                        </a:gs>
                        <a:gs pos="100000">
                          <a:srgbClr val="0066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100000">
                          <a:srgbClr val="ff0000"/>
                        </a:gs>
                      </a:gsLst>
                      <a:lin ang="13500000"/>
                    </a:gradFill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ммо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75"/>
                        </a:gs>
                        <a:gs pos="100000">
                          <a:srgbClr val="0066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100000">
                          <a:srgbClr val="ff00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идраз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75"/>
                        </a:gs>
                        <a:gs pos="100000">
                          <a:srgbClr val="0066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100000">
                          <a:srgbClr val="ff0000"/>
                        </a:gs>
                      </a:gsLst>
                      <a:lin ang="135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Цианистый водор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75"/>
                        </a:gs>
                        <a:gs pos="100000">
                          <a:srgbClr val="0066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100000">
                          <a:srgbClr val="ff00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итромет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75"/>
                        </a:gs>
                        <a:gs pos="100000">
                          <a:srgbClr val="0066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100000">
                          <a:srgbClr val="ff0000"/>
                        </a:gs>
                      </a:gsLst>
                      <a:lin ang="13500000"/>
                    </a:gradFill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зопре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75"/>
                        </a:gs>
                        <a:gs pos="100000">
                          <a:srgbClr val="0066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100000">
                          <a:srgbClr val="ff00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итробензо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75"/>
                        </a:gs>
                        <a:gs pos="100000">
                          <a:srgbClr val="0066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100000">
                          <a:srgbClr val="ff0000"/>
                        </a:gs>
                      </a:gsLst>
                      <a:lin ang="13500000"/>
                    </a:gra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льдеги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75"/>
                        </a:gs>
                        <a:gs pos="100000">
                          <a:srgbClr val="0066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100000">
                          <a:srgbClr val="ff00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цет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75"/>
                        </a:gs>
                        <a:gs pos="100000">
                          <a:srgbClr val="0066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100000">
                          <a:srgbClr val="ff0000"/>
                        </a:gs>
                      </a:gsLst>
                      <a:lin ang="13500000"/>
                    </a:gradFill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кроле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75"/>
                        </a:gs>
                        <a:gs pos="100000">
                          <a:srgbClr val="0066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100000">
                          <a:srgbClr val="ff00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енз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75"/>
                        </a:gs>
                        <a:gs pos="100000">
                          <a:srgbClr val="0066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100000">
                          <a:srgbClr val="ff0000"/>
                        </a:gs>
                      </a:gsLst>
                      <a:lin ang="13500000"/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Формальдеги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75"/>
                        </a:gs>
                        <a:gs pos="100000">
                          <a:srgbClr val="0066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100000">
                          <a:srgbClr val="ff00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инилхлори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75"/>
                        </a:gs>
                        <a:gs pos="100000">
                          <a:srgbClr val="0066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100000">
                          <a:srgbClr val="ff000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0" y="5661000"/>
            <a:ext cx="9144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вод: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сследовав компоненты табачного дыма, их действия, на кожу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ровь, дыхательную систему, половую систему, мы приняли решение вести пропагандистскую работу о вреде кур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очему «цветет» кожа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ылечить подростковую сыпь, необходимо соблюдать последовательность действия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) остановить воспаление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) убить бактери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) открыть кожные поры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) снизить образование сал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Определение типа кожи мы провели путем тестирования 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зультаты тестирования обрабатывались врачом-дерматологом Приволжской районной больницы, после этого были даны индивидуальные консультации по уходу за кожей лиц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ипы кожи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рмаль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х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р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мбинирован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звожен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Мы выявили факторы, негативно влияющие на состояние нашей кожи: свободные радикалы, солнечный свет, климатические условия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Познакомились и изучили структуру и типы  кожи, способы ухода за ней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Составили рекомендации по уходу за кожей лица, головы ( совместно с врачом-дерматологом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Подготовили обширный материал для проведения уроков здоровья с учащимися нашей школы по темам:«Уроки Мойдодыра»,«Секреты бабушки Агафьи»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482436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учить надежную защиту – кожу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ходя из строения кожи, ответить на ряд вопросов: «Что такое морщины? Почему цветет кожа? И как правильно за ней ухаживать?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675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нать какие процессы лежат в основе самого простого ухода за кож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авильно выбрать, используя знания биологии и химии, мыло и крем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риентироваться в многообразии дезодорантов и лосьонов, предлагаемых косметологам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обрать ряд полезных советов по уходу за кожей лица и голов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-3877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Несколько слов о строении кож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жа – наружный покров тела, является самым большим органом. Ее площадь составляет около 2 м2, весит она 3 кг – около 5 % от общего веса тел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лщина кожи колеблется от 0,5 мм до 5 м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жа состоит из трех основных слоев. Наружный слой – 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эпидермис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д слоем эпидермиса расположен слой соединительной ткани –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дерма.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Самый глубокий слой –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подкожная клетчат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Функции кожи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защищает внутренние части тела от ударов и царапин, дождя и ветра, излучения, интенсивного солнечного света и бактери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порезах или ссадинах эпидермиса кожа восстановится без образования шрам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ходящиеся в коже нервные окончания, называемые рецепторами, позволяют почувствовать легкое прикосновение, давление, изменение температуры и бол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95480" y="6035760"/>
            <a:ext cx="42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8360" y="5877000"/>
            <a:ext cx="824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рщины – это фактически раны. Они являют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ешним свидетельством того повреждения, которое причинен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же изнутр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Факторы, влияющие на кожу, независимо от самого человека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Вод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Возду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Солнц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Свободные радикал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0" y="0"/>
          <a:ext cx="9252000" cy="5854680"/>
        </p:xfrm>
        <a:graphic>
          <a:graphicData uri="http://schemas.openxmlformats.org/drawingml/2006/table">
            <a:tbl>
              <a:tblPr/>
              <a:tblGrid>
                <a:gridCol w="2411280"/>
                <a:gridCol w="2162160"/>
                <a:gridCol w="2806920"/>
                <a:gridCol w="18716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ность в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462f"/>
                        </a:gs>
                        <a:gs pos="100000">
                          <a:srgbClr val="ff996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енсивность запах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462f"/>
                        </a:gs>
                        <a:gs pos="100000">
                          <a:srgbClr val="ff996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арактер проявления запах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462f"/>
                        </a:gs>
                        <a:gs pos="100000">
                          <a:srgbClr val="ff996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интенсивности запах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462f"/>
                        </a:gs>
                        <a:gs pos="100000">
                          <a:srgbClr val="ff9966"/>
                        </a:gs>
                      </a:gsLst>
                      <a:lin ang="13500000"/>
                    </a:gra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тло-желтоват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100000">
                          <a:srgbClr val="ffff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чень слаб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100000">
                          <a:srgbClr val="ffff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пах сразу не ощущается, но обнаруживается при тщательном исследовании (при нагревании воды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100000">
                          <a:srgbClr val="ffff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100000">
                          <a:srgbClr val="ffff99"/>
                        </a:gs>
                      </a:gsLst>
                      <a:lin ang="13500000"/>
                    </a:gra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елт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2f"/>
                        </a:gs>
                        <a:gs pos="100000">
                          <a:srgbClr val="ffff6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мет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2f"/>
                        </a:gs>
                        <a:gs pos="100000">
                          <a:srgbClr val="ffff6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пах легко замечается и вызывает неодобрительный отзыв о вод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2f"/>
                        </a:gs>
                        <a:gs pos="100000">
                          <a:srgbClr val="ffff6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2f"/>
                        </a:gs>
                        <a:gs pos="100000">
                          <a:srgbClr val="ffff66"/>
                        </a:gs>
                      </a:gsLst>
                      <a:lin ang="13500000"/>
                    </a:gradFill>
                  </a:tcPr>
                </a:tc>
              </a:tr>
              <a:tr h="173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енсивно желт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четлив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пах обращает на себя внимание и заставляет воздержаться от питья и использования вод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0" y="602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ывод: Вода с интенсивной окраской и запахом не пригодна д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потребления и использо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я</cp:lastModifiedBy>
  <dcterms:modified xsi:type="dcterms:W3CDTF">2009-02-27T18:32:21Z</dcterms:modified>
  <cp:revision>8</cp:revision>
  <dc:subject/>
  <dc:title>PowerPoint Presentation</dc:title>
</cp:coreProperties>
</file>