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6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FF1A-E79D-4D00-A69F-725E560752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738A-3CDD-4950-92BE-43970709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941D-520D-4210-889F-3BCD2819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95B8-9E28-4816-B963-7846317962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C8EE8-65C7-4FD5-895A-4BFCF884F6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61078-63B3-4EAF-9387-75F66566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313D3-4848-45B3-B459-E68172F8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3B74B-3FDB-48BA-8328-8185C744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B0EDC-DCE5-4BD3-A849-D60E6691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1AE99-39C5-40E1-82B2-F099BB15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FFFEE-E1E0-4C83-BE1B-4E70A810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A533-A8D8-4F2D-A2CB-F29CE2D2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0C023-9723-4B67-A11E-5FCD1CB2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65C58-C402-4D7E-B751-62BA351D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0CA3A-5A8A-4DB6-8BB6-FAFBEAE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E35DE-F42D-4715-9B87-23A8250A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48E23-30B9-41AE-A321-782F0C25DE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ECBA-2019-4CCA-A74D-926456E187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7221-8BCC-4360-8A9E-F1398763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994B-3622-4EA3-B220-011291DE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9B67-2CA1-4431-8F69-857AEB83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BDBC-1D73-4D17-B139-14484688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BC1E-B4A9-4039-9820-F62B1F67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9E81-CE46-4366-971E-C32C561D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8935-2924-4862-BD8D-B507776F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3961-268E-4141-80CD-3954DC48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E8EC-B4C7-4BC4-BD7F-E7DAD6AB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2B7C-C297-40AA-BB1B-8BBE4ED5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693C-9852-458F-B829-E43869B7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C730-A83C-4656-ADB4-10FC3F6675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0168-E053-454C-807C-DBFD3D94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EC16-D487-4AE3-9475-36E3E7FA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CB4B-3484-49EC-9CA0-E9B1AD31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13CE-A5D5-4303-9132-A7F7F0C5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16BF-044A-4D9F-A93D-677AF15E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F4D9-38EA-410C-AD59-A802F4DA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D90A3-32BA-4BBF-81F9-1E472249239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4B42E-8EB3-4C8A-B8A8-300B42795A1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426C1-BD69-4BA9-9478-402A054883C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863640" y="1079640"/>
            <a:ext cx="6264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АЗБУКА </a:t>
            </a:r>
            <a:br>
              <a:rPr sz="6000"/>
            </a:br>
            <a:r>
              <a:rPr b="1" i="1" lang="ru-RU" sz="5800" spc="-1" strike="noStrike">
                <a:solidFill>
                  <a:srgbClr val="ffcc00"/>
                </a:solidFill>
                <a:latin typeface="Times New Roman"/>
              </a:rPr>
              <a:t>БЕЗОПАСНОСТИ</a:t>
            </a:r>
            <a:br>
              <a:rPr sz="6000"/>
            </a:b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Выполнила: воспитатель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лим Юлия Валериевна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492120" y="503280"/>
            <a:ext cx="8148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900"/>
            </a:br>
            <a:r>
              <a:rPr b="1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«Детский сад № 43» г. Воронеж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рогие ребят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иглашаю вас совершит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влекательное путешествие в страну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авил дорожного движ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 дорожных знаков!!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перед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792000" y="431640"/>
            <a:ext cx="75679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Бывает так, что в месте, где нужно перейти дорогу, зебры нет. Что делать? Тогда следует искат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Segoe UI"/>
              </a:rPr>
              <a:t>надземные или подземные пешеходные переходы.</a:t>
            </a: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934920" y="3240000"/>
            <a:ext cx="3600720" cy="3002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1440000" y="1474920"/>
            <a:ext cx="2087280" cy="19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4540320" y="1566720"/>
            <a:ext cx="36669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27352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144360" y="4103640"/>
            <a:ext cx="180036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"/>
          <p:cNvSpPr/>
          <p:nvPr/>
        </p:nvSpPr>
        <p:spPr>
          <a:xfrm>
            <a:off x="863640" y="14436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420e"/>
          </a:solidFill>
          <a:ln w="82800">
            <a:solidFill>
              <a:srgbClr val="ffd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аходясь на остановке, переходи дорогу только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тогда, когда общественный транспорт отойдет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. Если транспорт не отходи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язательно нужно отойти о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 на безопас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расстояние так, чтобы видеть едущ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справа и слева маш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Пользователь</cp:lastModifiedBy>
  <dcterms:modified xsi:type="dcterms:W3CDTF">2014-03-14T05:56:22Z</dcterms:modified>
  <cp:revision>3</cp:revision>
  <dc:subject/>
  <dc:title>Слайд 1</dc:title>
</cp:coreProperties>
</file>