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0F4-6C3E-4779-AF7E-B371666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12D-8E58-419E-B33C-61588381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F5C-8A91-4E7C-BCAC-6973E831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016-EA3C-45B6-8C8C-39681ACF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F63-2E06-4F25-8222-20447F76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C79-8AE6-44E7-AB27-4E8F542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CE4-B6F4-4BEC-A2AE-D5F80902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56E-1915-4627-82DB-F2BD6EEE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DC3-88FF-4B51-A698-F59E7D4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944-80C7-4C59-997A-AEAB12E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8D5-C1D8-4908-9A97-FDBE4DA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FB2-49BC-464B-BC99-6FDB721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35F-F1D6-4922-B097-F30E7B96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19749600">
            <a:off x="539640" y="1125000"/>
            <a:ext cx="4321440" cy="175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ой 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2205000"/>
            <a:ext cx="698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ОЗНАЮ СЕБЯ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48000" y="5950080"/>
            <a:ext cx="18860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АЙ 2014</a:t>
            </a:r>
            <a:endParaRPr b="0" lang="en-US" sz="32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700280"/>
            <a:ext cx="720108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пределить давление, создаваемое мной на пол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равнить мое давление с давлением трак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620640"/>
            <a:ext cx="17528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Цель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лан реа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зучить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33 «Давление. Единицы давлени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Измерить массу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Вычислить мой в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Определить площадь оп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Вычислить мое давление на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Сравнить его с давлением трактора ДТ-7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87640" y="765000"/>
            <a:ext cx="3384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оя ма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m = 51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,5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ой ве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 =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·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Р = 515 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1025800">
            <a:off x="684360" y="476280"/>
            <a:ext cx="4284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оп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0856000">
            <a:off x="558360" y="333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1447800">
            <a:off x="5651640" y="476280"/>
            <a:ext cx="2827080" cy="377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916360" y="1700280"/>
            <a:ext cx="36367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числение площади оп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640" y="177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 = 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5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Monotype Corsiva"/>
              </a:rPr>
              <a:t>·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2 = 290 с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0,029 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числение давления на п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3933720"/>
            <a:ext cx="7416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 = 515H/0,029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17759 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333360"/>
            <a:ext cx="4681800" cy="6242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560" y="4724280"/>
            <a:ext cx="7489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Мое давление меньше давления 7-тонного трактора в 2,7 р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332000" y="549360"/>
            <a:ext cx="5761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32360" y="4076640"/>
            <a:ext cx="3286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жумамухамедова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Кадиша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4149720"/>
            <a:ext cx="3200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боту выполнила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35280" y="5589720"/>
            <a:ext cx="561960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уководитель: Джалепова М.Ш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06:51:13Z</dcterms:created>
  <dc:creator>***</dc:creator>
  <dc:description/>
  <dc:language>en-US</dc:language>
  <cp:lastModifiedBy>***</cp:lastModifiedBy>
  <dcterms:modified xsi:type="dcterms:W3CDTF">2014-11-09T07:40:20Z</dcterms:modified>
  <cp:revision>3</cp:revision>
  <dc:subject/>
  <dc:title>Слайд 1</dc:title>
</cp:coreProperties>
</file>