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C390-1D16-4449-8730-522BD08EF2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2347-8E78-4638-BAD1-442E48C491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92B-6080-416B-9043-F1D2E4FF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212-59AB-4FA9-8ABF-9984ECDE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E65-8F6F-4ECD-903A-423843A9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5B1-3ADC-4BCA-ACDA-13B54BC5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50C-4D36-440F-8358-DBF18A2E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034-92D1-46E8-AC60-0759F474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ECD-4D8F-4D07-8418-A8A06F38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A9E-6778-4EEE-BF9A-4080231B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5E4-BE41-4125-B9D9-267BD9A8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01C-C629-4196-8EFE-1F15641D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D3A-443F-4FB2-9BE5-E3445571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E1C-35A4-4299-A45F-6F3EEF7E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9399-590C-49E6-ABE2-3F618E39830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УШКИН ГЛАЗАМИ ВЫДАЮЩИХСЯ ХУДОЖНИКОВ</a:t>
            </a: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s://encrypted-tbn1.gstatic.com/images?q=tbn:ANd9GcSAUwzJj5Xski75JK8oVGcCYQPrGWJH6d5PuhwKUYoyDtx_bIEQ"/>
          <p:cNvPicPr/>
          <p:nvPr/>
        </p:nvPicPr>
        <p:blipFill>
          <a:blip r:embed="rId1"/>
          <a:stretch/>
        </p:blipFill>
        <p:spPr>
          <a:xfrm>
            <a:off x="4929120" y="2905200"/>
            <a:ext cx="37242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14560" y="5714640"/>
            <a:ext cx="40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 Л. Линев. Портрет А. С. Пушки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User\Desktop\Пушкин глазами художников\Pushkin_Linev.jpg"/>
          <p:cNvPicPr/>
          <p:nvPr/>
        </p:nvPicPr>
        <p:blipFill>
          <a:blip r:embed="rId1"/>
          <a:stretch/>
        </p:blipFill>
        <p:spPr>
          <a:xfrm>
            <a:off x="4056120" y="276120"/>
            <a:ext cx="4659120" cy="5510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357120" y="428760"/>
            <a:ext cx="3571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емной глубины фона выступает лицо Пушкина с заострившимися чертами, неспокойным взглядом глубоко запавших глаз. С поразительной силой отразились в этом портрете пушкинские настроения последних лет жизни - усталость от житейских забот, невыносимое бремя конфликтов со светским обществом. Здесь Пушкин представлен совершенно натурально, без всяких прикрас. Это последнее прижизненное изображение поэ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5286240"/>
            <a:ext cx="5214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колай Г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Пушкин в селе Михайловском»187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User\Desktop\Пушкин глазами художников\Н. Ге Пушкин в селе Михайловском.jpg"/>
          <p:cNvPicPr/>
          <p:nvPr/>
        </p:nvPicPr>
        <p:blipFill>
          <a:blip r:embed="rId1"/>
          <a:stretch/>
        </p:blipFill>
        <p:spPr>
          <a:xfrm>
            <a:off x="214200" y="357120"/>
            <a:ext cx="6034320" cy="46436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6429240" y="428760"/>
            <a:ext cx="27147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, стоя у письменного стола в рабочей комнате, читает свое новое произведение «Цыгане» долгожданному гостю. Рядом няня - Арина Родионовна - за обычным домашним занятием. Эта картина изображает последнюю встречу двух близких друзей. Ровно за десять месяцев до восстания Пущин первым из всех друзей и знакомых навестил опального поэта в Михайловском что было далеко не безопасн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28400" y="4714920"/>
            <a:ext cx="80722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.К. Айвазовский, "Пушкин на берегу Черного моря" 188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дной из выставок в Петербурге (1836) встретились два художника - художник пера и художник кисти. Знакомство с Пушкиным произвело неизгладимое впечатление на молодого Айвазовского. "С тех пор и без того любимый мною поэт сделался предметом моих дум, вдохновения и длинных бесед и рассказов о нем", - вспоминал художни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43000" y="214200"/>
            <a:ext cx="692928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User\Desktop\Пушкин глазами художников\Айвазовский Репин.jpg"/>
          <p:cNvPicPr/>
          <p:nvPr/>
        </p:nvPicPr>
        <p:blipFill>
          <a:blip r:embed="rId1"/>
          <a:stretch/>
        </p:blipFill>
        <p:spPr>
          <a:xfrm>
            <a:off x="4429080" y="357120"/>
            <a:ext cx="3967200" cy="57736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500040" y="64296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йвазовский знал свою слабость в портрете и сам пригласил Репина написать Пушкина. Позднее Репин так отозвался о совместной работе: "Дивное море написал Айвазовский (...) И я удостоился намалевать там фигурку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414324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К. Айвазовский, И.Е. Репин. "Прощание Пушкина с морем." 188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5929200"/>
            <a:ext cx="3429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амятник Пушкину в Москве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кульптор А.М. Опекушин 1880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User\Desktop\Пушкин глазами художников\450px-Pushkin_Monument_in_Moscow.jpg"/>
          <p:cNvPicPr/>
          <p:nvPr/>
        </p:nvPicPr>
        <p:blipFill>
          <a:blip r:embed="rId1"/>
          <a:stretch/>
        </p:blipFill>
        <p:spPr>
          <a:xfrm>
            <a:off x="500040" y="285840"/>
            <a:ext cx="3963960" cy="52862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4714920" y="500040"/>
            <a:ext cx="3714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 Пушкину был воздвигнут в Москве на Пушкинской площади в 1880 году ко дню рождения поэ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стаменте высечены строки из его стихотворения, которые звучат как прор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долго буду тем любезен я нар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чувства Добрые я лирой пробужд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 в мой жестокий век восславил я своб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милость к падшим призыва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5480" y="5928840"/>
            <a:ext cx="46148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алентин Серов.</a:t>
            </a:r>
            <a:r>
              <a:rPr b="0" i="1" lang="ru-RU" sz="2000" spc="-1" strike="noStrike">
                <a:solidFill>
                  <a:srgbClr val="95b3d7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. С. Пушкин на садовой скамье. 189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C:\Users\User\Desktop\Пушкин глазами художников\serov31.jpg"/>
          <p:cNvPicPr/>
          <p:nvPr/>
        </p:nvPicPr>
        <p:blipFill>
          <a:blip r:embed="rId1"/>
          <a:stretch/>
        </p:blipFill>
        <p:spPr>
          <a:xfrm>
            <a:off x="428760" y="357120"/>
            <a:ext cx="4511520" cy="53578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6"/>
          <p:cNvSpPr/>
          <p:nvPr/>
        </p:nvSpPr>
        <p:spPr>
          <a:xfrm>
            <a:off x="5143680" y="285840"/>
            <a:ext cx="36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и иконографии поэта спорят о том, в каком месте изображен Пушкин: в Царском Селе или в деревне. Но важно ли это? Очень точно на этот вопрос ответил И.Е.Репин: "Серов, как Толстой, как Чехов, более всего ненавидел общие места в искусстве - банальность и шаблонность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692928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лья Репин «Пушкин на экзамене 8 января 1815 года» 191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User\Desktop\Пушкин глазами художников\Репин.jpg"/>
          <p:cNvPicPr/>
          <p:nvPr/>
        </p:nvPicPr>
        <p:blipFill>
          <a:blip r:embed="rId1"/>
          <a:stretch/>
        </p:blipFill>
        <p:spPr>
          <a:xfrm>
            <a:off x="357120" y="642960"/>
            <a:ext cx="6572160" cy="3724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7000920" y="357120"/>
            <a:ext cx="214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ртине изображен юный Пушкин, читающий Державину стихотворение «Воспоминание о Царском селе».Художник  «дал волю неудержимой фантазии» и «писал с наслаждением» что не противоречило самому тщательному изучению документальных матери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285840" y="4429080"/>
            <a:ext cx="657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ина интересовало все: от пуговиц, формы ботфорт до этюдов зала с натуры , портретов лиц, присутствующих на экзаме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 действительно стал героем дня 8 января 1815года, ибо день этот возвестил миру о рождении гениального поэта. Торжественная праздничность события была остро пережита художником и воплощена в карт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рис Михайлович Кустодиев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User\Desktop\Пушкин глазами художников\Кустодиев.Портрет А.С. Пушина..jpg"/>
          <p:cNvPicPr/>
          <p:nvPr/>
        </p:nvPicPr>
        <p:blipFill>
          <a:blip r:embed="rId1"/>
          <a:stretch/>
        </p:blipFill>
        <p:spPr>
          <a:xfrm>
            <a:off x="642960" y="1357200"/>
            <a:ext cx="2886120" cy="381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D:\C\Мои документы\Пушкин глазами художников\А.С.Пушкин на набережной Невы. 1915.jpg"/>
          <p:cNvPicPr/>
          <p:nvPr/>
        </p:nvPicPr>
        <p:blipFill>
          <a:blip r:embed="rId2"/>
          <a:stretch/>
        </p:blipFill>
        <p:spPr>
          <a:xfrm>
            <a:off x="5000760" y="1357200"/>
            <a:ext cx="2863800" cy="39290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929120" y="542916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ушкин на набережной Невы. 19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, акварель, бел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571680" y="5286240"/>
            <a:ext cx="35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ртрет А.С.Пушкина. 1915 Бумага, итальянский каранда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52149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тр Петрович Кончаловский «Пушкин» 19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989600" cy="40719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5"/>
          <p:cNvSpPr/>
          <p:nvPr/>
        </p:nvSpPr>
        <p:spPr>
          <a:xfrm>
            <a:off x="5286240" y="0"/>
            <a:ext cx="3500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 проснулся поутру на своем диване, где ночью работал, да так и уснул там. Он сидит, скрестив ноги по-турецки под стеганым одеялом золотистого шелка. На нем длинная ночная рубаха с распахнутым воротом, гусиным пером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й руке он касается уголка рта, в левой руке со знаменитым перстнем на большом пальце зажат листок с рукописью. Перед поэтом маленький круглый столик красного дерева, на нем листки, заполненные строчками стихов, графин и граненый стаканчик, подсыхающие корочки апельсина, а на фоне желтого стеганого одеяла лежит толстая черная тетра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2142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 одухотворенное, обрамленный темными кудрями лоб, твердый рот, твердый взгляд, устремленный в зимнее окно, взгляд, полный глубокого созерцания и энергии творческого вдохнов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.Ульянов. Пушкин с женой перед зеркалом на придворном б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D:\C\Мои документы\Пушкин глазами художников\index_pic.php.jpg"/>
          <p:cNvPicPr/>
          <p:nvPr/>
        </p:nvPicPr>
        <p:blipFill>
          <a:blip r:embed="rId1"/>
          <a:stretch/>
        </p:blipFill>
        <p:spPr>
          <a:xfrm>
            <a:off x="214200" y="357120"/>
            <a:ext cx="4073760" cy="50007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4429080" y="21420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ичен поворот головы, смел и пронзителен взгляд в сторону «Золотого зверинца». Разителен контраст: Пушкин, его жена и толпа придворных. На фоне роскошных нарядов, аксельбантов, орденов, эполетов - строгая фигура поэта в черном камер-юнкерском мундире, четкий профиль его резко повернутой головы с темными волнистыми волосами. Ему, естественно, отведена в композиции главная роль: он - в центре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ы расположены справа налево по спирали, начало которой - Наталья Николаевна и ее отражение в зеркале. Эта упругая спираль, которая как бы раскручивается, рваный ритм линий и пятен, сочетание пурпурного, синего и почти черного, краска, нанесенная беспокойными мазками, сообщают полотну напряженность, рождают трев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7824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…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Значение Пушкина неизмеримо велико. Через него разлилось литературное образование на десятки тысяч людей… Он первый возвел у нас литературу в достоинство национального дела…Он был первым поэтом, который стал в глазах всей русской публики на то высокое место, какое должен занимать в своей стране великий писатель…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Н. Чернышевск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357120" y="285840"/>
            <a:ext cx="8429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При имени Пушкина тотчас осеняет мысль о русском национальном поэте. В самом деле, никто из поэтов наших не выше его и не может более назваться национальным; это право решительно принадлежит ему. В нём, как будто в лексиконе, заключилось всё богатство, сила и гибкость нашего языка. Пушкин есть явление чрезвычайное и, может быть, единственное явление русского духа: это русский человек в его развитии, в каком он, может быть, явится через двести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7002720" y="30002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. ГОГ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285840" y="3714840"/>
            <a:ext cx="8572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Пушкин - природа, непосредственно действующая самым редким своим способом: стихами. Истинный поэт после последней точки не падает замертво, а вновь стоит у начала своей работы. У Пушкина окончания произведений похожи на морские горизонты: достигнув их, опять видишь перед собою бесконечное пространство, ограниченное лишь мнимой чертою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6716160" y="58579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А. ПЛАТ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Пушкин глазами художников\Вивьен.jpg"/>
          <p:cNvPicPr/>
          <p:nvPr/>
        </p:nvPicPr>
        <p:blipFill>
          <a:blip r:embed="rId1"/>
          <a:stretch/>
        </p:blipFill>
        <p:spPr>
          <a:xfrm>
            <a:off x="5000760" y="357120"/>
            <a:ext cx="3720960" cy="51148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5002560" y="5715000"/>
            <a:ext cx="38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вюра на меди  Егора Гейтм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357120" y="428760"/>
            <a:ext cx="4214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м изображением Пушкина, которое увидели читатели, была гравюра на меди Е. Гейтмана - фронтиспис поэмы «Кавказский пленник». Книга вышла в конце августа 1822 года со следующим послесловием «Издатели присовокупляют портрет автора в молодости с него рисованный. Они думают, что приятно сохранить юные черты поэта, которого первые произведения ознаменованы даром необыкновенным». Двадцатитрехлетний поэт представлялся читателям в виде юноши с чертами арапчонка и в байроновской позе. Это изображение не соответствовало действительной внешности его, но вошло в историю, врезалось в память многих пок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357120" y="785880"/>
            <a:ext cx="385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ьмя годами ранее он сам нарисовал свой портрет как прообраз гравюры для готовившегося, но не состоявшегося тогда издания стихотворений. Так поэт впервые обратился к автоизображениям, которые с этого времени сопутствуют его творчеству до конца жизни, становятся одной из форм самовыражения. Эти изображения не только отражают реальность. Но и несут в себе большое обобщение и критическое восприятие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User\Desktop\Пушкин глазами художников\pushkin_07.jpg"/>
          <p:cNvPicPr/>
          <p:nvPr/>
        </p:nvPicPr>
        <p:blipFill>
          <a:blip r:embed="rId1"/>
          <a:stretch/>
        </p:blipFill>
        <p:spPr>
          <a:xfrm>
            <a:off x="4286160" y="857160"/>
            <a:ext cx="46134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User\Desktop\Пушкин глазами художников\Галерея автопортретов А. С. Пушкина, относящихся к разным периодам его творчества.gif"/>
          <p:cNvPicPr/>
          <p:nvPr/>
        </p:nvPicPr>
        <p:blipFill>
          <a:blip r:embed="rId1"/>
          <a:stretch/>
        </p:blipFill>
        <p:spPr>
          <a:xfrm>
            <a:off x="4643280" y="614520"/>
            <a:ext cx="4071960" cy="54291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428760" y="642960"/>
            <a:ext cx="3786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портреты исполнены высокой поэзии, трагичны и одновременно не лишены самоиронии. Оставшиеся неизвестными для современников, эти изображения Пушкина оценены лишь столетия спустя. Рисунки по заключенной в них характеристике поэта столь емки и точны, а по манере исполнения столь смелы и артистичны, что не стареют, хотя и точно соотносятся с приметами пушкинской эпо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43280" y="856800"/>
            <a:ext cx="421488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ольшой камерный портрет, выполненный просто, без всяких претензий, для того чтобы запечатлеть черты поэта на память для его друзей. Поэт еще очень молод, он открыто и благожелательно смотрит прямо на зрителя. Художник сумел передать  интимные черты характера: душевную мягкость, сердечность, простодушие детскую незащищенность на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User\Desktop\Пушкин глазами художников\И.Е.Вивьен  Портрет Пушкина  1826 г  Бумага  итальянский карандаш  белила.jpg"/>
          <p:cNvPicPr/>
          <p:nvPr/>
        </p:nvPicPr>
        <p:blipFill>
          <a:blip r:embed="rId1"/>
          <a:stretch/>
        </p:blipFill>
        <p:spPr>
          <a:xfrm>
            <a:off x="642960" y="500040"/>
            <a:ext cx="3714840" cy="5448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757080" y="621504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Е.Вивьен  Портрет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5715000"/>
            <a:ext cx="41432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силий Андреевич Тропинин. Портрет А.С. Пушкина 182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4929120" y="285840"/>
            <a:ext cx="4000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опинин написал Пушкина в халате, с расстегнутым воротом рубашки и небрежно повязанным галстуком-шарфом. Особую внушительность, почти монументальность сообщают образу поэта гордая осанка и устойчивая поза, благодаря чему его домашний халат уподобляется античной т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этого портрета была странная судьба. С него было сделано несколько копий, а сам оригинал пропал и появился лишь много лет спустя. Художника просили подтвердить подлинность портрета и подновить его, поскольку он был сильно испорчен. Но Тропинин отказался, сказав, “что не смеет трогать черты, положенные с натуры и притом молодой рукой”, и только почистил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User\Desktop\Пушкин глазами художников\05_А.С.Пушкин._Портрет работы В.А.Тропинина._1827.jpg"/>
          <p:cNvPicPr/>
          <p:nvPr/>
        </p:nvPicPr>
        <p:blipFill>
          <a:blip r:embed="rId1"/>
          <a:stretch/>
        </p:blipFill>
        <p:spPr>
          <a:xfrm>
            <a:off x="714240" y="357120"/>
            <a:ext cx="40006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User\Desktop\Пушкин глазами художников\Кипренский. Портрет Пушкина.jpg"/>
          <p:cNvPicPr/>
          <p:nvPr/>
        </p:nvPicPr>
        <p:blipFill>
          <a:blip r:embed="rId1"/>
          <a:stretch/>
        </p:blipFill>
        <p:spPr>
          <a:xfrm>
            <a:off x="4214880" y="428760"/>
            <a:ext cx="4638600" cy="55227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14200" y="928800"/>
            <a:ext cx="4214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Любимец моды легкокрылый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оть не британец, не француз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ы вновь создал, волшебник милый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я, питомца чистых Муз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я смеюся над могилой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шед навек от смертных уз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бя как в зеркале я вижу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 это зеркало мне льстит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о гласит, что не унижу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страстья важных Аонид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 Риму, Дрездену, Парижу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вестен впредь мой будет ви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4071960" y="607212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ст Кипренский. Портрет А.С. Пушкина 18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5785920"/>
            <a:ext cx="3757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тр Федорович Соколов Портрет А.С. Пушкина Акварель18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User\Desktop\Пушкин глазами художников\А. С. Пушкин. Акварель П. Ф. Соколова.jpg"/>
          <p:cNvPicPr/>
          <p:nvPr/>
        </p:nvPicPr>
        <p:blipFill>
          <a:blip r:embed="rId1"/>
          <a:stretch/>
        </p:blipFill>
        <p:spPr>
          <a:xfrm>
            <a:off x="642960" y="428760"/>
            <a:ext cx="4032360" cy="5214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4929120" y="500040"/>
            <a:ext cx="3714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ягчая внешнюю характерность и выделяя внутреннюю гармонию, оттенок легкой грусти и душевное спокойствие, художник обращается к светлым и ясным чертам личности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0:03:07Z</dcterms:created>
  <dc:creator>Миткалева Ирина </dc:creator>
  <dc:description/>
  <cp:keywords>Изобразительное искусство Пушкин литература</cp:keywords>
  <dc:language>en-US</dc:language>
  <cp:lastModifiedBy>DNA7 X64</cp:lastModifiedBy>
  <dcterms:modified xsi:type="dcterms:W3CDTF">2014-11-09T09:45:45Z</dcterms:modified>
  <cp:revision>82</cp:revision>
  <dc:subject>Изобразительное искусство</dc:subject>
  <dc:title>«ПУШКИН ГЛАЗАМИ РУССКИХ ХУДОЖНИКОВ»</dc:title>
</cp:coreProperties>
</file>