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992-99B9-4C15-91D3-A2F849D1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6CE-FE55-4FDF-9DA3-1AC7D84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D45-A9A1-4D48-919B-E1BBB67F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5C0-AA36-4D71-8E43-482A1D39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047-EE23-44E0-997B-04AA36E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97D-46BB-4494-888E-B66443D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0F8-3BF3-4C43-8312-3F920E4D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71D-C767-42E6-8B2E-7A3B94EC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A35-7239-4257-85C2-E8D3544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1D6-617C-4834-B62B-A210FE6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48B-CDA5-475A-99FE-22CA196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F4B-2CAF-4D23-BAB4-02E3018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997-0DE4-4E89-9F30-5163F76F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744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города Москв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школа № 283(подразделение 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691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детей, испытывающих трудности 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-психолог, учитель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никова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ольные мероприят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участвуют в общешкольных д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стараемся привлечь детей к общешкольным мероприятиям, помогаем ребятам быть в них успешными (мини-футбол, конкурс домиков из соленого тес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10280" y="1601640"/>
            <a:ext cx="2914560" cy="2183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сихопрофила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ечение года проходили консультации по предмету для родителей и детей, испытывающих трудности в учеб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одительских собраниях педагогом-психологом освещались различные стороны мотивации учения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остное видение проблемы ребенка, многогранная работа, направленная на создание условий, в которых ученик сможет проявить свои способности, создала почву для становления положительной мотивации учения у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анный момент времени деятельность учителя, педагога-психолога продолжается. Транслирование опыта проходит в рамках работы над темой по самообраз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ль: создание условий для развития личности и успешной учебной деятельности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 создать специальные социально-психологические условия для оказания помощи детям, имеющим трудности в учении и произвольной регуляции пове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условия для развития положительной мотивации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 деятельности педагога-психолога и учителя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79360" y="1567800"/>
            <a:ext cx="4988160" cy="5168880"/>
            <a:chOff x="2079360" y="1567800"/>
            <a:chExt cx="4988160" cy="5168880"/>
          </a:xfrm>
        </p:grpSpPr>
        <p:sp>
          <p:nvSpPr>
            <p:cNvPr id="47" name="_s10264"/>
            <p:cNvSpPr/>
            <p:nvPr/>
          </p:nvSpPr>
          <p:spPr>
            <a:xfrm flipH="1" flipV="1">
              <a:off x="3687120" y="3236040"/>
              <a:ext cx="442440" cy="460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263"/>
            <p:cNvSpPr/>
            <p:nvPr/>
          </p:nvSpPr>
          <p:spPr>
            <a:xfrm>
              <a:off x="2626560" y="2136600"/>
              <a:ext cx="1245600" cy="1290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Экскур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262"/>
            <p:cNvSpPr/>
            <p:nvPr/>
          </p:nvSpPr>
          <p:spPr>
            <a:xfrm flipH="1">
              <a:off x="3320640" y="4151520"/>
              <a:ext cx="6274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61"/>
            <p:cNvSpPr/>
            <p:nvPr/>
          </p:nvSpPr>
          <p:spPr>
            <a:xfrm>
              <a:off x="2079360" y="3507120"/>
              <a:ext cx="1245600" cy="1290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сих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всеобуч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260"/>
            <p:cNvSpPr/>
            <p:nvPr/>
          </p:nvSpPr>
          <p:spPr>
            <a:xfrm flipH="1">
              <a:off x="3687480" y="4608360"/>
              <a:ext cx="444240" cy="458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59"/>
            <p:cNvSpPr/>
            <p:nvPr/>
          </p:nvSpPr>
          <p:spPr>
            <a:xfrm>
              <a:off x="2626560" y="4877280"/>
              <a:ext cx="1245600" cy="1290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диви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уа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 ребенк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58"/>
            <p:cNvSpPr/>
            <p:nvPr/>
          </p:nvSpPr>
          <p:spPr>
            <a:xfrm>
              <a:off x="4570920" y="4795920"/>
              <a:ext cx="1440" cy="650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57"/>
            <p:cNvSpPr/>
            <p:nvPr/>
          </p:nvSpPr>
          <p:spPr>
            <a:xfrm>
              <a:off x="3948840" y="5446080"/>
              <a:ext cx="1245600" cy="1290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сих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групп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256"/>
            <p:cNvSpPr/>
            <p:nvPr/>
          </p:nvSpPr>
          <p:spPr>
            <a:xfrm>
              <a:off x="5011560" y="4606200"/>
              <a:ext cx="442440" cy="460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55"/>
            <p:cNvSpPr/>
            <p:nvPr/>
          </p:nvSpPr>
          <p:spPr>
            <a:xfrm>
              <a:off x="5273280" y="4879080"/>
              <a:ext cx="1245600" cy="1290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фферен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ирова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д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ур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54"/>
            <p:cNvSpPr/>
            <p:nvPr/>
          </p:nvSpPr>
          <p:spPr>
            <a:xfrm>
              <a:off x="5192640" y="4151520"/>
              <a:ext cx="627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53"/>
            <p:cNvSpPr/>
            <p:nvPr/>
          </p:nvSpPr>
          <p:spPr>
            <a:xfrm>
              <a:off x="5821920" y="3507120"/>
              <a:ext cx="1245600" cy="1290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Шко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роприят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ру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52"/>
            <p:cNvSpPr/>
            <p:nvPr/>
          </p:nvSpPr>
          <p:spPr>
            <a:xfrm flipV="1">
              <a:off x="5009760" y="3236040"/>
              <a:ext cx="444240" cy="460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251"/>
            <p:cNvSpPr/>
            <p:nvPr/>
          </p:nvSpPr>
          <p:spPr>
            <a:xfrm>
              <a:off x="5273280" y="2134800"/>
              <a:ext cx="1245600" cy="1290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КТ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50"/>
            <p:cNvSpPr/>
            <p:nvPr/>
          </p:nvSpPr>
          <p:spPr>
            <a:xfrm flipV="1">
              <a:off x="4570920" y="2856240"/>
              <a:ext cx="0" cy="65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249"/>
            <p:cNvSpPr/>
            <p:nvPr/>
          </p:nvSpPr>
          <p:spPr>
            <a:xfrm>
              <a:off x="3948840" y="1567800"/>
              <a:ext cx="1245600" cy="1290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сслед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нам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48"/>
            <p:cNvSpPr/>
            <p:nvPr/>
          </p:nvSpPr>
          <p:spPr>
            <a:xfrm>
              <a:off x="3948840" y="3508920"/>
              <a:ext cx="1245600" cy="12906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ыт работы за 2013-2014 учебный год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а-психолога и учителя математики  начальной школы Сотниковой А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2013-2014 учебном году возникла возможность исследовать изменение мотивации учения у детей, оставленных на повторный курс обучения во 2 классе. На 1 сентября 2013 года были зафиксированы отрицательная мотивация учения и неудовлетворительный результат освоения школьной программы по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первой четверти 2014-2015 учебного года мы фиксируем положительную мотивацию учения у всех трех наблюдаемых детей и оценку «хорошо» по математике в четв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288720"/>
            <a:ext cx="691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, приемы и технологи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учения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4321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 и использовался в работе курс интерактивных математических игр на сайте миоо.семинфо. Дети зарегистрировались на сайте и использовали материал для отработки тем уроков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Рудченко был предоставлен курс «Информатика 2 класс» на сайте миоо.семинф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применялась программа Мат-решка, записанная на макбуках (в кабинете 26 макбу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 дети учатся по программе Эльконина-Давыдова, которая предполагает деятельностный подход в обу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43680" y="23385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ллект-карты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 map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для принятия эффективного решения задач на уроках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-карты позволяют видеть все возможные варианты работы с зада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ют принять взвешен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уют мышление по аналогии в качестве познавательной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3120" y="1601640"/>
            <a:ext cx="2828880" cy="218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62480" y="3938760"/>
            <a:ext cx="2808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тяжении 2013-2014 учебного года в оценках письменных работ и устных ответов учеников двух параллельных классов использовался дифференцированный подход: письменные работы оценивались с использованием технологии критериального оценивания и обязательно выставлялись в электронный журнал (каждый вид работы отдельно), все устные ответы оценивались с помощью критериального оценивания, но фиксировались только положительны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Т-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боте педагога-психолога использованы компьютерные программы «Суперинтеллект» и «Баба Яга в тылу врага», направленные на развитие высших психических функций, мыслительных операций. Для работы с программами использовалась интерактив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43680" y="23385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скурсионная деятельно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путешествуют по интересным местам, познают мир сквозь призму своих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7492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9:48:47Z</dcterms:created>
  <dc:creator>алла</dc:creator>
  <dc:description/>
  <dc:language>en-US</dc:language>
  <cp:lastModifiedBy>алла</cp:lastModifiedBy>
  <dcterms:modified xsi:type="dcterms:W3CDTF">2014-11-08T21:42:05Z</dcterms:modified>
  <cp:revision>27</cp:revision>
  <dc:subject/>
  <dc:title>Слайд 1</dc:title>
</cp:coreProperties>
</file>