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FCA-35AE-40B6-8DED-81F2821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19E-825B-449C-951E-C3A0FC3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ADA-3E01-47B4-90AA-5A6A3C0F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000-4C10-4622-B5D0-3AEBF0BA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8AE-E989-4983-81AD-73C2A5B9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E9E-8F9D-4ABB-BE3F-6A29F40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5AC-35AE-4BB1-8865-4330A0B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000-AACC-454A-8BB8-77134E1F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E07-5D09-4420-9DEF-28AE53C6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956-90D0-4189-A9D9-E727E809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6BD-0AE5-4C8D-885B-352D3A1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51F-020C-4D2E-805B-175EF19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AAAD-19CC-4109-9ABB-5F73AF2E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02840" y="388440"/>
            <a:ext cx="5700240" cy="2957040"/>
          </a:xfrm>
          <a:prstGeom prst="rect">
            <a:avLst/>
          </a:prstGeom>
          <a:noFill/>
          <a:ln w="381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«Формирование правильной грамотной речи у дошкольников              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в средней группе «Ромашка»»</a:t>
            </a:r>
            <a:br>
              <a:rPr sz="32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спитатели:Миклауш С.И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             Ситникова С.А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:\Users\Альбина\Downloads\rastr11.jpg"/>
          <p:cNvPicPr/>
          <p:nvPr/>
        </p:nvPicPr>
        <p:blipFill>
          <a:blip r:embed="rId1"/>
          <a:srcRect l="28448" t="33177" r="34226" b="38192"/>
          <a:stretch/>
        </p:blipFill>
        <p:spPr>
          <a:xfrm>
            <a:off x="5257800" y="3733920"/>
            <a:ext cx="36576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чевой уголок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сюжетные картинки, гимнастика для глаз,упражнения для развития речи, фонематическая ритмика,упражнения для верхних дыхательных пу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Светлана\Desktop\дети\100_3291.JPG"/>
          <p:cNvPicPr/>
          <p:nvPr/>
        </p:nvPicPr>
        <p:blipFill>
          <a:blip r:embed="rId1"/>
          <a:stretch/>
        </p:blipFill>
        <p:spPr>
          <a:xfrm>
            <a:off x="1066680" y="1447920"/>
            <a:ext cx="2743200" cy="1758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Светлана\Desktop\дети\100_3289.JPG"/>
          <p:cNvPicPr/>
          <p:nvPr/>
        </p:nvPicPr>
        <p:blipFill>
          <a:blip r:embed="rId2"/>
          <a:stretch/>
        </p:blipFill>
        <p:spPr>
          <a:xfrm>
            <a:off x="5410080" y="1447920"/>
            <a:ext cx="2438640" cy="16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чевой уголок (волшебные комочки,зеркало,пальчиковая игротека, пособия для дыхательной гимнастик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Светлана\Desktop\дети\100_3284.JPG"/>
          <p:cNvPicPr/>
          <p:nvPr/>
        </p:nvPicPr>
        <p:blipFill>
          <a:blip r:embed="rId3"/>
          <a:stretch/>
        </p:blipFill>
        <p:spPr>
          <a:xfrm>
            <a:off x="7621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Светлана\Desktop\дети\100_3285.JPG"/>
          <p:cNvPicPr/>
          <p:nvPr/>
        </p:nvPicPr>
        <p:blipFill>
          <a:blip r:embed="rId4"/>
          <a:stretch/>
        </p:blipFill>
        <p:spPr>
          <a:xfrm>
            <a:off x="5410080" y="4419720"/>
            <a:ext cx="2667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Дыхательн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95480" cy="227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2743200" cy="212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 rot="10769400">
            <a:off x="2511000" y="3197880"/>
            <a:ext cx="41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ио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4" descr="C:\Users\Светлана\Desktop\дети\100_3208.JPG"/>
          <p:cNvPicPr/>
          <p:nvPr/>
        </p:nvPicPr>
        <p:blipFill>
          <a:blip r:embed="rId3"/>
          <a:stretch/>
        </p:blipFill>
        <p:spPr>
          <a:xfrm>
            <a:off x="457200" y="3962520"/>
            <a:ext cx="2971800" cy="226512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5" descr="C:\Users\Светлана\Desktop\дети\100_3204.JPG"/>
          <p:cNvPicPr/>
          <p:nvPr/>
        </p:nvPicPr>
        <p:blipFill>
          <a:blip r:embed="rId4"/>
          <a:stretch/>
        </p:blipFill>
        <p:spPr>
          <a:xfrm>
            <a:off x="5181480" y="3962520"/>
            <a:ext cx="30481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хемы – модели по составлению словосочетаний, 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4" descr="C:\Users\Светлана\Desktop\дети\100_3214.JPG"/>
          <p:cNvPicPr/>
          <p:nvPr/>
        </p:nvPicPr>
        <p:blipFill>
          <a:blip r:embed="rId1"/>
          <a:stretch/>
        </p:blipFill>
        <p:spPr>
          <a:xfrm>
            <a:off x="533520" y="1752480"/>
            <a:ext cx="327636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4" descr="C:\Users\Светлана\Desktop\100_3223.JPG"/>
          <p:cNvPicPr/>
          <p:nvPr/>
        </p:nvPicPr>
        <p:blipFill>
          <a:blip r:embed="rId2"/>
          <a:stretch/>
        </p:blipFill>
        <p:spPr>
          <a:xfrm>
            <a:off x="4419720" y="266688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укольный театр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казка «Лисичка – сестричка и серый вол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4" descr="C:\Users\Светлана\Desktop\дети\100_3176.JPG"/>
          <p:cNvPicPr/>
          <p:nvPr/>
        </p:nvPicPr>
        <p:blipFill>
          <a:blip r:embed="rId1"/>
          <a:stretch/>
        </p:blipFill>
        <p:spPr>
          <a:xfrm>
            <a:off x="457200" y="129528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7" descr="C:\Users\Светлана\Desktop\дети\100_3173.JPG"/>
          <p:cNvPicPr/>
          <p:nvPr/>
        </p:nvPicPr>
        <p:blipFill>
          <a:blip r:embed="rId2"/>
          <a:stretch/>
        </p:blipFill>
        <p:spPr>
          <a:xfrm>
            <a:off x="5638680" y="1295280"/>
            <a:ext cx="2590920" cy="1905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95280" y="3246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родная игра «Мы - музыкан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Светлана\Desktop\дети\100_3276.JPG"/>
          <p:cNvPicPr/>
          <p:nvPr/>
        </p:nvPicPr>
        <p:blipFill>
          <a:blip r:embed="rId3"/>
          <a:stretch/>
        </p:blipFill>
        <p:spPr>
          <a:xfrm>
            <a:off x="2743200" y="3886200"/>
            <a:ext cx="3429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южетно – ролевая игра «Улица»,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Подвижная игра с текстом «Охот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Светлана\Desktop\фото\100_2763.JPG"/>
          <p:cNvPicPr/>
          <p:nvPr/>
        </p:nvPicPr>
        <p:blipFill>
          <a:blip r:embed="rId1"/>
          <a:stretch/>
        </p:blipFill>
        <p:spPr>
          <a:xfrm>
            <a:off x="5335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Светлана\Desktop\фото\100_2804.JPG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ставление рассказа о любимой игрушке по схеме.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Чтение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Светлана\Desktop\фото\100_3051.JPG"/>
          <p:cNvPicPr/>
          <p:nvPr/>
        </p:nvPicPr>
        <p:blipFill>
          <a:blip r:embed="rId1"/>
          <a:stretch/>
        </p:blipFill>
        <p:spPr>
          <a:xfrm>
            <a:off x="228600" y="2438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4" descr="C:\Users\Светлана\Desktop\дети\100_3182.JPG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9:09:33Z</dcterms:created>
  <dc:creator>Светлана</dc:creator>
  <dc:description/>
  <dc:language>en-US</dc:language>
  <cp:lastModifiedBy>Михалыч</cp:lastModifiedBy>
  <dcterms:modified xsi:type="dcterms:W3CDTF">2014-11-09T14:14:13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