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0BF6-6210-45CF-B148-8967CD83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C7EF-35FD-4403-830E-7404EDB8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239D-E35A-45D9-B2BF-132066AD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C372-2682-49BD-BBF6-D9903865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8DB5-54BE-4BA9-9D43-FFE718B6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5D97-B48F-4757-B5D2-C1C62885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5CCD-CA24-4C24-B7AF-D231F6E2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16AA-EBBB-4FC2-9958-6E954CCA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DCAA-FBAC-48E0-96D1-20FD8A02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8BF9-D786-4B3C-BD4C-C5640536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6CC3-D6FF-43CF-93E7-E5A33781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DE5-C05D-411A-B2E2-50E0B5C6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5EC7-7D2A-4EC7-BD93-1BAFC88D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FEDC-4989-4039-AB17-1DC8D3B6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A69F-6AF8-4699-8D7D-0EF88F4F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F79A-6EFD-48CB-BB24-44785A1F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22A8-FAEC-4EFA-8B6A-8EB72396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8A6D1-5F85-486F-B74C-B7A1CB2F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4F1CC-E199-4D8A-9B68-2841AB47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96243-B586-4F6E-9B7B-D88D25E6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2D09A-3BF8-4B24-BB3E-76C92AA6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B1832-2009-4A9A-A232-E2EAD98D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9B0B-CB87-4E63-AF38-03DD3216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4C283-DFCF-4A59-B73B-76A1EB27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23957-94F9-4930-BDC7-474AA805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9D8E6-5623-4A62-AF30-14064F7F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A2DD5-4EDA-476D-8A02-BD246462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647A4-4F7D-4D56-AA4E-75D6D013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D0697-CD0A-4E6D-BC0C-4F2AB104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ADE28-FAB2-4687-8B3F-338C6A90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8A06A-8A65-4F1C-A417-B2071F11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10DE7-3208-44C4-AFF0-6D612032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5E355-8570-4A51-915F-E6364CFB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09D7-E713-40CD-B66B-51CCF156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5207D-956F-4641-B0C6-82F1F460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8878D-7F56-4B29-A722-F8D6B304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72710-3FBE-4510-BF2D-25D0A3B3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25DEC-2754-48DF-AAFD-D3B0E558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82960-FA95-43B4-AFE0-975B1FA1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842D1-3ED7-4741-A950-8F5D3057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8A21A-4E43-40C7-9EA6-01A0903E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93131-5941-43A7-BD93-44B3B88A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B8531-E57D-4C2F-8F9B-3C4C4CBE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0EC-FAEB-4219-8374-9D3C697C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F0A4-D14E-4E08-9830-3D5886BE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FD40-2894-4E72-B9C1-902A4F4D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1813-31FD-43A5-A394-F80160AB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01B3-7282-46CD-A397-F623F592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DB3A-B1A7-4126-80DB-3FEEE183771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1BF5-E9C9-48C7-9E35-83C77B38F89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EF07-62DB-42AC-8178-02F576CB2B8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3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0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53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54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56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8691-3203-4066-9926-B1F0B3AAE3F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07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1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17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21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6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7640" y="2637000"/>
            <a:ext cx="53992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ef8b0"/>
                </a:solidFill>
                <a:latin typeface="Garamond"/>
              </a:rPr>
              <a:t>Родительское собрание</a:t>
            </a:r>
            <a:br>
              <a:rPr sz="4400"/>
            </a:br>
            <a:r>
              <a:rPr b="0" lang="en-US" sz="4400" spc="-1" strike="noStrike">
                <a:solidFill>
                  <a:srgbClr val="eef8b0"/>
                </a:solidFill>
                <a:latin typeface="Garamond"/>
              </a:rPr>
              <a:t>«Трудности адаптации пятиклассника к школе»</a:t>
            </a:r>
            <a:br>
              <a:rPr sz="4400"/>
            </a:b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 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521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Штурмуйте каждую проблему с энтузиазмом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ак если бы от этого зависела Ваша жизн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Л. Кьюб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576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Каковы же причины плохой адаптации в 5 классе?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 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      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Разные требовани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со стороны учителей – предметников, необходимость их учитывать и выполня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   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Много новых кабинетов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которые неизвестно как расположен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      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Большой поток информации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незнакомые термины, слова, необходимость самостоятельно находить дополнительную литературу и работать с н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      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Чувство одиночеств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из-за отсутствия первой учительницы, а классному руководителю не удается уделить всем необходимое вниман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799128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Психолог обращает внимание родителей на следующие моменты: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зменение режима дня ребенка в сравнении с начальной школой, увеличение физической и умственной нагрузк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Garamond"/>
              </a:rPr>
              <a:t>быстрое физиологическое взросление многих детей, гормональные изменения в организм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Garamond"/>
              </a:rPr>
              <a:t>изменения в питании ребенка, связанные с его большей самостоятельностью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686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По данным психологов ситуация адаптации вызывает 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многих пятиклассников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повышенную тревожность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, ка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школьную, так и личностную, а зачастую и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появл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страхов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  Усиливается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страх не соответствовать ожиданиям окружающих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который в этом возрасте, как правило, сильнее, чем страх самовыраж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 Для ребенка младшего подросткового возраста чрезвычайно важно мнение других людей о нем и о его поступках, особенно мнение одноклассников и учителей.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 Постоянный страх не соответствовать ожиданиям окружающих приводит к тому, что способный ребенок не проявляет в должной мере свои возможности. 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Не отнимай чужого, но и свое не отдава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опросили – дай, пытаются отнять – старайся защищать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Не дерись без причи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Зовут играть – иди, не зовут – спроси разрешения играть вместе, это не стыдн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Играй честно, не подводи своих товарищ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Не дразни никого, не канючь, не выпрашивай ничего. Два раза ни у кого ничего не прос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Будь внимателен везде, где нужно проявить внимательнос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Из-за отметок не плачь, будь горды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 учителем из-за отметок не спорь и не обижайся. Старайся все делать вовремя и думай о хороших результатах, они у тебя обязательно буду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Не ябедничай и не наговаривай ни на ког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тарайся быть аккуратны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очаще говори: давай дружить, давай играть, давай вместе пойдем дом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Помни!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Ты не лучше всех, ты не хуже всех! Ты – неповторимый для самого себя, родителей, учителей, друзей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2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4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4800" spc="-1" strike="noStrike">
                <a:solidFill>
                  <a:srgbClr val="000000"/>
                </a:solidFill>
                <a:latin typeface="Comic Sans MS"/>
              </a:rPr>
              <a:t>Желаю нам успехов на пути становления культурной, духовной, нравственной личности </a:t>
            </a:r>
            <a:r>
              <a:rPr b="0" i="1" lang="en-US" sz="4800" spc="-1" strike="noStrike">
                <a:solidFill>
                  <a:srgbClr val="ff3300"/>
                </a:solidFill>
                <a:latin typeface="Comic Sans MS"/>
              </a:rPr>
              <a:t>5</a:t>
            </a:r>
            <a:r>
              <a:rPr b="0" i="1" lang="en-US" sz="4800" spc="-1" strike="noStrike">
                <a:solidFill>
                  <a:srgbClr val="000000"/>
                </a:solidFill>
                <a:latin typeface="Comic Sans MS"/>
              </a:rPr>
              <a:t>классника!!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751280" y="3935520"/>
            <a:ext cx="439272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5T12:15:16Z</dcterms:created>
  <dc:creator>User</dc:creator>
  <dc:description/>
  <dc:language>en-US</dc:language>
  <cp:lastModifiedBy>User</cp:lastModifiedBy>
  <dcterms:modified xsi:type="dcterms:W3CDTF">2014-08-26T05:51:57Z</dcterms:modified>
  <cp:revision>3</cp:revision>
  <dc:subject/>
  <dc:title>Родительское собрание «Трудности адаптации пятиклассника к школе»  </dc:title>
</cp:coreProperties>
</file>