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8CC-ED71-4555-8584-B346EEF0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7A8-4E91-4E2F-84C5-86CD23A4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993-12E0-4916-B189-B312CA29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E0F-D557-4FA3-8265-E2CCA328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177-3373-408D-BB0F-965F7D3D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723-F5BE-418E-BF3F-5040C62E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C93-7B19-4F6C-A045-1CC4925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C56-1898-494D-9349-32A159C9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C0F-6F70-4D72-9C43-50CE91BA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774-4658-4570-AA16-EFA9391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440-471D-4714-8028-0E5A794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B71-55E0-4F33-9361-F347270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965-9871-4911-9C8D-43D7FAD6F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1413000"/>
            <a:ext cx="822960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20 октября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Классная работа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Это слово и другое слово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692000" y="691920"/>
            <a:ext cx="5832360" cy="2376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СТВЕННЫЕ СЛОВА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ЧАСТЬ (КОРЕНЬ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МЫСЛ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АЯ ОСНОВА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1692360" y="3357720"/>
            <a:ext cx="5832360" cy="2374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НЫЕ ФОРМЫ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ЧАСТЬ  (ОСН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с.86 – учить, с.85-86 упр.57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одержимое 2"/>
          <p:cNvSpPr/>
          <p:nvPr/>
        </p:nvSpPr>
        <p:spPr>
          <a:xfrm>
            <a:off x="826920" y="1125360"/>
            <a:ext cx="2305080" cy="358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bat-Bold"/>
              </a:rPr>
              <a:t>имя сущ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-Bold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н.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ед.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3348000" y="1125360"/>
            <a:ext cx="2232000" cy="36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bat-Bold"/>
              </a:rPr>
              <a:t>имя при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bat-Bold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н.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м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95640" y="1125000"/>
            <a:ext cx="252108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bat-Bold"/>
              </a:rPr>
              <a:t>глагол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-Bol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н.ф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что делать?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bat-Bold"/>
              </a:rPr>
              <a:t>что сделать?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92000" y="691920"/>
            <a:ext cx="5832360" cy="2376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СТВЕННЫЕ СЛОВА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ЧАСТЬ (КОРЕНЬ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МЫСЛ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 РАЗНАЯ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1692360" y="3357720"/>
            <a:ext cx="5832360" cy="2374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НЫЕ ФОРМЫ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ЧАСТЬ  - О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.84  упр.56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00200"/>
            <a:ext cx="27352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ок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очек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2773440" y="37893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СТВЕННЫЕ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.84  упр.56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26920" y="1599840"/>
            <a:ext cx="74901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ок, листка, к листку, листки.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923840" y="249228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   ОДНОГО   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1763640" y="3141720"/>
            <a:ext cx="67690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очки, листочка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листочках, листоч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054160" y="486900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   ОДНОГО   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.85  упр.57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560" y="1599840"/>
            <a:ext cx="8137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, снеговик, Снегурочка, 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овой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329560" y="3141720"/>
            <a:ext cx="439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СТВ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.85  упр.57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26560" y="1599840"/>
            <a:ext cx="8137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, снеговик, Снегурочка, 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овой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269800" y="3141720"/>
            <a:ext cx="4515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СТВЕН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 - снег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.85  упр.57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0920" y="159984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, снеговик, снегом, снеговики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615240" y="2492280"/>
            <a:ext cx="54385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   ОДНОГО    СЛО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 – сне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овик - снегов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– с.29 упр.35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844280"/>
            <a:ext cx="8229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Aspaer U</cp:lastModifiedBy>
  <dcterms:modified xsi:type="dcterms:W3CDTF">2014-11-09T14:06:31Z</dcterms:modified>
  <cp:revision>23</cp:revision>
  <dc:subject/>
  <dc:title>Классная доска</dc:title>
</cp:coreProperties>
</file>