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4.jpeg" ContentType="image/jpeg"/>
  <Override PartName="/ppt/media/image53.png" ContentType="image/png"/>
  <Override PartName="/ppt/media/image5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52.png" ContentType="image/png"/>
  <Override PartName="/ppt/media/image27.jpeg" ContentType="image/jpeg"/>
  <Override PartName="/ppt/media/image29.jpeg" ContentType="image/jpeg"/>
  <Override PartName="/ppt/media/image49.jpeg" ContentType="image/jpeg"/>
  <Override PartName="/ppt/media/image16.png" ContentType="image/png"/>
  <Override PartName="/ppt/media/image67.jpeg" ContentType="image/jpeg"/>
  <Override PartName="/ppt/media/image65.jpeg" ContentType="image/jpeg"/>
  <Override PartName="/ppt/media/image8.png" ContentType="image/png"/>
  <Override PartName="/ppt/media/image21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43.jpeg" ContentType="image/jpeg"/>
  <Override PartName="/ppt/media/image68.jpeg" ContentType="image/jpeg"/>
  <Override PartName="/ppt/media/image31.png" ContentType="image/png"/>
  <Override PartName="/ppt/media/image24.png" ContentType="image/png"/>
  <Override PartName="/ppt/media/image61.png" ContentType="image/png"/>
  <Override PartName="/ppt/media/image60.jpeg" ContentType="image/jpeg"/>
  <Override PartName="/ppt/media/image37.jpeg" ContentType="image/jpeg"/>
  <Override PartName="/ppt/media/image28.jpeg" ContentType="image/jpeg"/>
  <Override PartName="/ppt/media/image51.jpeg" ContentType="image/jpeg"/>
  <Override PartName="/ppt/media/image32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26.jpeg" ContentType="image/jpeg"/>
  <Override PartName="/ppt/media/image42.jpeg" ContentType="image/jpe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30.jpeg" ContentType="image/jpeg"/>
  <Override PartName="/ppt/media/image33.jpeg" ContentType="image/jpeg"/>
  <Override PartName="/ppt/media/image34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45.png" ContentType="image/png"/>
  <Override PartName="/ppt/media/image69.jpeg" ContentType="image/jpeg"/>
  <Override PartName="/ppt/media/image4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962-03D8-4626-8CF7-2BCFEFE9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D8D-553D-479D-B804-C8A75A38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1F5-4757-4995-B6F3-E0346F5B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CC6-5E76-4AFB-B12C-DD985A32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C732-E886-4FF8-9E50-3927997F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C295-F0FE-40BA-8047-96A708E0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F636-ED73-45E7-9B6B-06EA76CE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14A9-9D7A-4A35-98EC-68DFDFD3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8C06-390F-413E-A048-16838C34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1C53-4203-4E4D-9ABD-70E37F44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8CD4-ACA4-49E5-86A9-58ECDB4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132-D15E-4673-B40B-E4DE0F41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CEF4-1098-4475-B664-C78B8693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A87A-B597-465B-9D50-E158B96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38C9-39A3-4DDB-9F44-F0C6DC26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6E47-D828-4DD9-BC87-C74A6677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0347-3792-46A3-A960-FA31CEF3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57D7-155D-4616-8667-8DA8799C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3B96-CA18-4132-99A5-AE94445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4002D-30D6-426C-A7A4-CEE6D5F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EE98-FFDA-4B33-9BBC-A0521631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7DB1-E874-4CC5-8FCC-40AE4ADE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02A-4C5D-4AC6-9879-0B158B3A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BE89-2DDF-4214-8EC6-8FD6EAF4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E319-4275-4D9F-ACF0-277FB6F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DD45F-19FE-4062-B5C0-EA3B614F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9055-118C-42AF-A434-A4B3AA9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372A7-764F-49EA-AA12-2C17CB01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9FF8-671C-4B4E-9967-254D77B1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4ECE-62A0-4507-9FB7-47D35A16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313A9-FE35-44A6-946D-924CDC71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815D-C293-4364-8DEF-4792DFF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1DBF-5A55-478D-9B3A-34CF3E4F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456-8799-4B17-A00B-1CA9D0CA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6470-F6BC-4B1A-B0DA-1997976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37CB7-1779-4B8E-B05F-23EBFE17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CDD3D-4496-4C2F-8D5A-99268D79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CACB-5DC1-4632-95F3-CC62830F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A3AE-9B04-4F76-9473-5740C5A8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C248-525D-4384-BDE3-6959420F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2567-7328-4315-ACFD-FE5B479F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AD83-9CBC-4784-A0CE-EAFC7CC7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57E9-BDD6-4CA1-AEE9-7A97ECFC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783-6CD9-4110-889A-7AA0A00C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703-9756-408E-BE8A-54803E7B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42B-6B91-4A9C-8B98-C287339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761-3450-441E-AF57-3B35C13C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6A1-7FEE-41DC-A476-7754BAC0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FADE-D66E-44B3-9A35-236542AAC893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1B6-9607-4D7E-8BD7-8AD08D9F704B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6BDC-C819-4DDA-931E-D6F341AE2E87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EC7-FB9D-418F-B48F-3534D3831B67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5.png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jpe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jpe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78000" y="1170000"/>
            <a:ext cx="83581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8"/>
          <p:cNvSpPr/>
          <p:nvPr/>
        </p:nvSpPr>
        <p:spPr>
          <a:xfrm>
            <a:off x="214200" y="450072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у выполнила: Полякова Мар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ающаяся 9а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ОУ «СОШ № 3 с УИОП» г. Уси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ь: Жаркова О. 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566640" y="633240"/>
            <a:ext cx="8315280" cy="738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857320" cy="21938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3"/>
          <p:cNvSpPr/>
          <p:nvPr/>
        </p:nvSpPr>
        <p:spPr>
          <a:xfrm>
            <a:off x="840960" y="3716280"/>
            <a:ext cx="25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Ёж обыкно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5" descr=""/>
          <p:cNvPicPr/>
          <p:nvPr/>
        </p:nvPicPr>
        <p:blipFill>
          <a:blip r:embed="rId3"/>
          <a:stretch/>
        </p:blipFill>
        <p:spPr>
          <a:xfrm>
            <a:off x="3492360" y="1557360"/>
            <a:ext cx="2071800" cy="2146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5"/>
          <p:cNvSpPr/>
          <p:nvPr/>
        </p:nvSpPr>
        <p:spPr>
          <a:xfrm>
            <a:off x="4145760" y="36450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б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4" descr=""/>
          <p:cNvPicPr/>
          <p:nvPr/>
        </p:nvPicPr>
        <p:blipFill>
          <a:blip r:embed="rId4"/>
          <a:stretch/>
        </p:blipFill>
        <p:spPr>
          <a:xfrm>
            <a:off x="5724360" y="1557360"/>
            <a:ext cx="3246480" cy="22147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7"/>
          <p:cNvSpPr/>
          <p:nvPr/>
        </p:nvSpPr>
        <p:spPr>
          <a:xfrm>
            <a:off x="5939280" y="371484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ыжеватый сус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"/>
          <p:cNvPicPr/>
          <p:nvPr/>
        </p:nvPicPr>
        <p:blipFill>
          <a:blip r:embed="rId5"/>
          <a:stretch/>
        </p:blipFill>
        <p:spPr>
          <a:xfrm>
            <a:off x="395280" y="4076640"/>
            <a:ext cx="3071880" cy="23986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9"/>
          <p:cNvSpPr/>
          <p:nvPr/>
        </p:nvSpPr>
        <p:spPr>
          <a:xfrm>
            <a:off x="372240" y="63961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аворонок белокры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8" descr="http://www.zvereved.ru/pub/bio_ico/animal_463.jpg"/>
          <p:cNvPicPr/>
          <p:nvPr/>
        </p:nvPicPr>
        <p:blipFill>
          <a:blip r:embed="rId6"/>
          <a:stretch/>
        </p:blipFill>
        <p:spPr>
          <a:xfrm>
            <a:off x="3635280" y="4076640"/>
            <a:ext cx="2786040" cy="235584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11"/>
          <p:cNvSpPr/>
          <p:nvPr/>
        </p:nvSpPr>
        <p:spPr>
          <a:xfrm>
            <a:off x="3866040" y="63961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пная пищ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2" descr="http://im5-tub-ru.yandex.net/i?id=6189751-50-72&amp;n=21"/>
          <p:cNvPicPr/>
          <p:nvPr/>
        </p:nvPicPr>
        <p:blipFill>
          <a:blip r:embed="rId7"/>
          <a:stretch/>
        </p:blipFill>
        <p:spPr>
          <a:xfrm>
            <a:off x="6588000" y="4149720"/>
            <a:ext cx="2286000" cy="223200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3"/>
          <p:cNvSpPr/>
          <p:nvPr/>
        </p:nvSpPr>
        <p:spPr>
          <a:xfrm>
            <a:off x="6580800" y="639612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сица кор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7" descr="http://zekabrist.ru/images/photos/medium/fa3f18863f3595295b62aaea07e5cf0e.jpg"/>
          <p:cNvPicPr/>
          <p:nvPr/>
        </p:nvPicPr>
        <p:blipFill>
          <a:blip r:embed="rId1"/>
          <a:stretch/>
        </p:blipFill>
        <p:spPr>
          <a:xfrm>
            <a:off x="357120" y="1928880"/>
            <a:ext cx="3857760" cy="47530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10" descr="http://www.zhaba.ru/_pics/dbmtpiowrk2ag7yp.jpg"/>
          <p:cNvPicPr/>
          <p:nvPr/>
        </p:nvPicPr>
        <p:blipFill>
          <a:blip r:embed="rId2"/>
          <a:stretch/>
        </p:blipFill>
        <p:spPr>
          <a:xfrm>
            <a:off x="5143680" y="1857240"/>
            <a:ext cx="3024000" cy="22147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http://www.city-n.ru/upload/2010/07/08/151893_27903_big.jpg"/>
          <p:cNvPicPr/>
          <p:nvPr/>
        </p:nvPicPr>
        <p:blipFill>
          <a:blip r:embed="rId3"/>
          <a:stretch/>
        </p:blipFill>
        <p:spPr>
          <a:xfrm>
            <a:off x="5000760" y="4143240"/>
            <a:ext cx="3295440" cy="24768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285840" y="6429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Тюрьма «Чёрный дельфин»</a:t>
            </a:r>
            <a:br>
              <a:rPr sz="32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(«ФКУ ИК – 6 УФСИН России по Оренбургской области» - колония  для пожизненно осуждён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20840" y="853920"/>
            <a:ext cx="4297320" cy="1017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Диаграмма 1"/>
          <p:cNvGraphicFramePr/>
          <p:nvPr/>
        </p:nvGraphicFramePr>
        <p:xfrm>
          <a:off x="357120" y="2071800"/>
          <a:ext cx="535788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Диаграмма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071800"/>
                    <a:ext cx="53578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1" descr=""/>
          <p:cNvPicPr/>
          <p:nvPr/>
        </p:nvPicPr>
        <p:blipFill>
          <a:blip r:embed="rId4"/>
          <a:stretch/>
        </p:blipFill>
        <p:spPr>
          <a:xfrm>
            <a:off x="5857920" y="1714680"/>
            <a:ext cx="3286080" cy="4248000"/>
          </a:xfrm>
          <a:prstGeom prst="rect">
            <a:avLst/>
          </a:prstGeom>
          <a:ln w="0">
            <a:noFill/>
          </a:ln>
        </p:spPr>
      </p:pic>
      <p:pic>
        <p:nvPicPr>
          <p:cNvPr id="264" name="Заголовок 1" descr=""/>
          <p:cNvPicPr/>
          <p:nvPr/>
        </p:nvPicPr>
        <p:blipFill>
          <a:blip r:embed="rId5"/>
          <a:stretch/>
        </p:blipFill>
        <p:spPr>
          <a:xfrm>
            <a:off x="4853160" y="566640"/>
            <a:ext cx="4297320" cy="101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Схема 1" descr=""/>
          <p:cNvPicPr/>
          <p:nvPr/>
        </p:nvPicPr>
        <p:blipFill>
          <a:blip r:embed="rId1"/>
          <a:stretch/>
        </p:blipFill>
        <p:spPr>
          <a:xfrm>
            <a:off x="420840" y="536400"/>
            <a:ext cx="8156520" cy="5992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9" descr="http://www.ayzdorov.ru/images/Travi/podsolnechnik.jpg"/>
          <p:cNvPicPr/>
          <p:nvPr/>
        </p:nvPicPr>
        <p:blipFill>
          <a:blip r:embed="rId2"/>
          <a:stretch/>
        </p:blipFill>
        <p:spPr>
          <a:xfrm>
            <a:off x="214200" y="142884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logosputnik"/>
          <p:cNvPicPr/>
          <p:nvPr/>
        </p:nvPicPr>
        <p:blipFill>
          <a:blip r:embed="rId3"/>
          <a:stretch/>
        </p:blipFill>
        <p:spPr>
          <a:xfrm>
            <a:off x="1428840" y="1928880"/>
            <a:ext cx="1352520" cy="869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http://fermer02.ru/uploads/posts/2011-08/1312351493_yun_5631.jpg"/>
          <p:cNvPicPr/>
          <p:nvPr/>
        </p:nvPicPr>
        <p:blipFill>
          <a:blip r:embed="rId4"/>
          <a:stretch/>
        </p:blipFill>
        <p:spPr>
          <a:xfrm>
            <a:off x="2916360" y="2205000"/>
            <a:ext cx="1079280" cy="792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http://t1.gstatic.com/images?q=tbn:ANd9GcTr2LGvK8YTfQOp_wqjMn1WAUrfDA430G9ZDDY5bUbztGab1yJBJA"/>
          <p:cNvPicPr/>
          <p:nvPr/>
        </p:nvPicPr>
        <p:blipFill>
          <a:blip r:embed="rId5"/>
          <a:stretch/>
        </p:blipFill>
        <p:spPr>
          <a:xfrm>
            <a:off x="168120" y="3071880"/>
            <a:ext cx="1379520" cy="1293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http://usiter.com/uploads/20120418/pshenitca+rozh+kolos+kolosya+15432518741.jpg"/>
          <p:cNvPicPr/>
          <p:nvPr/>
        </p:nvPicPr>
        <p:blipFill>
          <a:blip r:embed="rId6"/>
          <a:stretch/>
        </p:blipFill>
        <p:spPr>
          <a:xfrm>
            <a:off x="1403280" y="3141720"/>
            <a:ext cx="1527120" cy="1224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1" descr="http://agrobk.ru/wp-content/uploads/pogolovie_KRS-uvelichilos_v_Sverdlovskoy_obl.jpg"/>
          <p:cNvPicPr/>
          <p:nvPr/>
        </p:nvPicPr>
        <p:blipFill>
          <a:blip r:embed="rId7"/>
          <a:stretch/>
        </p:blipFill>
        <p:spPr>
          <a:xfrm>
            <a:off x="2987640" y="3213000"/>
            <a:ext cx="1096920" cy="1166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http://www.sps.kemv.ru/065.jpg"/>
          <p:cNvPicPr/>
          <p:nvPr/>
        </p:nvPicPr>
        <p:blipFill>
          <a:blip r:embed="rId8"/>
          <a:stretch/>
        </p:blipFill>
        <p:spPr>
          <a:xfrm>
            <a:off x="8028000" y="2133720"/>
            <a:ext cx="11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ttp://www.step-by-step.ru/i/client_logo/iletsksol.gif"/>
          <p:cNvPicPr/>
          <p:nvPr/>
        </p:nvPicPr>
        <p:blipFill>
          <a:blip r:embed="rId9"/>
          <a:stretch/>
        </p:blipFill>
        <p:spPr>
          <a:xfrm>
            <a:off x="5000760" y="3429000"/>
            <a:ext cx="2771640" cy="642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5" descr="http://aerogel-russia.ru/images/vidy.jpg"/>
          <p:cNvPicPr/>
          <p:nvPr/>
        </p:nvPicPr>
        <p:blipFill>
          <a:blip r:embed="rId10"/>
          <a:stretch/>
        </p:blipFill>
        <p:spPr>
          <a:xfrm>
            <a:off x="201600" y="4786200"/>
            <a:ext cx="2014560" cy="1617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http://www.tehresurs-ufa.ru/wp-content/uploads/2011/08/%D0%93%D0%9A%D0%9F-61.jpg"/>
          <p:cNvPicPr/>
          <p:nvPr/>
        </p:nvPicPr>
        <p:blipFill>
          <a:blip r:embed="rId11"/>
          <a:stretch/>
        </p:blipFill>
        <p:spPr>
          <a:xfrm>
            <a:off x="6300720" y="4500720"/>
            <a:ext cx="2428920" cy="2206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://t1.gstatic.com/images?q=tbn:ANd9GcQxCnINIpS80cU_s3X9tumgkRyQzEWcEBiFwhpEBltGYiIyPVAp"/>
          <p:cNvPicPr/>
          <p:nvPr/>
        </p:nvPicPr>
        <p:blipFill>
          <a:blip r:embed="rId12"/>
          <a:stretch/>
        </p:blipFill>
        <p:spPr>
          <a:xfrm>
            <a:off x="5425920" y="5638680"/>
            <a:ext cx="1590840" cy="639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Соль фасованная Akzo Nobel "/>
          <p:cNvPicPr/>
          <p:nvPr/>
        </p:nvPicPr>
        <p:blipFill>
          <a:blip r:embed="rId13"/>
          <a:stretch/>
        </p:blipFill>
        <p:spPr>
          <a:xfrm>
            <a:off x="7308720" y="1413000"/>
            <a:ext cx="839880" cy="1323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353880" y="420840"/>
            <a:ext cx="8313840" cy="7380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" descr="Озеро Развал"/>
          <p:cNvPicPr/>
          <p:nvPr/>
        </p:nvPicPr>
        <p:blipFill>
          <a:blip r:embed="rId2"/>
          <a:stretch/>
        </p:blipFill>
        <p:spPr>
          <a:xfrm>
            <a:off x="3571920" y="1214280"/>
            <a:ext cx="3004920" cy="22561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3"/>
          <p:cNvSpPr/>
          <p:nvPr/>
        </p:nvSpPr>
        <p:spPr>
          <a:xfrm>
            <a:off x="2928960" y="3429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лёные озёра и целебные гр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4" descr="http://moyidorogi.ru/wp-content/uploads/2012/09/%D0%92%D0%B8%D0%B4-%D0%BD%D0%B0-%D1%80%D0%B5%D0%BA%D1%83-%D0%A3%D1%80%D0%B0%D0%BB-%D1%81-%D1%82%D1%80%D0%B0%D1%81%D1%81%D1%8B-%D0%A0335-%D0%B2%D0%BE%D0%B7%D0%BB%D0%B5-%D0%98%D0%BB%D0%B5%D0%BA%D0%B0.jpg"/>
          <p:cNvPicPr/>
          <p:nvPr/>
        </p:nvPicPr>
        <p:blipFill>
          <a:blip r:embed="rId3"/>
          <a:stretch/>
        </p:blipFill>
        <p:spPr>
          <a:xfrm>
            <a:off x="0" y="1214280"/>
            <a:ext cx="3460680" cy="221472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5"/>
          <p:cNvSpPr/>
          <p:nvPr/>
        </p:nvSpPr>
        <p:spPr>
          <a:xfrm>
            <a:off x="14400" y="342900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счаные пляжи р. Ил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7" descr="http://createhealthylife.ru/milk/milk6.jpg"/>
          <p:cNvPicPr/>
          <p:nvPr/>
        </p:nvPicPr>
        <p:blipFill>
          <a:blip r:embed="rId4"/>
          <a:stretch/>
        </p:blipFill>
        <p:spPr>
          <a:xfrm>
            <a:off x="6661080" y="1285920"/>
            <a:ext cx="2482920" cy="21668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7"/>
          <p:cNvSpPr/>
          <p:nvPr/>
        </p:nvSpPr>
        <p:spPr>
          <a:xfrm>
            <a:off x="6858000" y="3500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ысо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10" descr="http://www.angara.net/text/07/0709/07.jpg"/>
          <p:cNvPicPr/>
          <p:nvPr/>
        </p:nvPicPr>
        <p:blipFill>
          <a:blip r:embed="rId5"/>
          <a:stretch/>
        </p:blipFill>
        <p:spPr>
          <a:xfrm>
            <a:off x="0" y="4000680"/>
            <a:ext cx="2214720" cy="214308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9"/>
          <p:cNvSpPr/>
          <p:nvPr/>
        </p:nvSpPr>
        <p:spPr>
          <a:xfrm>
            <a:off x="6120" y="62150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ный тур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31" descr="http://img-fotki.yandex.ru/get/5505/krupskiy-a-v.10/0_5fc78_39007265_XL"/>
          <p:cNvPicPr/>
          <p:nvPr/>
        </p:nvPicPr>
        <p:blipFill>
          <a:blip r:embed="rId6"/>
          <a:stretch/>
        </p:blipFill>
        <p:spPr>
          <a:xfrm>
            <a:off x="2340000" y="4076640"/>
            <a:ext cx="2619360" cy="20192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11"/>
          <p:cNvSpPr/>
          <p:nvPr/>
        </p:nvSpPr>
        <p:spPr>
          <a:xfrm>
            <a:off x="2366640" y="6149880"/>
            <a:ext cx="25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ки дев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еп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25" descr="http://tour.volgawolga.ru/wp-content/uploads/2012/01/sol-ileck_festeval_arbuza.jpg"/>
          <p:cNvPicPr/>
          <p:nvPr/>
        </p:nvPicPr>
        <p:blipFill>
          <a:blip r:embed="rId7"/>
          <a:stretch/>
        </p:blipFill>
        <p:spPr>
          <a:xfrm>
            <a:off x="5003640" y="4076640"/>
            <a:ext cx="2057400" cy="200016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13"/>
          <p:cNvSpPr/>
          <p:nvPr/>
        </p:nvSpPr>
        <p:spPr>
          <a:xfrm>
            <a:off x="4912560" y="6072120"/>
            <a:ext cx="23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Фестиваль арбуз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22" descr="http://solyanoy-kurort.ru/wp-content/uploads/%D0%9F%D0%B5%D1%80%D0%BE%D0%B2%D1%81%D0%BA%D0%B8%D0%B9-%D1%8F%D1%80.jpg"/>
          <p:cNvPicPr/>
          <p:nvPr/>
        </p:nvPicPr>
        <p:blipFill>
          <a:blip r:embed="rId8"/>
          <a:stretch/>
        </p:blipFill>
        <p:spPr>
          <a:xfrm>
            <a:off x="7093080" y="4076640"/>
            <a:ext cx="2050920" cy="199080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15"/>
          <p:cNvSpPr/>
          <p:nvPr/>
        </p:nvSpPr>
        <p:spPr>
          <a:xfrm>
            <a:off x="7300440" y="60930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ра Ха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http://www.soliletsk.com/assets/images/7/2.jpg"/>
          <p:cNvPicPr/>
          <p:nvPr/>
        </p:nvPicPr>
        <p:blipFill>
          <a:blip r:embed="rId1"/>
          <a:stretch/>
        </p:blipFill>
        <p:spPr>
          <a:xfrm>
            <a:off x="1000080" y="1643040"/>
            <a:ext cx="7056360" cy="445788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3"/>
          <p:cNvSpPr/>
          <p:nvPr/>
        </p:nvSpPr>
        <p:spPr>
          <a:xfrm>
            <a:off x="1785960" y="6143760"/>
            <a:ext cx="52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стро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85840" y="78588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оль – Илецкий оздоровительный комплекс «Сарматская обит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332560" cy="115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File:Map of Russia - Orenburg Oblast (2008-03).svg"/>
          <p:cNvPicPr/>
          <p:nvPr/>
        </p:nvPicPr>
        <p:blipFill>
          <a:blip r:embed="rId2"/>
          <a:stretch/>
        </p:blipFill>
        <p:spPr>
          <a:xfrm>
            <a:off x="357120" y="1643040"/>
            <a:ext cx="8358120" cy="46245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2000160" y="4575600"/>
            <a:ext cx="25718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.Соль-Илец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85840" y="689040"/>
            <a:ext cx="8943840" cy="11523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8" descr="Файл:Gerbsoliletska.gif"/>
          <p:cNvPicPr/>
          <p:nvPr/>
        </p:nvPicPr>
        <p:blipFill>
          <a:blip r:embed="rId2"/>
          <a:stretch/>
        </p:blipFill>
        <p:spPr>
          <a:xfrm>
            <a:off x="395280" y="2421000"/>
            <a:ext cx="2928960" cy="3752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3"/>
          <p:cNvSpPr/>
          <p:nvPr/>
        </p:nvSpPr>
        <p:spPr>
          <a:xfrm>
            <a:off x="1466280" y="61657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р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31" descr="File:Flag of Sol-Iletsk (Orenburg oblast).png"/>
          <p:cNvPicPr/>
          <p:nvPr/>
        </p:nvPicPr>
        <p:blipFill>
          <a:blip r:embed="rId3"/>
          <a:stretch/>
        </p:blipFill>
        <p:spPr>
          <a:xfrm>
            <a:off x="3995640" y="2565360"/>
            <a:ext cx="4513320" cy="300024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5"/>
          <p:cNvSpPr/>
          <p:nvPr/>
        </p:nvSpPr>
        <p:spPr>
          <a:xfrm>
            <a:off x="5608440" y="595008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ла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428760" y="50004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Город Соль –Илецк – основан в 1754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93560" y="566640"/>
            <a:ext cx="8321760" cy="5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Илецкое месторождение в Соль-Илецке. Общий вид копра скипового ствола"/>
          <p:cNvPicPr/>
          <p:nvPr/>
        </p:nvPicPr>
        <p:blipFill>
          <a:blip r:embed="rId2"/>
          <a:stretch/>
        </p:blipFill>
        <p:spPr>
          <a:xfrm>
            <a:off x="214200" y="1428840"/>
            <a:ext cx="4572000" cy="43704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0" y="593028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ий вид копра скипового ст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Илецкое месторождение, добыча соли"/>
          <p:cNvPicPr/>
          <p:nvPr/>
        </p:nvPicPr>
        <p:blipFill>
          <a:blip r:embed="rId3"/>
          <a:stretch/>
        </p:blipFill>
        <p:spPr>
          <a:xfrm>
            <a:off x="4929120" y="1571760"/>
            <a:ext cx="4048200" cy="35719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5072040" y="536004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лецкое месторожд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быча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321400" cy="7318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http://www.kommersant.ru/ISSUES.PHOTO/OGONIOK/2010/029/ogonek_29_005_max.gif"/>
          <p:cNvPicPr/>
          <p:nvPr/>
        </p:nvPicPr>
        <p:blipFill>
          <a:blip r:embed="rId2"/>
          <a:stretch/>
        </p:blipFill>
        <p:spPr>
          <a:xfrm>
            <a:off x="714240" y="1071720"/>
            <a:ext cx="7500960" cy="5068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2286000" y="61498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онтинентальный клим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428840" y="6215040"/>
            <a:ext cx="857160" cy="357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1133640" y="281160"/>
            <a:ext cx="6717960" cy="730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 (635x518, 90Kb)"/>
          <p:cNvPicPr/>
          <p:nvPr/>
        </p:nvPicPr>
        <p:blipFill>
          <a:blip r:embed="rId2"/>
          <a:stretch/>
        </p:blipFill>
        <p:spPr>
          <a:xfrm>
            <a:off x="785880" y="1000080"/>
            <a:ext cx="7542000" cy="5857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Панорама озера "/>
          <p:cNvPicPr/>
          <p:nvPr/>
        </p:nvPicPr>
        <p:blipFill>
          <a:blip r:embed="rId1"/>
          <a:stretch/>
        </p:blipFill>
        <p:spPr>
          <a:xfrm>
            <a:off x="214200" y="214200"/>
            <a:ext cx="4286520" cy="3183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pb0015709c7397a4bb334f0b22cbd3f26w800h800"/>
          <p:cNvPicPr/>
          <p:nvPr/>
        </p:nvPicPr>
        <p:blipFill>
          <a:blip r:embed="rId2"/>
          <a:stretch/>
        </p:blipFill>
        <p:spPr>
          <a:xfrm>
            <a:off x="4643280" y="285840"/>
            <a:ext cx="4500720" cy="2944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0_33fdb_cce6527c_L"/>
          <p:cNvPicPr/>
          <p:nvPr/>
        </p:nvPicPr>
        <p:blipFill>
          <a:blip r:embed="rId3"/>
          <a:stretch/>
        </p:blipFill>
        <p:spPr>
          <a:xfrm>
            <a:off x="285840" y="3500280"/>
            <a:ext cx="4262400" cy="31435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6"/>
          <p:cNvSpPr/>
          <p:nvPr/>
        </p:nvSpPr>
        <p:spPr>
          <a:xfrm>
            <a:off x="223200" y="6215040"/>
            <a:ext cx="39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зеро Тузлучное (грязевое озе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На озере Развал"/>
          <p:cNvPicPr/>
          <p:nvPr/>
        </p:nvPicPr>
        <p:blipFill>
          <a:blip r:embed="rId4"/>
          <a:stretch/>
        </p:blipFill>
        <p:spPr>
          <a:xfrm>
            <a:off x="4857840" y="3429000"/>
            <a:ext cx="4089240" cy="321480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5"/>
          <a:stretch/>
        </p:blipFill>
        <p:spPr>
          <a:xfrm>
            <a:off x="4853160" y="5924520"/>
            <a:ext cx="3936960" cy="73188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6"/>
          <a:stretch/>
        </p:blipFill>
        <p:spPr>
          <a:xfrm>
            <a:off x="171360" y="2779560"/>
            <a:ext cx="4510080" cy="5796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1"/>
          <p:cNvSpPr/>
          <p:nvPr/>
        </p:nvSpPr>
        <p:spPr>
          <a:xfrm>
            <a:off x="457200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зеро Дунино , или бромное оз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321400" cy="8776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http://www.litsovet.ru/images/galleries/3429/2561/9776efa8.jpg"/>
          <p:cNvPicPr/>
          <p:nvPr/>
        </p:nvPicPr>
        <p:blipFill>
          <a:blip r:embed="rId2"/>
          <a:stretch/>
        </p:blipFill>
        <p:spPr>
          <a:xfrm>
            <a:off x="214200" y="1214280"/>
            <a:ext cx="2928960" cy="2381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http://www.xn--80afahik1bacv9b3i.xn--p1ai/images/public/20101107/prirodnaya_zona_stepi_big.jpg"/>
          <p:cNvPicPr/>
          <p:nvPr/>
        </p:nvPicPr>
        <p:blipFill>
          <a:blip r:embed="rId3"/>
          <a:stretch/>
        </p:blipFill>
        <p:spPr>
          <a:xfrm>
            <a:off x="3357720" y="1214280"/>
            <a:ext cx="24606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6072120" y="1214280"/>
            <a:ext cx="2835360" cy="22860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1019160" y="3571920"/>
            <a:ext cx="10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4146480" y="350028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5240" y="342900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юльпаны Шр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5"/>
          <a:stretch/>
        </p:blipFill>
        <p:spPr>
          <a:xfrm>
            <a:off x="214200" y="400068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9"/>
          <p:cNvSpPr/>
          <p:nvPr/>
        </p:nvSpPr>
        <p:spPr>
          <a:xfrm>
            <a:off x="1480680" y="638172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р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http://tourist.kharkov.ua/report/2004/imgm/000038-t.jpg"/>
          <p:cNvPicPr/>
          <p:nvPr/>
        </p:nvPicPr>
        <p:blipFill>
          <a:blip r:embed="rId6"/>
          <a:stretch/>
        </p:blipFill>
        <p:spPr>
          <a:xfrm>
            <a:off x="3929040" y="4000680"/>
            <a:ext cx="4872240" cy="24336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2"/>
          <p:cNvSpPr/>
          <p:nvPr/>
        </p:nvSpPr>
        <p:spPr>
          <a:xfrm>
            <a:off x="4225680" y="638172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йрачные  берёзово - осиные ко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566640" y="353880"/>
            <a:ext cx="8315280" cy="7318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" descr=""/>
          <p:cNvPicPr/>
          <p:nvPr/>
        </p:nvPicPr>
        <p:blipFill>
          <a:blip r:embed="rId2"/>
          <a:stretch/>
        </p:blipFill>
        <p:spPr>
          <a:xfrm>
            <a:off x="4292640" y="1285920"/>
            <a:ext cx="4637160" cy="4357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3" descr="http://www.oreninform.ru/upload/iblock/aca/_DSC4410.JPG"/>
          <p:cNvPicPr/>
          <p:nvPr/>
        </p:nvPicPr>
        <p:blipFill>
          <a:blip r:embed="rId3"/>
          <a:stretch/>
        </p:blipFill>
        <p:spPr>
          <a:xfrm>
            <a:off x="214200" y="1285920"/>
            <a:ext cx="3946680" cy="43578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0" y="560232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региональный фестиваль «Соль-илецкий арбу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4071960" y="557208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и сортов   арбузов выращивают –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страханец, Холодок, Роза Юго – Востока, Огонё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0:43:49Z</dcterms:created>
  <dc:creator>User</dc:creator>
  <dc:description/>
  <dc:language>en-US</dc:language>
  <cp:lastModifiedBy>User</cp:lastModifiedBy>
  <dcterms:modified xsi:type="dcterms:W3CDTF">2014-11-09T12:32:21Z</dcterms:modified>
  <cp:revision>30</cp:revision>
  <dc:subject/>
  <dc:title>Слайд 1</dc:title>
</cp:coreProperties>
</file>