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767D3-EC38-47E4-B0D8-973B3D039A9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C6E9-54E6-4F73-8264-AC2B44DF062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ащиеся вспоминают о том, что глагол-связка в вопросе встает на первое место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тем дети предполагают, как будет строиться вопросительное предлож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олжение презентации по щелчку только после  ответов дет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5439-B9A7-4127-A48F-9F466D4B466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!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Змейка» высовывает язычок, напоминая нам о правильном произношении зву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!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вечая на предложенный вопрос, учащиеся вспоминают об употреблении глагола-связки в  единственном и множественном числах, и делают предположения об использовании данных оборотов «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/ar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612EC-7E0A-4C75-B3EB-84FA8388360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30908-2466-4F79-A626-F39F9DD6277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рхняя стрелка – ссылка на слайд с иллюстрацией. Нижняя стрелка – продолжение презент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ход к предыдущему слайду – по стрел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F6D3F-9E61-46A8-9249-C701890CDB7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9141-969A-4675-96EC-5F77E2B90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76FA-08E2-48CB-8C57-407AE982A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3E35-D43D-409D-AEAA-CBCFCDD1A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5413-26C6-4BBE-89E2-FA5380286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C88A-872E-4DA3-891C-167909E96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C409-F2BD-428A-9005-92D7F6589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0ACE-A005-4DB0-B7D2-3BF905A43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30FB-9C02-4DE8-9FD0-D15F1F144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65BC-F97E-423D-9D84-E828ACF8B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BCC7-42FE-4F77-A69D-273805E2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054D-9DDB-4D00-A48A-81994910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A9C0-F236-4FFD-9A7E-BF49F516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8FA88-FDF9-421E-945F-F0A08DCC55D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116000" y="549360"/>
            <a:ext cx="691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1856520" y="2276640"/>
            <a:ext cx="6147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00"/>
                </a:solidFill>
                <a:latin typeface="Times New Roman"/>
              </a:rPr>
              <a:t>Конструкци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6600"/>
                </a:solidFill>
                <a:latin typeface="Times New Roman"/>
              </a:rPr>
              <a:t>There is / There a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2411280" y="40464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Вопросительное предложе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Group 20"/>
          <p:cNvGrpSpPr/>
          <p:nvPr/>
        </p:nvGrpSpPr>
        <p:grpSpPr>
          <a:xfrm>
            <a:off x="610920" y="1268280"/>
            <a:ext cx="5011560" cy="2020680"/>
            <a:chOff x="610920" y="1268280"/>
            <a:chExt cx="5011560" cy="2020680"/>
          </a:xfrm>
        </p:grpSpPr>
        <p:grpSp>
          <p:nvGrpSpPr>
            <p:cNvPr id="108" name="Group 15"/>
            <p:cNvGrpSpPr/>
            <p:nvPr/>
          </p:nvGrpSpPr>
          <p:grpSpPr>
            <a:xfrm>
              <a:off x="610920" y="1268280"/>
              <a:ext cx="5011560" cy="2020680"/>
              <a:chOff x="610920" y="1268280"/>
              <a:chExt cx="5011560" cy="2020680"/>
            </a:xfrm>
          </p:grpSpPr>
          <p:pic>
            <p:nvPicPr>
              <p:cNvPr id="109" name="Picture 16" descr="Змейка"/>
              <p:cNvPicPr/>
              <p:nvPr/>
            </p:nvPicPr>
            <p:blipFill>
              <a:blip r:embed="rId1"/>
              <a:stretch/>
            </p:blipFill>
            <p:spPr>
              <a:xfrm flipH="1">
                <a:off x="610920" y="1268280"/>
                <a:ext cx="5011560" cy="202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Rectangle 17"/>
              <p:cNvSpPr/>
              <p:nvPr/>
            </p:nvSpPr>
            <p:spPr>
              <a:xfrm flipH="1">
                <a:off x="4642920" y="1695240"/>
                <a:ext cx="72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6600"/>
                    </a:solidFill>
                    <a:latin typeface="Times New Roman"/>
                  </a:rPr>
                  <a:t>the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" name="Rectangle 18"/>
            <p:cNvSpPr/>
            <p:nvPr/>
          </p:nvSpPr>
          <p:spPr>
            <a:xfrm flipH="1">
              <a:off x="966240" y="22050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Group 26"/>
          <p:cNvGrpSpPr/>
          <p:nvPr/>
        </p:nvGrpSpPr>
        <p:grpSpPr>
          <a:xfrm>
            <a:off x="610920" y="3716280"/>
            <a:ext cx="5011560" cy="2020680"/>
            <a:chOff x="610920" y="3716280"/>
            <a:chExt cx="5011560" cy="2020680"/>
          </a:xfrm>
        </p:grpSpPr>
        <p:grpSp>
          <p:nvGrpSpPr>
            <p:cNvPr id="113" name="Group 22"/>
            <p:cNvGrpSpPr/>
            <p:nvPr/>
          </p:nvGrpSpPr>
          <p:grpSpPr>
            <a:xfrm>
              <a:off x="610920" y="3716280"/>
              <a:ext cx="5011560" cy="2020680"/>
              <a:chOff x="610920" y="3716280"/>
              <a:chExt cx="5011560" cy="2020680"/>
            </a:xfrm>
          </p:grpSpPr>
          <p:pic>
            <p:nvPicPr>
              <p:cNvPr id="114" name="Picture 23" descr="Змейка"/>
              <p:cNvPicPr/>
              <p:nvPr/>
            </p:nvPicPr>
            <p:blipFill>
              <a:blip r:embed="rId2"/>
              <a:stretch/>
            </p:blipFill>
            <p:spPr>
              <a:xfrm flipH="1">
                <a:off x="610920" y="3716280"/>
                <a:ext cx="5011560" cy="202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" name="Rectangle 24"/>
              <p:cNvSpPr/>
              <p:nvPr/>
            </p:nvSpPr>
            <p:spPr>
              <a:xfrm flipH="1">
                <a:off x="4642920" y="4143240"/>
                <a:ext cx="72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6600"/>
                    </a:solidFill>
                    <a:latin typeface="Times New Roman"/>
                  </a:rPr>
                  <a:t>the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Rectangle 25"/>
            <p:cNvSpPr/>
            <p:nvPr/>
          </p:nvSpPr>
          <p:spPr>
            <a:xfrm flipH="1">
              <a:off x="970920" y="479592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A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Text Box 27"/>
          <p:cNvSpPr/>
          <p:nvPr/>
        </p:nvSpPr>
        <p:spPr>
          <a:xfrm>
            <a:off x="5867280" y="1557360"/>
            <a:ext cx="27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a  ….  ….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28"/>
          <p:cNvSpPr/>
          <p:nvPr/>
        </p:nvSpPr>
        <p:spPr>
          <a:xfrm>
            <a:off x="6012000" y="4149720"/>
            <a:ext cx="24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s  …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29"/>
          <p:cNvSpPr/>
          <p:nvPr/>
        </p:nvSpPr>
        <p:spPr>
          <a:xfrm>
            <a:off x="826920" y="2060640"/>
            <a:ext cx="741708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imes New Roman"/>
              </a:rPr>
              <a:t>?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Что происходит с глаголом-связкой при постановке вопрос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2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2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7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1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000"/>
                            </p:stCondLst>
                            <p:childTnLst>
                              <p:par>
                                <p:cTn id="29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0"/>
                            </p:stCondLst>
                            <p:childTnLst>
                              <p:par>
                                <p:cTn id="29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8000"/>
                            </p:stCondLst>
                            <p:childTnLst>
                              <p:par>
                                <p:cTn id="30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2700360" y="62064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Is t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fireplace in the room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2839680" y="3789360"/>
            <a:ext cx="37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re t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lamp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on the wall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1332000" y="1989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Yes, there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5580000" y="1989000"/>
            <a:ext cx="2144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No, there is n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No, there isn’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187280" y="5013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Yes, there 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5508720" y="5013360"/>
            <a:ext cx="259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No, there are n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No, there aren’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9"/>
          <p:cNvSpPr/>
          <p:nvPr/>
        </p:nvSpPr>
        <p:spPr>
          <a:xfrm flipH="1">
            <a:off x="2700000" y="1052640"/>
            <a:ext cx="1800360" cy="86364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0"/>
          <p:cNvSpPr/>
          <p:nvPr/>
        </p:nvSpPr>
        <p:spPr>
          <a:xfrm>
            <a:off x="4500720" y="1052640"/>
            <a:ext cx="1800000" cy="86364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11"/>
          <p:cNvSpPr/>
          <p:nvPr/>
        </p:nvSpPr>
        <p:spPr>
          <a:xfrm flipH="1">
            <a:off x="2626920" y="4221000"/>
            <a:ext cx="1800360" cy="7923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2"/>
          <p:cNvSpPr/>
          <p:nvPr/>
        </p:nvSpPr>
        <p:spPr>
          <a:xfrm>
            <a:off x="4427640" y="4221000"/>
            <a:ext cx="1728720" cy="7923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4000"/>
                            </p:stCondLst>
                            <p:childTnLst>
                              <p:par>
                                <p:cTn id="3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9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6000"/>
                            </p:stCondLst>
                            <p:childTnLst>
                              <p:par>
                                <p:cTn id="3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3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6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8000"/>
                            </p:stCondLst>
                            <p:childTnLst>
                              <p:par>
                                <p:cTn id="3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8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2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5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3429000" y="214200"/>
            <a:ext cx="25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Ask the questions</a:t>
            </a: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1530720" y="5516640"/>
            <a:ext cx="68713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s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there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… in the room?    -    Yes, there is. / No, there isn’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re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there …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in the room?    -  Yes, there are. / No, there aren’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Рисунок 4" descr="комната 2.bmp"/>
          <p:cNvPicPr/>
          <p:nvPr/>
        </p:nvPicPr>
        <p:blipFill>
          <a:blip r:embed="rId1"/>
          <a:stretch/>
        </p:blipFill>
        <p:spPr>
          <a:xfrm>
            <a:off x="500040" y="642960"/>
            <a:ext cx="828684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7600"/>
                            </p:stCondLst>
                            <p:childTnLst>
                              <p:par>
                                <p:cTn id="38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2771640" y="1484280"/>
            <a:ext cx="57596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here is a … in the ro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here are  …s in the ro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here is no … in the ro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here are no …s in the ro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Is there a … in the roo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re there …s in the room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1476360" y="54936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Times New Roman"/>
              </a:rPr>
              <a:t>What had we learnt on the less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476360" y="155736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547640" y="2852640"/>
            <a:ext cx="3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Times New Roman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1547640" y="422100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3000"/>
                            </p:stCondLst>
                            <p:childTnLst>
                              <p:par>
                                <p:cTn id="4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0"/>
                            </p:stCondLst>
                            <p:childTnLst>
                              <p:par>
                                <p:cTn id="41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6000"/>
                            </p:stCondLst>
                            <p:childTnLst>
                              <p:par>
                                <p:cTn id="4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8000"/>
                            </p:stCondLst>
                            <p:childTnLst>
                              <p:par>
                                <p:cTn id="43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9000"/>
                            </p:stCondLst>
                            <p:childTnLst>
                              <p:par>
                                <p:cTn id="4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2"/>
          <p:cNvSpPr/>
          <p:nvPr/>
        </p:nvSpPr>
        <p:spPr>
          <a:xfrm>
            <a:off x="571680" y="571680"/>
            <a:ext cx="75722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Сказка про змее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Сегодня мы совершим путешествие в Страну предложений и познакомимся с предложениями, которые начинаются со слов, отвечающих на вопрос где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В английском языке эти предложения начинаются со слов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there is </a:t>
            </a: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или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there are</a:t>
            </a: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Давайте представим себе эти слова в виде двух змеек, которые вползают в предложение. У одной змейки голова -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there </a:t>
            </a: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, а хвост -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is </a:t>
            </a: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. У второй голова -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there </a:t>
            </a: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, а хвост –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are</a:t>
            </a: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Давайте вспомним, что у змеи есть язычок, который она постоянно высовывает. Такой язычок есть и у наших змеек, поэтому, когда мы будем говорить про них, не забывайте высовывать свои язычки. (Повторение звука            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В отрицательных предложениях за змейками бежит частичка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no</a:t>
            </a: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. Эта частичка не любит, чтобы артикли стояли рядом с ней, поэтому она «съедает» артикль «а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Давайте вспомним, что происходит  с формами глагола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to be </a:t>
            </a: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 при постановке вопроса (Они ставятся на первое место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Значит при вопросе змейки будут вползать в предложение вперед хвостиком: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Is there/ Are th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16" descr="Копия рис1 015"/>
          <p:cNvPicPr/>
          <p:nvPr/>
        </p:nvPicPr>
        <p:blipFill>
          <a:blip r:embed="rId1"/>
          <a:stretch/>
        </p:blipFill>
        <p:spPr>
          <a:xfrm>
            <a:off x="1357200" y="4000680"/>
            <a:ext cx="357480" cy="39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1476360" y="1125360"/>
            <a:ext cx="6337440" cy="45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99"/>
                </a:solidFill>
                <a:latin typeface="Times New Roman"/>
              </a:rPr>
              <a:t>Задачи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6600"/>
                </a:solidFill>
                <a:latin typeface="Times New Roman"/>
              </a:rPr>
              <a:t>Познакомить учащихся с употреблением структуры «</a:t>
            </a: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There is / There are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0" lang="ru-RU" sz="3600" spc="-1" strike="noStrike">
                <a:solidFill>
                  <a:srgbClr val="006600"/>
                </a:solidFill>
                <a:latin typeface="Times New Roman"/>
              </a:rPr>
              <a:t> при описании комнаты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6600"/>
                </a:solidFill>
                <a:latin typeface="Times New Roman"/>
              </a:rPr>
              <a:t>Закрепить новую лексику по теме «Мой дом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1258920" y="33336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Для того, чтобы сказать что где-то что-то есть англичане используют оборот </a:t>
            </a:r>
            <a:r>
              <a:rPr b="0" lang="ru-RU" sz="2400" spc="-1" strike="noStrike">
                <a:solidFill>
                  <a:srgbClr val="006600"/>
                </a:solidFill>
                <a:latin typeface="Times New Roman"/>
              </a:rPr>
              <a:t>«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here is / There ar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0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4"/>
          <p:cNvGrpSpPr/>
          <p:nvPr/>
        </p:nvGrpSpPr>
        <p:grpSpPr>
          <a:xfrm>
            <a:off x="1547640" y="1557360"/>
            <a:ext cx="5011560" cy="2020680"/>
            <a:chOff x="1547640" y="1557360"/>
            <a:chExt cx="5011560" cy="2020680"/>
          </a:xfrm>
        </p:grpSpPr>
        <p:grpSp>
          <p:nvGrpSpPr>
            <p:cNvPr id="53" name="Group 8"/>
            <p:cNvGrpSpPr/>
            <p:nvPr/>
          </p:nvGrpSpPr>
          <p:grpSpPr>
            <a:xfrm>
              <a:off x="1547640" y="1557360"/>
              <a:ext cx="5011560" cy="2020680"/>
              <a:chOff x="1547640" y="1557360"/>
              <a:chExt cx="5011560" cy="2020680"/>
            </a:xfrm>
          </p:grpSpPr>
          <p:pic>
            <p:nvPicPr>
              <p:cNvPr id="54" name="Picture 5" descr="Змейка"/>
              <p:cNvPicPr/>
              <p:nvPr/>
            </p:nvPicPr>
            <p:blipFill>
              <a:blip r:embed="rId1"/>
              <a:stretch/>
            </p:blipFill>
            <p:spPr>
              <a:xfrm>
                <a:off x="1547640" y="1557360"/>
                <a:ext cx="5011560" cy="202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Rectangle 7"/>
              <p:cNvSpPr/>
              <p:nvPr/>
            </p:nvSpPr>
            <p:spPr>
              <a:xfrm>
                <a:off x="1806480" y="1984320"/>
                <a:ext cx="72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6600"/>
                    </a:solidFill>
                    <a:latin typeface="Times New Roman"/>
                  </a:rPr>
                  <a:t>The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Rectangle 12"/>
            <p:cNvSpPr/>
            <p:nvPr/>
          </p:nvSpPr>
          <p:spPr>
            <a:xfrm>
              <a:off x="5870520" y="24940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1547640" y="4149720"/>
            <a:ext cx="5011560" cy="2020680"/>
            <a:chOff x="1547640" y="4149720"/>
            <a:chExt cx="5011560" cy="2020680"/>
          </a:xfrm>
        </p:grpSpPr>
        <p:grpSp>
          <p:nvGrpSpPr>
            <p:cNvPr id="58" name="Group 9"/>
            <p:cNvGrpSpPr/>
            <p:nvPr/>
          </p:nvGrpSpPr>
          <p:grpSpPr>
            <a:xfrm>
              <a:off x="1547640" y="4149720"/>
              <a:ext cx="5011560" cy="2020680"/>
              <a:chOff x="1547640" y="4149720"/>
              <a:chExt cx="5011560" cy="2020680"/>
            </a:xfrm>
          </p:grpSpPr>
          <p:pic>
            <p:nvPicPr>
              <p:cNvPr id="59" name="Picture 10" descr="Змейка"/>
              <p:cNvPicPr/>
              <p:nvPr/>
            </p:nvPicPr>
            <p:blipFill>
              <a:blip r:embed="rId2"/>
              <a:stretch/>
            </p:blipFill>
            <p:spPr>
              <a:xfrm>
                <a:off x="1547640" y="4149720"/>
                <a:ext cx="5011560" cy="202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Rectangle 11"/>
              <p:cNvSpPr/>
              <p:nvPr/>
            </p:nvSpPr>
            <p:spPr>
              <a:xfrm>
                <a:off x="1806480" y="4576680"/>
                <a:ext cx="72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6600"/>
                    </a:solidFill>
                    <a:latin typeface="Times New Roman"/>
                  </a:rPr>
                  <a:t>The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Rectangle 13"/>
            <p:cNvSpPr/>
            <p:nvPr/>
          </p:nvSpPr>
          <p:spPr>
            <a:xfrm>
              <a:off x="5725440" y="515808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a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" name="Picture 16" descr="Копия рис1 015"/>
          <p:cNvPicPr/>
          <p:nvPr/>
        </p:nvPicPr>
        <p:blipFill>
          <a:blip r:embed="rId3"/>
          <a:stretch/>
        </p:blipFill>
        <p:spPr>
          <a:xfrm>
            <a:off x="611280" y="3284640"/>
            <a:ext cx="630000" cy="5475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7"/>
          <p:cNvSpPr/>
          <p:nvPr/>
        </p:nvSpPr>
        <p:spPr>
          <a:xfrm>
            <a:off x="6443640" y="328464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Зачем нужны   2 предложени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8"/>
          <p:cNvSpPr/>
          <p:nvPr/>
        </p:nvSpPr>
        <p:spPr>
          <a:xfrm>
            <a:off x="7885080" y="2349360"/>
            <a:ext cx="7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1332000" y="141300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here 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bed in the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1332000" y="227664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here a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r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room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in the ho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332000" y="3645000"/>
            <a:ext cx="72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Если английское предложение начинается со сл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here is / There are</a:t>
            </a: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, на русский язык такое предложение следует переводить с конц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800"/>
                            </p:stCondLst>
                            <p:childTnLst>
                              <p:par>
                                <p:cTn id="5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1187280" y="33336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Вставьте нужный глагол и переведите предлож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116000" y="1557360"/>
            <a:ext cx="518472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here … a kitchen in the ho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here … pens on the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here … flowers on the w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here … a book in the ba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here … four chairs in the living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here … a hall in the fl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2124000" y="155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050920" y="206064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2050920" y="2637000"/>
            <a:ext cx="55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2051640" y="37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2071800" y="4286160"/>
            <a:ext cx="4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2125080" y="314172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5"/>
          <p:cNvSpPr/>
          <p:nvPr/>
        </p:nvSpPr>
        <p:spPr>
          <a:xfrm>
            <a:off x="6300720" y="260280"/>
            <a:ext cx="28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Complete the sentences</a:t>
            </a: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6372360" y="1989000"/>
            <a:ext cx="23763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here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s a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… in the living roo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here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re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…..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in the living roo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Рисунок 4" descr="комната 5.bmp"/>
          <p:cNvPicPr/>
          <p:nvPr/>
        </p:nvPicPr>
        <p:blipFill>
          <a:blip r:embed="rId1"/>
          <a:stretch/>
        </p:blipFill>
        <p:spPr>
          <a:xfrm>
            <a:off x="571680" y="285840"/>
            <a:ext cx="5578200" cy="621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400"/>
                            </p:stCondLst>
                            <p:childTnLst>
                              <p:par>
                                <p:cTn id="14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2556000" y="33336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Отрицательное предложе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1258920" y="1052640"/>
            <a:ext cx="66978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В отрицательных предложениях за змейка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here is / There are</a:t>
            </a:r>
            <a:r>
              <a:rPr b="0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бежит частичка</a:t>
            </a:r>
            <a:r>
              <a:rPr b="0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no</a:t>
            </a: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Эта частичка не любит, чтобы артикли стояли рядом с ней в предложении, поэтому она «съедает» артикль «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1835280" y="4221000"/>
            <a:ext cx="4895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here 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bathroom in his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here a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window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in the pant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10">
            <a:hlinkClick r:id="rId1" action="ppaction://hlinksldjump"/>
          </p:cNvPr>
          <p:cNvSpPr/>
          <p:nvPr/>
        </p:nvSpPr>
        <p:spPr>
          <a:xfrm>
            <a:off x="4932360" y="3213000"/>
            <a:ext cx="719280" cy="360360"/>
          </a:xfrm>
          <a:custGeom>
            <a:avLst/>
            <a:gdLst>
              <a:gd name="textAreaLeft" fmla="*/ 112320 w 719280"/>
              <a:gd name="textAreaRight" fmla="*/ 629640 w 7192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11">
            <a:hlinkClick r:id="rId2" action="ppaction://hlinksldjump"/>
          </p:cNvPr>
          <p:cNvSpPr/>
          <p:nvPr/>
        </p:nvSpPr>
        <p:spPr>
          <a:xfrm>
            <a:off x="4140360" y="6165720"/>
            <a:ext cx="1008000" cy="360360"/>
          </a:xfrm>
          <a:custGeom>
            <a:avLst/>
            <a:gdLst>
              <a:gd name="textAreaLeft" fmla="*/ 157320 w 1008000"/>
              <a:gd name="textAreaRight" fmla="*/ 882000 w 100800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0"/>
                            </p:stCondLst>
                            <p:childTnLst>
                              <p:par>
                                <p:cTn id="1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600"/>
                            </p:stCondLst>
                            <p:childTnLst>
                              <p:par>
                                <p:cTn id="18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7400"/>
                            </p:stCondLst>
                            <p:childTnLst>
                              <p:par>
                                <p:cTn id="19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684360" y="3645000"/>
            <a:ext cx="5011560" cy="2020680"/>
            <a:chOff x="684360" y="3645000"/>
            <a:chExt cx="5011560" cy="2020680"/>
          </a:xfrm>
        </p:grpSpPr>
        <p:grpSp>
          <p:nvGrpSpPr>
            <p:cNvPr id="85" name="Group 3"/>
            <p:cNvGrpSpPr/>
            <p:nvPr/>
          </p:nvGrpSpPr>
          <p:grpSpPr>
            <a:xfrm>
              <a:off x="684360" y="3645000"/>
              <a:ext cx="5011560" cy="2020680"/>
              <a:chOff x="684360" y="3645000"/>
              <a:chExt cx="5011560" cy="2020680"/>
            </a:xfrm>
          </p:grpSpPr>
          <p:pic>
            <p:nvPicPr>
              <p:cNvPr id="86" name="Picture 4" descr="Змейка"/>
              <p:cNvPicPr/>
              <p:nvPr/>
            </p:nvPicPr>
            <p:blipFill>
              <a:blip r:embed="rId1"/>
              <a:stretch/>
            </p:blipFill>
            <p:spPr>
              <a:xfrm>
                <a:off x="684360" y="3645000"/>
                <a:ext cx="5011560" cy="202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" name="Rectangle 5"/>
              <p:cNvSpPr/>
              <p:nvPr/>
            </p:nvSpPr>
            <p:spPr>
              <a:xfrm>
                <a:off x="943200" y="4071960"/>
                <a:ext cx="72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6600"/>
                    </a:solidFill>
                    <a:latin typeface="Times New Roman"/>
                  </a:rPr>
                  <a:t>The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Rectangle 6"/>
            <p:cNvSpPr/>
            <p:nvPr/>
          </p:nvSpPr>
          <p:spPr>
            <a:xfrm>
              <a:off x="5006520" y="45817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Group 7"/>
          <p:cNvGrpSpPr/>
          <p:nvPr/>
        </p:nvGrpSpPr>
        <p:grpSpPr>
          <a:xfrm>
            <a:off x="684360" y="907920"/>
            <a:ext cx="5011560" cy="2020680"/>
            <a:chOff x="684360" y="907920"/>
            <a:chExt cx="5011560" cy="2020680"/>
          </a:xfrm>
        </p:grpSpPr>
        <p:grpSp>
          <p:nvGrpSpPr>
            <p:cNvPr id="90" name="Group 8"/>
            <p:cNvGrpSpPr/>
            <p:nvPr/>
          </p:nvGrpSpPr>
          <p:grpSpPr>
            <a:xfrm>
              <a:off x="684360" y="907920"/>
              <a:ext cx="5011560" cy="2020680"/>
              <a:chOff x="684360" y="907920"/>
              <a:chExt cx="5011560" cy="2020680"/>
            </a:xfrm>
          </p:grpSpPr>
          <p:pic>
            <p:nvPicPr>
              <p:cNvPr id="91" name="Picture 9" descr="Змейка"/>
              <p:cNvPicPr/>
              <p:nvPr/>
            </p:nvPicPr>
            <p:blipFill>
              <a:blip r:embed="rId2"/>
              <a:stretch/>
            </p:blipFill>
            <p:spPr>
              <a:xfrm>
                <a:off x="684360" y="907920"/>
                <a:ext cx="5011560" cy="202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" name="Rectangle 10"/>
              <p:cNvSpPr/>
              <p:nvPr/>
            </p:nvSpPr>
            <p:spPr>
              <a:xfrm>
                <a:off x="943200" y="1334880"/>
                <a:ext cx="72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6600"/>
                    </a:solidFill>
                    <a:latin typeface="Times New Roman"/>
                  </a:rPr>
                  <a:t>The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" name="Rectangle 11"/>
            <p:cNvSpPr/>
            <p:nvPr/>
          </p:nvSpPr>
          <p:spPr>
            <a:xfrm>
              <a:off x="4861800" y="191628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a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Text Box 12"/>
          <p:cNvSpPr/>
          <p:nvPr/>
        </p:nvSpPr>
        <p:spPr>
          <a:xfrm>
            <a:off x="6227640" y="436572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imes New Roman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Group 16"/>
          <p:cNvGrpSpPr/>
          <p:nvPr/>
        </p:nvGrpSpPr>
        <p:grpSpPr>
          <a:xfrm>
            <a:off x="6156360" y="1268280"/>
            <a:ext cx="2290680" cy="1381320"/>
            <a:chOff x="6156360" y="1268280"/>
            <a:chExt cx="2290680" cy="1381320"/>
          </a:xfrm>
        </p:grpSpPr>
        <p:pic>
          <p:nvPicPr>
            <p:cNvPr id="96" name="Picture 14" descr="акула"/>
            <p:cNvPicPr/>
            <p:nvPr/>
          </p:nvPicPr>
          <p:blipFill>
            <a:blip r:embed="rId3"/>
            <a:stretch/>
          </p:blipFill>
          <p:spPr>
            <a:xfrm>
              <a:off x="6156360" y="1268280"/>
              <a:ext cx="2290680" cy="138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Rectangle 15"/>
            <p:cNvSpPr/>
            <p:nvPr/>
          </p:nvSpPr>
          <p:spPr>
            <a:xfrm>
              <a:off x="6731640" y="170028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n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Group 17"/>
          <p:cNvGrpSpPr/>
          <p:nvPr/>
        </p:nvGrpSpPr>
        <p:grpSpPr>
          <a:xfrm>
            <a:off x="6084720" y="4005360"/>
            <a:ext cx="2291040" cy="1380960"/>
            <a:chOff x="6084720" y="4005360"/>
            <a:chExt cx="2291040" cy="1380960"/>
          </a:xfrm>
        </p:grpSpPr>
        <p:pic>
          <p:nvPicPr>
            <p:cNvPr id="99" name="Picture 18" descr="акула"/>
            <p:cNvPicPr/>
            <p:nvPr/>
          </p:nvPicPr>
          <p:blipFill>
            <a:blip r:embed="rId4"/>
            <a:stretch/>
          </p:blipFill>
          <p:spPr>
            <a:xfrm>
              <a:off x="6084720" y="4005360"/>
              <a:ext cx="2291040" cy="13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Rectangle 19"/>
            <p:cNvSpPr/>
            <p:nvPr/>
          </p:nvSpPr>
          <p:spPr>
            <a:xfrm>
              <a:off x="6660720" y="443700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n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AutoShape 20">
            <a:hlinkClick r:id="rId5" action="ppaction://hlinksldjump"/>
          </p:cNvPr>
          <p:cNvSpPr/>
          <p:nvPr/>
        </p:nvSpPr>
        <p:spPr>
          <a:xfrm flipH="1">
            <a:off x="4284720" y="6093000"/>
            <a:ext cx="1079280" cy="431640"/>
          </a:xfrm>
          <a:custGeom>
            <a:avLst/>
            <a:gdLst>
              <a:gd name="textAreaLeft" fmla="*/ 168480 w 1079280"/>
              <a:gd name="textAreaRight" fmla="*/ 944640 w 107928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6000"/>
                            </p:stCondLst>
                            <p:childTnLst>
                              <p:par>
                                <p:cTn id="214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1403280" y="981000"/>
            <a:ext cx="504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6372360" y="404640"/>
            <a:ext cx="244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Complete the sentences</a:t>
            </a: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6516720" y="1989000"/>
            <a:ext cx="23032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here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s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no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… in the bedroo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here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re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no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….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in the bedroo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Рисунок 5" descr="комната 3.bmp"/>
          <p:cNvPicPr/>
          <p:nvPr/>
        </p:nvPicPr>
        <p:blipFill>
          <a:blip r:embed="rId1"/>
          <a:stretch/>
        </p:blipFill>
        <p:spPr>
          <a:xfrm>
            <a:off x="357120" y="428760"/>
            <a:ext cx="5975280" cy="585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200"/>
                            </p:stCondLst>
                            <p:childTnLst>
                              <p:par>
                                <p:cTn id="25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23</dc:creator>
  <dc:description/>
  <dc:language>en-US</dc:language>
  <cp:lastModifiedBy>саня</cp:lastModifiedBy>
  <dcterms:modified xsi:type="dcterms:W3CDTF">2014-11-06T14:07:57Z</dcterms:modified>
  <cp:revision>26</cp:revision>
  <dc:subject/>
  <dc:title>PowerPoint Presentation</dc:title>
</cp:coreProperties>
</file>