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376B-2E74-4B0A-B0F6-E6150DA72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C5E0-D9B8-4172-9FA4-DE119D627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AE96-8C88-4775-B5D5-7A8E9932F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B355-615F-4D16-8E93-A070694A1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97655-832D-44B6-813C-3068A8019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AE907-A88B-4FB5-A3E5-171278050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8298E-3551-4D07-8EFA-D8B3731AF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01EC6-079A-4617-80B8-B40FC0576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25897-9D80-427B-AECF-C79F3C3F8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A548E-0F64-4EDD-B435-0715E0191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3657B-7CB5-4676-9D71-6BCE74127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72B7-6C84-485C-9E2C-833EFE422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94A75-324E-4660-A2C2-0FCC033BA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14D10-B665-4D8E-B183-2D303D10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250E7-74A2-419E-9190-7B58B3D1D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7E173-C1B4-4B6D-BAC8-B7A27D5AE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BC5E0-3B0A-4E82-806D-BC7C6D8A3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7F3E-87BE-4847-9F1D-504826B3F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3498-B8DB-4E44-8181-12DA22B05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0973-9E9E-493C-A325-A432FB837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101C-B7F8-4F95-8228-2A7C7B0C7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AD81-8C0E-4AA5-8886-EF4DCAA90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ED9F-3913-4538-B641-9F78EBB9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2AFB-1A8A-4B7C-A655-A6E1CA56D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2E124-CF12-4AB4-BF01-AB47E505707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C3E4C-58B6-4E0B-BC49-59D30D241EA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66"/>
                </a:solidFill>
                <a:latin typeface="Arial"/>
              </a:rPr>
              <a:t>Управление конфликтами в современных условия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Три периода в исследовании конфликт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6"/>
          <p:cNvSpPr/>
          <p:nvPr/>
        </p:nvSpPr>
        <p:spPr>
          <a:xfrm>
            <a:off x="2700360" y="2421000"/>
            <a:ext cx="3168720" cy="213336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9"/>
          <p:cNvSpPr/>
          <p:nvPr/>
        </p:nvSpPr>
        <p:spPr>
          <a:xfrm>
            <a:off x="5796000" y="1628640"/>
            <a:ext cx="3024000" cy="2737080"/>
          </a:xfrm>
          <a:custGeom>
            <a:avLst/>
            <a:gdLst>
              <a:gd name="textAreaLeft" fmla="*/ 690120 w 3024000"/>
              <a:gd name="textAreaRight" fmla="*/ 2333880 w 3024000"/>
              <a:gd name="textAreaTop" fmla="*/ 624600 h 2737080"/>
              <a:gd name="textAreaBottom" fmla="*/ 2112480 h 2737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1"/>
          <p:cNvSpPr/>
          <p:nvPr/>
        </p:nvSpPr>
        <p:spPr>
          <a:xfrm>
            <a:off x="3492360" y="4581360"/>
            <a:ext cx="3024360" cy="1800360"/>
          </a:xfrm>
          <a:custGeom>
            <a:avLst/>
            <a:gdLst>
              <a:gd name="textAreaLeft" fmla="*/ 690480 w 3024360"/>
              <a:gd name="textAreaRight" fmla="*/ 2333880 w 3024360"/>
              <a:gd name="textAreaTop" fmla="*/ 410760 h 1800360"/>
              <a:gd name="textAreaBottom" fmla="*/ 138960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2"/>
          <p:cNvSpPr/>
          <p:nvPr/>
        </p:nvSpPr>
        <p:spPr>
          <a:xfrm>
            <a:off x="3419640" y="314172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30-70-х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4"/>
          <p:cNvSpPr/>
          <p:nvPr/>
        </p:nvSpPr>
        <p:spPr>
          <a:xfrm>
            <a:off x="6443640" y="2492280"/>
            <a:ext cx="18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торая половина 70-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5"/>
          <p:cNvSpPr/>
          <p:nvPr/>
        </p:nvSpPr>
        <p:spPr>
          <a:xfrm>
            <a:off x="4211640" y="50133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рубеже 80-90-х г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291600"/>
            <a:ext cx="8507520" cy="656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        </a:t>
            </a: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КОНФЛИКТ</a:t>
            </a:r>
            <a:r>
              <a:rPr b="0" lang="ru-RU" sz="3600" spc="-1" strike="noStrike">
                <a:solidFill>
                  <a:srgbClr val="ff0066"/>
                </a:solidFill>
                <a:latin typeface="Arial"/>
              </a:rPr>
              <a:t>- </a:t>
            </a:r>
            <a:r>
              <a:rPr b="0" i="1" lang="ru-RU" sz="3600" spc="-1" strike="noStrike">
                <a:solidFill>
                  <a:srgbClr val="ff0066"/>
                </a:solidFill>
                <a:latin typeface="Arial"/>
              </a:rPr>
              <a:t>это</a:t>
            </a:r>
            <a:br>
              <a:rPr sz="3600"/>
            </a:br>
            <a:r>
              <a:rPr b="0" i="1" lang="ru-RU" sz="3600" spc="-1" strike="noStrike">
                <a:solidFill>
                  <a:srgbClr val="ff0066"/>
                </a:solidFill>
                <a:latin typeface="Arial"/>
              </a:rPr>
              <a:t>       осознаваемое</a:t>
            </a:r>
            <a:r>
              <a:rPr b="0" lang="ru-RU" sz="3600" spc="-1" strike="noStrike">
                <a:solidFill>
                  <a:srgbClr val="ff0066"/>
                </a:solidFill>
                <a:latin typeface="Arial"/>
              </a:rPr>
              <a:t> </a:t>
            </a:r>
            <a:br>
              <a:rPr sz="3600"/>
            </a:br>
            <a:r>
              <a:rPr b="0" lang="ru-RU" sz="3600" spc="-1" strike="noStrike">
                <a:solidFill>
                  <a:srgbClr val="ff0066"/>
                </a:solidFill>
                <a:latin typeface="Arial"/>
              </a:rPr>
              <a:t>           </a:t>
            </a:r>
            <a:r>
              <a:rPr b="0" i="1" lang="ru-RU" sz="3600" spc="-1" strike="noStrike">
                <a:solidFill>
                  <a:srgbClr val="ff0066"/>
                </a:solidFill>
                <a:latin typeface="Arial"/>
              </a:rPr>
              <a:t>противоречие, которое                         характеризуется </a:t>
            </a:r>
            <a:br>
              <a:rPr sz="3600"/>
            </a:br>
            <a:r>
              <a:rPr b="0" i="1" lang="ru-RU" sz="3600" spc="-1" strike="noStrike">
                <a:solidFill>
                  <a:srgbClr val="ff0066"/>
                </a:solidFill>
                <a:latin typeface="Arial"/>
              </a:rPr>
              <a:t>           противоборством </a:t>
            </a:r>
            <a:br>
              <a:rPr sz="3600"/>
            </a:br>
            <a:r>
              <a:rPr b="0" i="1" lang="ru-RU" sz="3600" spc="-1" strike="noStrike">
                <a:solidFill>
                  <a:srgbClr val="ff0066"/>
                </a:solidFill>
                <a:latin typeface="Arial"/>
              </a:rPr>
              <a:t>              конфликтующих сторон.</a:t>
            </a: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Arial"/>
              </a:rPr>
              <a:t>По значению для организации конфликты делятся на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68360" y="1700280"/>
            <a:ext cx="3384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структивные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фликт возникает, когда оппоненты не выходят за рамки этических норм, деловых отношений и разумных аргуме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651640" y="1700280"/>
            <a:ext cx="3141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структивные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никает, когда одна из сторон жестоко настаивает на своей позиции и не желает учитывать интересы другой стороны или всей организации в це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768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768" fill="hold"/>
                                        <p:tgtEl>
                                          <p:spTgt spid="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" dur="768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" dur="768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600" spc="-1" strike="noStrike" u="sng">
                <a:solidFill>
                  <a:srgbClr val="663300"/>
                </a:solidFill>
                <a:uFillTx/>
                <a:latin typeface="Arial"/>
              </a:rPr>
              <a:t>Пять уровней конфликтов в организации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Document"/>
          <p:cNvSpPr/>
          <p:nvPr/>
        </p:nvSpPr>
        <p:spPr>
          <a:xfrm>
            <a:off x="2556000" y="4221000"/>
            <a:ext cx="1871640" cy="2241720"/>
          </a:xfrm>
          <a:custGeom>
            <a:avLst/>
            <a:gdLst>
              <a:gd name="textAreaLeft" fmla="*/ 84600 w 1871640"/>
              <a:gd name="textAreaRight" fmla="*/ 1787040 w 1871640"/>
              <a:gd name="textAreaTop" fmla="*/ 84600 h 2241720"/>
              <a:gd name="textAreaBottom" fmla="*/ 1705320 h 224172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Documents"/>
          <p:cNvSpPr/>
          <p:nvPr/>
        </p:nvSpPr>
        <p:spPr>
          <a:xfrm>
            <a:off x="6659640" y="260280"/>
            <a:ext cx="2073240" cy="2521080"/>
          </a:xfrm>
          <a:custGeom>
            <a:avLst/>
            <a:gdLst>
              <a:gd name="textAreaLeft" fmla="*/ 157680 w 2073240"/>
              <a:gd name="textAreaRight" fmla="*/ 1585800 w 2073240"/>
              <a:gd name="textAreaTop" fmla="*/ 486720 h 2521080"/>
              <a:gd name="textAreaBottom" fmla="*/ 2021040 h 252108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7020000" y="4149720"/>
            <a:ext cx="1873080" cy="2168640"/>
          </a:xfrm>
          <a:custGeom>
            <a:avLst/>
            <a:gdLst>
              <a:gd name="textAreaLeft" fmla="*/ 84600 w 1873080"/>
              <a:gd name="textAreaRight" fmla="*/ 1788480 w 1873080"/>
              <a:gd name="textAreaTop" fmla="*/ 82080 h 2168640"/>
              <a:gd name="textAreaBottom" fmla="*/ 1649520 h 216864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4932360" y="4221000"/>
            <a:ext cx="1727280" cy="2241720"/>
          </a:xfrm>
          <a:custGeom>
            <a:avLst/>
            <a:gdLst>
              <a:gd name="textAreaLeft" fmla="*/ 78120 w 1727280"/>
              <a:gd name="textAreaRight" fmla="*/ 1649160 w 1727280"/>
              <a:gd name="textAreaTop" fmla="*/ 84600 h 2241720"/>
              <a:gd name="textAreaBottom" fmla="*/ 1705320 h 224172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Document"/>
          <p:cNvSpPr/>
          <p:nvPr/>
        </p:nvSpPr>
        <p:spPr>
          <a:xfrm>
            <a:off x="2771640" y="404640"/>
            <a:ext cx="2232000" cy="2170440"/>
          </a:xfrm>
          <a:custGeom>
            <a:avLst/>
            <a:gdLst>
              <a:gd name="textAreaLeft" fmla="*/ 100800 w 2232000"/>
              <a:gd name="textAreaRight" fmla="*/ 2131200 w 2232000"/>
              <a:gd name="textAreaTop" fmla="*/ 82080 h 2170440"/>
              <a:gd name="textAreaBottom" fmla="*/ 1650960 h 217044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2916360" y="765000"/>
            <a:ext cx="201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жличност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6804000" y="692280"/>
            <a:ext cx="151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утриличност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9"/>
          <p:cNvSpPr/>
          <p:nvPr/>
        </p:nvSpPr>
        <p:spPr>
          <a:xfrm>
            <a:off x="2627280" y="4508640"/>
            <a:ext cx="180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утри груп  пов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0"/>
          <p:cNvSpPr/>
          <p:nvPr/>
        </p:nvSpPr>
        <p:spPr>
          <a:xfrm>
            <a:off x="5076720" y="4437000"/>
            <a:ext cx="151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ж  груп пов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1"/>
          <p:cNvSpPr/>
          <p:nvPr/>
        </p:nvSpPr>
        <p:spPr>
          <a:xfrm>
            <a:off x="7093080" y="4292640"/>
            <a:ext cx="1726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утри организацион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AutoShape 7"/>
          <p:cNvSpPr/>
          <p:nvPr/>
        </p:nvSpPr>
        <p:spPr>
          <a:xfrm>
            <a:off x="2627280" y="1125360"/>
            <a:ext cx="6265800" cy="3167280"/>
          </a:xfrm>
          <a:prstGeom prst="horizontalScroll">
            <a:avLst>
              <a:gd name="adj" fmla="val 125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КЛАССИФИКАЦИЯ ПРИЧИ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КОНФЛИКТОВ ПО 5 ОСНОВАН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2268360" y="5418000"/>
            <a:ext cx="2124360" cy="1440000"/>
          </a:xfrm>
          <a:prstGeom prst="bevel">
            <a:avLst>
              <a:gd name="adj" fmla="val 12500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НФОРМ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1"/>
          <p:cNvSpPr/>
          <p:nvPr/>
        </p:nvSpPr>
        <p:spPr>
          <a:xfrm>
            <a:off x="4643280" y="4724280"/>
            <a:ext cx="2303640" cy="1368720"/>
          </a:xfrm>
          <a:prstGeom prst="bevel">
            <a:avLst>
              <a:gd name="adj" fmla="val 12500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ТРУК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3"/>
          <p:cNvSpPr/>
          <p:nvPr/>
        </p:nvSpPr>
        <p:spPr>
          <a:xfrm>
            <a:off x="6983280" y="5373720"/>
            <a:ext cx="2160720" cy="1368360"/>
          </a:xfrm>
          <a:prstGeom prst="bevel">
            <a:avLst>
              <a:gd name="adj" fmla="val 12500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Ц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5"/>
          <p:cNvSpPr/>
          <p:nvPr/>
        </p:nvSpPr>
        <p:spPr>
          <a:xfrm>
            <a:off x="2268360" y="0"/>
            <a:ext cx="2017800" cy="1152360"/>
          </a:xfrm>
          <a:prstGeom prst="bevel">
            <a:avLst>
              <a:gd name="adj" fmla="val 12500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ТНО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6"/>
          <p:cNvSpPr/>
          <p:nvPr/>
        </p:nvSpPr>
        <p:spPr>
          <a:xfrm>
            <a:off x="6156360" y="0"/>
            <a:ext cx="2521080" cy="1079640"/>
          </a:xfrm>
          <a:prstGeom prst="bevel">
            <a:avLst>
              <a:gd name="adj" fmla="val 12500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ВЕ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1"/>
          <p:cNvCxnSpPr>
            <a:stCxn id="114" idx="0"/>
            <a:endCxn id="112" idx="2"/>
          </p:cNvCxnSpPr>
          <p:nvPr/>
        </p:nvCxnSpPr>
        <p:spPr>
          <a:xfrm flipH="1" flipV="1">
            <a:off x="5760360" y="3896640"/>
            <a:ext cx="35640" cy="827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AutoShape 22"/>
          <p:cNvCxnSpPr>
            <a:stCxn id="115" idx="0"/>
            <a:endCxn id="112" idx="2"/>
          </p:cNvCxnSpPr>
          <p:nvPr/>
        </p:nvCxnSpPr>
        <p:spPr>
          <a:xfrm flipH="1" flipV="1">
            <a:off x="5760720" y="3896640"/>
            <a:ext cx="2304000" cy="1477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0" name="AutoShape 23"/>
          <p:cNvCxnSpPr>
            <a:stCxn id="112" idx="0"/>
            <a:endCxn id="116" idx="0"/>
          </p:cNvCxnSpPr>
          <p:nvPr/>
        </p:nvCxnSpPr>
        <p:spPr>
          <a:xfrm flipH="1" flipV="1">
            <a:off x="4285440" y="576000"/>
            <a:ext cx="1475640" cy="945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1" name="AutoShape 24"/>
          <p:cNvCxnSpPr>
            <a:stCxn id="112" idx="0"/>
            <a:endCxn id="117" idx="0"/>
          </p:cNvCxnSpPr>
          <p:nvPr/>
        </p:nvCxnSpPr>
        <p:spPr>
          <a:xfrm flipV="1">
            <a:off x="5760720" y="1079280"/>
            <a:ext cx="1656360" cy="442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2" name="AutoShape 25"/>
          <p:cNvCxnSpPr>
            <a:stCxn id="112" idx="2"/>
            <a:endCxn id="113" idx="0"/>
          </p:cNvCxnSpPr>
          <p:nvPr/>
        </p:nvCxnSpPr>
        <p:spPr>
          <a:xfrm flipH="1">
            <a:off x="3330000" y="3897360"/>
            <a:ext cx="2431080" cy="1521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c0039"/>
                </a:solidFill>
                <a:latin typeface="Arial Narrow"/>
              </a:rPr>
              <a:t>Способы разрешения конфликтных ситуаций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66"/>
                </a:solidFill>
                <a:uFillTx/>
                <a:latin typeface="Monotype Corsiva"/>
              </a:rPr>
              <a:t>Управление конфликтами-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енаправленное воздействие по устранению (минимизации) причин, породивших конфликт, или на коррекцию поведения участников конфликта и обеспечивающее решение социально значимых зада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66"/>
                </a:solidFill>
                <a:uFillTx/>
                <a:latin typeface="Forte"/>
              </a:rPr>
              <a:t>Управление конфликтами включает в себя</a:t>
            </a:r>
            <a:r>
              <a:rPr b="1" lang="ru-RU" sz="2400" spc="-1" strike="noStrike" u="sng">
                <a:solidFill>
                  <a:srgbClr val="ff0066"/>
                </a:solidFill>
                <a:uFillTx/>
                <a:latin typeface="Forte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гнозиров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фликта; предупреждение одних и вместе с тем стимулирование других; прекращение и подавление конфликта; регулирование и разрешение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755640" y="5516640"/>
            <a:ext cx="144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5292720" y="5516640"/>
            <a:ext cx="151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768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" dur="768" fill="hold"/>
                                        <p:tgtEl>
                                          <p:spTgt spid="1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" dur="768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1" dur="768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cc33"/>
                </a:solidFill>
                <a:latin typeface="Arial"/>
              </a:rPr>
              <a:t>Профилактика конфликтов в организации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411280" y="191628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Профилактика конфликта - это создание объективных условий и субъективных предпосылок, способствующих разрешению предконфликтных ситуаций неконфликтными способ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0066"/>
                </a:solidFill>
                <a:latin typeface="Arial"/>
              </a:rPr>
              <a:t>Методы управления конфликтами делятся на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916360" y="22050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5"/>
          <p:cNvSpPr/>
          <p:nvPr/>
        </p:nvSpPr>
        <p:spPr>
          <a:xfrm>
            <a:off x="2700360" y="3500280"/>
            <a:ext cx="3240000" cy="1368720"/>
          </a:xfrm>
          <a:prstGeom prst="ellipse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6"/>
          <p:cNvSpPr/>
          <p:nvPr/>
        </p:nvSpPr>
        <p:spPr>
          <a:xfrm>
            <a:off x="5975280" y="3500280"/>
            <a:ext cx="3168720" cy="1297080"/>
          </a:xfrm>
          <a:prstGeom prst="ellipse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3276720" y="400536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гатив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6588000" y="393372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зити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9"/>
          <p:cNvSpPr/>
          <p:nvPr/>
        </p:nvSpPr>
        <p:spPr>
          <a:xfrm flipH="1">
            <a:off x="4284720" y="2708280"/>
            <a:ext cx="1008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0"/>
          <p:cNvSpPr/>
          <p:nvPr/>
        </p:nvSpPr>
        <p:spPr>
          <a:xfrm>
            <a:off x="6804000" y="2708280"/>
            <a:ext cx="720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14:03:16Z</dcterms:created>
  <dc:creator>Екатерина</dc:creator>
  <dc:description/>
  <dc:language>en-US</dc:language>
  <cp:lastModifiedBy>Юлия Федорова</cp:lastModifiedBy>
  <dcterms:modified xsi:type="dcterms:W3CDTF">2014-11-09T13:21:33Z</dcterms:modified>
  <cp:revision>11</cp:revision>
  <dc:subject/>
  <dc:title>Слайд 1</dc:title>
</cp:coreProperties>
</file>