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BAC-5782-4600-8F22-A260EA1E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BD9-D50D-4F4D-9C7B-B8320016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39199-5455-4710-A33A-E1645E74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EA05E-39A2-49FA-9083-EEA8C48B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4BF14-5ED5-4155-B7D2-9DC769D9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D952F-C63F-426F-B1EC-0F6C1776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81C38-AABD-43BB-A6B0-8C870565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B08C2-1271-48B5-A32B-5B3F6AE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72B02-1BB9-45C9-9544-675F146D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9697A-4194-49D3-97C1-B45F0B54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A831C-222C-4B50-ACED-D6B2B407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F48-0C06-48EB-AFFC-A2A8F7AB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778-0856-4F05-ACF4-43A4BBBC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D621-D5CD-4213-9071-25DCB669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ACF8-960A-4074-97D5-5E051B05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B14C-4A2E-48EC-923F-813939D5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83D2-69F3-46A5-9AFC-323E0144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B142-E675-4767-A966-A236D50B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CFCA-7AAD-426D-A750-8B5B3040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F63E-BBBF-4C0D-B94A-3A68FDB1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F3D-F18A-4ADC-94B4-3776FB51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2FBC-9BB5-4AC8-81AA-21C84705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4FDE-0027-40C4-9DEE-A4B0CE85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CD14-5846-4CEE-95CD-63BB47B1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ADFB-8EE9-4139-8FD0-A01FE900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44A5-0CBD-4D09-9A7F-BE69D3F6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E261-64D6-4645-A04B-9DFA72AB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9086-D349-4ED0-AF93-3F5BE86F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40367-BE53-4587-8301-926DC28A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E163-9044-401A-BF9C-181E6A40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39C3E-C2C0-4090-87A3-450BCC6B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697-6D83-4A92-B892-44932707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BAFA-2097-4B73-BE5B-3A897EE1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30156-0EE0-46FD-944A-3F2881C8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2EE0-2D10-46D1-BDD2-B3A32FC6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A93F-1FBB-429E-AB8D-EAD8D8B5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76CC-EF12-4DD2-8A20-8D636227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4B55F-6FDB-47FD-B253-3FD3AF34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6FB7-B57D-4B45-9EC4-0D8478A7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3A6C-7537-4BA9-82F7-7E01F415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8C1CA-2E29-4F3C-9B07-A94AE743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B5E30-F499-4A5E-A68B-0909E13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DE0-CA8B-4186-B890-C746B7F5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DAC2D-2588-455F-A909-53EB168A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DB44E-F8C7-4426-9331-CD523362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B287-D37F-419F-A08E-696B9B8A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49D0-B0AD-423F-86F1-BC3CFAC0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0396-1A56-4784-B47A-82AB2AC9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F6CA-E140-4C6A-BA29-CAD4E2AA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C88A-F776-48B6-A27A-98D2B2D6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01128-F786-4DB8-9118-562D42BC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7520D-8F9B-4691-BA36-1D4A29F9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C71FD-B9B3-4C7B-B774-F1F767A1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471-D4F9-4BD9-AC62-DA8A654B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2D741-12D9-44ED-A817-55EBA7AB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A4163-701D-4117-94BA-62D53CB7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06678-5124-4A78-A9E6-4E339744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5E802-E62B-483D-99AD-F1AAA1F4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DBBFE-7572-414E-B09D-78AF22E8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5337D-E2EE-41C7-8D35-05D3419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EC7AF-4CAE-4ABB-B9DB-811AC6B2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90A49-4798-4042-8995-D4EDE747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F154B-E340-4232-A508-95E1D4FF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73660-3AF8-41BF-93E6-31D52B9D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4F2-B0C2-415B-831C-E200F3B6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7C7D2-C561-4290-9EB9-EC2628B6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6EB7-550F-4D30-B4A4-65571B63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6FBD4-EF16-45F3-9D01-2C631F23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940CB-B74D-4F40-A5EA-D229FC0C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4F50D-B389-4C87-9372-7EE80267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B6FA8-8F7B-483E-AB8C-09146793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57E03-F2C3-4C29-B821-2F5C0E5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ED1BB-3172-4053-A661-18429AEB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70B69-0BB0-4811-AAB0-3FE559E9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7302B-753B-4ACB-BBE7-82C1AA02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0A5-D0E5-43FD-B859-1092978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9B061-F844-42F4-B8D8-C40C9A12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D06A0-9418-45BA-8DDD-D86BE1EE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2790-DFF9-4B5B-9022-E80FD36D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47466-16DA-499F-9F68-B238AC92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D9D7-1B61-44E8-8F54-9B946782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55F2E-3A30-4012-BB42-659682EF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CDB34-C248-48CE-98DC-2F480DBD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F416B-283E-4FEA-A17F-2F80EC04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E4EC1-A10D-4601-B71E-5C621E6C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0E076-0FED-4A65-ABC4-63853B8E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B71-53A1-426C-923C-B345F123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71281-72A4-4F1B-AB0C-4739C117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F159A-0172-46F9-B9E3-9E56186F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F6408-4EE0-41BC-8E5A-B3400D7D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C4F33-4B46-498E-A65F-BDE969E7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3A8EC-E78D-4785-9090-B76B5180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2FAD1-D6DA-4AF1-96E3-2814B2D3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96EAA-853C-436C-B4F1-61C329C0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73F34-DF64-4224-8EE8-18D21986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B4E60-E7A1-443C-9444-452E41BB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3D976-9AA9-4A28-A771-BFBF84BF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023-D0AE-429D-AEB0-D164E3AF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E6B03-8DFF-4284-8635-638B94CE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ADF72-54D4-401F-8731-B0B50C7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E393-4C88-4ED0-A964-36F3D94F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928C2-1AAF-4041-8AAE-214D6B5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08B24-B10D-42A4-8562-11E06806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B1C3A-9CE1-4E4F-8D19-9CBC41DB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924AF-DDA0-47E4-8F5D-7AFDC087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0B31C-CC13-4D5C-BD1B-3DB19C74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D427D-3E7E-4C58-9737-36C892DA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00CE1-BBBE-4A22-820D-5A5E20C4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2978-D97C-4A9D-A600-320CC925542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448E-18F1-47CA-9578-057E7A8B38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6FB5-5790-438C-8AA2-F1840C21C5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AFC0-A322-43F5-8214-FF0EDB00A7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A431-BECF-4952-B093-20C0EA114D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62A3-CB36-4B34-95CC-E0E551B8D6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0507-2F40-4A2D-A520-21A1C01D04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760B-C5F0-4538-B81B-DEA93CDD0A9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F0F9-CEA2-421D-AA51-1F99345AA7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81160" y="2639880"/>
            <a:ext cx="8466120" cy="29498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13840" y="50004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Животные и среда их обита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Питание животны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304920" y="1554120"/>
          <a:ext cx="8553240" cy="3200400"/>
        </p:xfrm>
        <a:graphic>
          <a:graphicData uri="http://schemas.openxmlformats.org/drawingml/2006/table">
            <a:tbl>
              <a:tblPr/>
              <a:tblGrid>
                <a:gridCol w="1447560"/>
                <a:gridCol w="2890800"/>
                <a:gridCol w="2786400"/>
                <a:gridCol w="142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Чего я хоч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Почему это – проблем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Как этого достич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В чем проблем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Что для этого необходим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Что её вызвал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304920" y="1554120"/>
          <a:ext cx="8686800" cy="496260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С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С друг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Групп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1. Подумаю с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1.Подумаю с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1. Распределим ро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2.Поищу информац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2.Поделюсь с друг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2.Подумаю с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3.Отвечу на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3.Поищем информац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3.Поделюсь с групп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4.Подготовлю отв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4.Ответим на вопро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4.Поищем недостающую информац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5.Найдем главн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5.Поделимся друг с другом, найдем важн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6. Подготовим отв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6.Найдем форму представления отв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7.Оформим отв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298440" y="384120"/>
            <a:ext cx="8699400" cy="11397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c0000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Вспомню вопрос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Что я знаю об этом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Какие суждения могу высказать по этому поводу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Какие выводы и умозаключения я могу сделать из того, что мне уже известно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buClr>
                <a:srgbClr val="c00000"/>
              </a:buClr>
              <a:buSzPct val="70000"/>
              <a:buFont typeface="Franklin Gothic 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Подберу литературу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buClr>
                <a:srgbClr val="c00000"/>
              </a:buClr>
              <a:buSzPct val="70000"/>
              <a:buFont typeface="Franklin Gothic 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Прочитаю, пользуясь инсертом (чтение с пометочками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buClr>
                <a:srgbClr val="c00000"/>
              </a:buClr>
              <a:buSzPct val="70000"/>
              <a:buFont typeface="Franklin Gothic 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Запишу в таблицу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buClr>
                <a:srgbClr val="c00000"/>
              </a:buClr>
              <a:buSzPct val="70000"/>
              <a:buFont typeface="Franklin Gothic 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57120" y="5137200"/>
          <a:ext cx="8572680" cy="1006560"/>
        </p:xfrm>
        <a:graphic>
          <a:graphicData uri="http://schemas.openxmlformats.org/drawingml/2006/table">
            <a:tbl>
              <a:tblPr/>
              <a:tblGrid>
                <a:gridCol w="1214640"/>
                <a:gridCol w="1714320"/>
                <a:gridCol w="1714680"/>
                <a:gridCol w="2214360"/>
                <a:gridCol w="171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Зна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Очень интерес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Доказа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Завис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Franklin Gothic Book"/>
              </a:rPr>
              <a:t>Таблиц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Franklin Gothic Book"/>
              </a:rPr>
              <a:t>Доклад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Franklin Gothic Book"/>
              </a:rPr>
              <a:t>Кластер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Franklin Gothic Book"/>
              </a:rPr>
              <a:t>Коллаж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Franklin Gothic Book"/>
              </a:rPr>
              <a:t>Кластер-коллаж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Franklin Gothic Book"/>
              </a:rPr>
              <a:t>Стендовый доклад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Franklin Gothic Book"/>
              </a:rPr>
              <a:t>Проект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Franklin Gothic Book"/>
              </a:rPr>
              <a:t>Газет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Franklin Gothic Book"/>
              </a:rPr>
              <a:t>Макеты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Franklin Gothic Book"/>
              </a:rPr>
              <a:t>Схемы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дать определения основным понятиям, используемым в исследовании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  </a:t>
            </a:r>
            <a:r>
              <a:rPr b="1" lang="ru-RU" sz="2500" spc="-1" strike="noStrike">
                <a:solidFill>
                  <a:srgbClr val="c87d0e"/>
                </a:solidFill>
                <a:latin typeface="Franklin Gothic Book"/>
              </a:rPr>
              <a:t>выявить и обозначить все замеченные закономерности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ранжировать основные идеи исследования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87d0e"/>
                </a:solidFill>
                <a:latin typeface="Franklin Gothic Book"/>
              </a:rPr>
              <a:t> </a:t>
            </a:r>
            <a:r>
              <a:rPr b="1" lang="ru-RU" sz="2500" spc="-1" strike="noStrike">
                <a:solidFill>
                  <a:srgbClr val="c87d0e"/>
                </a:solidFill>
                <a:latin typeface="Franklin Gothic Book"/>
              </a:rPr>
              <a:t>предложить сравнения 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выработать суждения и умозаключения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2500" spc="-1" strike="noStrike">
                <a:solidFill>
                  <a:srgbClr val="c87d0e"/>
                </a:solidFill>
                <a:latin typeface="Franklin Gothic Book"/>
              </a:rPr>
              <a:t>сделать выводы по результатам исследования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указать возможные пути дальнейшего изучения объектов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2500" spc="-1" strike="noStrike">
                <a:solidFill>
                  <a:srgbClr val="c87d0e"/>
                </a:solidFill>
                <a:latin typeface="Franklin Gothic Book"/>
              </a:rPr>
              <a:t>подготовить текст выступления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Franklin Gothic Book"/>
              </a:rPr>
              <a:t>подготовиться к ответам на вопросы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почему избрана эта тем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какой была цель исследования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какие ставились задачи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какие гипотезы проверялись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каким был план исследования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какие результаты были получены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какие выводы сделаны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Franklin Gothic Book"/>
              </a:rPr>
              <a:t>что можно исследовать в дальнейшем в этом направлен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41" dur="indefinite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2" dur="indefinite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47" dur="indefinite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8" dur="indefinite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indefinite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3" dur="indefinite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54" dur="indefinite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9" dur="indefinite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0" dur="indefinite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indefinite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5" dur="indefinite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6" dur="indefinite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indefinite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1" dur="indefinite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2" dur="indefinite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indefinite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7" dur="indefinite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8" dur="indefinite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indefinite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3" dur="indefinite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4" dur="indefinite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Животные-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организмы, составляющие часть органического мир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реда обитания-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это часть природы, окружающая живые организмы и оказывающая на них воздейств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итание животных-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поступление в организм и усвоение  веществ, необходимых для жизни и движения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"/>
          <p:cNvGraphicFramePr/>
          <p:nvPr/>
        </p:nvGraphicFramePr>
        <p:xfrm>
          <a:off x="457200" y="1143000"/>
          <a:ext cx="8400960" cy="5116680"/>
        </p:xfrm>
        <a:graphic>
          <a:graphicData uri="http://schemas.openxmlformats.org/drawingml/2006/table">
            <a:tbl>
              <a:tblPr/>
              <a:tblGrid>
                <a:gridCol w="4200480"/>
                <a:gridCol w="4200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 молодец ,потому ч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не запомнилось в рабо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бота по с литературой , я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точнял,вспоминал,придумыва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ставлял,анализировал,запомина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ля меня было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еобы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ц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нтерес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 следующий раз я постараю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и тру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я оценка собственной работы на уроке (почему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Хочу поблагодар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a010">
                        <a:alpha val="46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ур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дведь       Лес             Ягоды, орехи, корн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лен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еверный      Тундра        Ягель, трав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мея              Пустыня      Мелкие  животн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слик           Степь           Злаки , трав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рбис             Горы            Животные, птиц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405" name="Овал 4"/>
          <p:cNvSpPr/>
          <p:nvPr/>
        </p:nvSpPr>
        <p:spPr>
          <a:xfrm>
            <a:off x="1857240" y="3857760"/>
            <a:ext cx="2000520" cy="2000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Овал 5"/>
          <p:cNvSpPr/>
          <p:nvPr/>
        </p:nvSpPr>
        <p:spPr>
          <a:xfrm>
            <a:off x="3500280" y="1643040"/>
            <a:ext cx="2143440" cy="2000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Среда обитания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Овал 6"/>
          <p:cNvSpPr/>
          <p:nvPr/>
        </p:nvSpPr>
        <p:spPr>
          <a:xfrm>
            <a:off x="5715000" y="3786120"/>
            <a:ext cx="2143080" cy="2000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Питание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Овал 7"/>
          <p:cNvSpPr/>
          <p:nvPr/>
        </p:nvSpPr>
        <p:spPr>
          <a:xfrm>
            <a:off x="3786120" y="3571920"/>
            <a:ext cx="1928880" cy="17143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Тема урок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571680" y="857160"/>
            <a:ext cx="7715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Franklin Gothic Book"/>
              </a:rPr>
              <a:t>Животные и среда их обитания. 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Franklin Gothic Book"/>
              </a:rPr>
              <a:t>Питание животных.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85840" y="4142880"/>
            <a:ext cx="3571920" cy="2079720"/>
          </a:xfrm>
          <a:prstGeom prst="rect">
            <a:avLst/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Животны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Прямоугольник 8"/>
          <p:cNvSpPr/>
          <p:nvPr/>
        </p:nvSpPr>
        <p:spPr>
          <a:xfrm>
            <a:off x="3857760" y="4143240"/>
            <a:ext cx="3571920" cy="2071800"/>
          </a:xfrm>
          <a:prstGeom prst="rect">
            <a:avLst/>
          </a:prstGeom>
          <a:solidFill>
            <a:srgbClr val="c87d0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Среда обитания животных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Прямоугольник 9"/>
          <p:cNvSpPr/>
          <p:nvPr/>
        </p:nvSpPr>
        <p:spPr>
          <a:xfrm>
            <a:off x="285840" y="2143080"/>
            <a:ext cx="3571920" cy="2000160"/>
          </a:xfrm>
          <a:prstGeom prst="rect">
            <a:avLst/>
          </a:prstGeom>
          <a:solidFill>
            <a:srgbClr val="f9daa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Питание животных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Прямоугольник 10"/>
          <p:cNvSpPr/>
          <p:nvPr/>
        </p:nvSpPr>
        <p:spPr>
          <a:xfrm>
            <a:off x="3857760" y="2143080"/>
            <a:ext cx="3571920" cy="2000160"/>
          </a:xfrm>
          <a:prstGeom prst="rect">
            <a:avLst/>
          </a:prstGeom>
          <a:solidFill>
            <a:srgbClr val="85540a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вязь между средой обитания животных и особенностями их питания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76040" y="201600"/>
            <a:ext cx="9041040" cy="3017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560" y="3357360"/>
            <a:ext cx="4190760" cy="29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Вспомни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Узна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Исследова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Установи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истематизирова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Распредели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800240" y="3429000"/>
            <a:ext cx="4343400" cy="30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Найт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Доказа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группирова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Выясни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Объясни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Уточнить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Кто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Как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Где живу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Внешний вид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Чем питаютс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Какие особенности питания? Почему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Как связаны особенности питания и среда обитания животных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"/>
          <p:cNvPicPr/>
          <p:nvPr/>
        </p:nvPicPr>
        <p:blipFill>
          <a:blip r:embed="rId2"/>
          <a:stretch/>
        </p:blipFill>
        <p:spPr>
          <a:xfrm>
            <a:off x="-1006560" y="353880"/>
            <a:ext cx="11655360" cy="651060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7"/>
          <p:cNvSpPr/>
          <p:nvPr/>
        </p:nvSpPr>
        <p:spPr>
          <a:xfrm>
            <a:off x="285840" y="5143680"/>
            <a:ext cx="8501040" cy="13572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Где в жизни могут пригодиться эти знания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Овал 8"/>
          <p:cNvSpPr/>
          <p:nvPr/>
        </p:nvSpPr>
        <p:spPr>
          <a:xfrm>
            <a:off x="1000080" y="4500720"/>
            <a:ext cx="7072200" cy="1143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Кто поможет мне на уроке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Правильный пятиугольник 9"/>
          <p:cNvSpPr/>
          <p:nvPr/>
        </p:nvSpPr>
        <p:spPr>
          <a:xfrm>
            <a:off x="1857240" y="3571920"/>
            <a:ext cx="5500800" cy="928800"/>
          </a:xfrm>
          <a:prstGeom prst="pentagon">
            <a:avLst/>
          </a:prstGeom>
          <a:solidFill>
            <a:srgbClr val="00b0f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Что поможет мне на уроке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Равнобедренный треугольник 10"/>
          <p:cNvSpPr/>
          <p:nvPr/>
        </p:nvSpPr>
        <p:spPr>
          <a:xfrm>
            <a:off x="2214720" y="2571840"/>
            <a:ext cx="4857480" cy="1143000"/>
          </a:xfrm>
          <a:prstGeom prst="triangle">
            <a:avLst>
              <a:gd name="adj" fmla="val 49639"/>
            </a:avLst>
          </a:prstGeom>
          <a:solidFill>
            <a:srgbClr val="99009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Какие знания мне нужны 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Овал 11"/>
          <p:cNvSpPr/>
          <p:nvPr/>
        </p:nvSpPr>
        <p:spPr>
          <a:xfrm>
            <a:off x="3500280" y="1071720"/>
            <a:ext cx="2286000" cy="192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Какие мои умения мне помогут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Содержимое 3" descr=""/>
          <p:cNvPicPr/>
          <p:nvPr/>
        </p:nvPicPr>
        <p:blipFill>
          <a:blip r:embed="rId2"/>
          <a:stretch/>
        </p:blipFill>
        <p:spPr>
          <a:xfrm>
            <a:off x="298440" y="1547640"/>
            <a:ext cx="8699400" cy="4535640"/>
          </a:xfrm>
          <a:prstGeom prst="rect">
            <a:avLst/>
          </a:prstGeom>
          <a:ln w="0">
            <a:noFill/>
          </a:ln>
        </p:spPr>
      </p:pic>
      <p:sp>
        <p:nvSpPr>
          <p:cNvPr id="429" name="Выноска-облако 4"/>
          <p:cNvSpPr/>
          <p:nvPr/>
        </p:nvSpPr>
        <p:spPr>
          <a:xfrm>
            <a:off x="0" y="3571920"/>
            <a:ext cx="2286000" cy="2214360"/>
          </a:xfrm>
          <a:prstGeom prst="cloudCallout">
            <a:avLst>
              <a:gd name="adj1" fmla="val -35648"/>
              <a:gd name="adj2" fmla="val 87731"/>
            </a:avLst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Сам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Выноска-облако 6"/>
          <p:cNvSpPr/>
          <p:nvPr/>
        </p:nvSpPr>
        <p:spPr>
          <a:xfrm>
            <a:off x="2000160" y="2000160"/>
            <a:ext cx="3571920" cy="3357720"/>
          </a:xfrm>
          <a:prstGeom prst="cloudCallout">
            <a:avLst>
              <a:gd name="adj1" fmla="val -33800"/>
              <a:gd name="adj2" fmla="val 80657"/>
            </a:avLst>
          </a:prstGeom>
          <a:solidFill>
            <a:srgbClr val="00b0f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С другом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Выноска-облако 7"/>
          <p:cNvSpPr/>
          <p:nvPr/>
        </p:nvSpPr>
        <p:spPr>
          <a:xfrm>
            <a:off x="3857760" y="1071720"/>
            <a:ext cx="5286240" cy="3714480"/>
          </a:xfrm>
          <a:prstGeom prst="cloudCallout">
            <a:avLst>
              <a:gd name="adj1" fmla="val -29481"/>
              <a:gd name="adj2" fmla="val 112226"/>
            </a:avLst>
          </a:pr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Book"/>
              </a:rPr>
              <a:t>Группой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5:21:18Z</dcterms:created>
  <dc:creator>Admin</dc:creator>
  <dc:description/>
  <dc:language>en-US</dc:language>
  <cp:lastModifiedBy>Admin</cp:lastModifiedBy>
  <dcterms:modified xsi:type="dcterms:W3CDTF">2009-10-19T06:26:50Z</dcterms:modified>
  <cp:revision>6</cp:revision>
  <dc:subject/>
  <dc:title>Урок- исследование(  урок- организации 1 этапа исследования- сбора информации) 2 класс система Л.В. Занк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23000000000001023620</vt:lpwstr>
  </property>
</Properties>
</file>