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DA8-1D6E-4B9A-8394-C89FC957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0AB-899F-43BB-A7B7-BC803461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300-714D-4139-A527-CCD48923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23A-2F12-4D6F-8704-B8C7E7FE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6446-C138-48BD-8382-9304788E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B555-5B62-4465-9736-C6A4972D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3A91-6C12-423B-8E2C-60705E29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D5C5-C168-4343-833B-7FFD1BBC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1EC-77D6-487C-8A9D-FBA2093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72B7-3FF8-4632-9296-CCD7EB4E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BBC7-6851-4366-907D-9CC2C39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DB0-C015-4BB1-9901-142B5B3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DD00-836D-4C09-A92C-50840A02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B4C2-3C9A-4AD9-BBD1-DFE22EF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C70E-5BAF-49D6-85C4-AFB860A4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24B7-D372-462C-944C-6AB3CB82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FDD3-58A1-490E-9BBB-1B99AA08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EFD2-5414-4012-8322-DAFD76CB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DBDF-F32D-4CC9-BA48-7DB26E67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AD7F-0607-402E-990C-7820E01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7087-647C-49DD-B0FC-9105907D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A1D6-D646-4F4F-9D6E-F72F008E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9DC-E90E-47C5-94A3-273991D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DAAFC-615E-4CBA-A9D1-A7AFD17F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EAAE-904B-4554-B350-D9C7D17B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EB33-7036-49CB-9586-4150E919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F213-2407-42A7-B9E9-C1BC1D8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296E-CB7F-413B-9E1C-B8A09DA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1961-DE41-4BBA-BEAC-0570EE06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B1CF-235C-410B-95C6-91914E10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526D-537F-4A6F-96AB-D5DB907F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E7B8-932C-48CA-9DE0-5DC1A78C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A7ED-60D4-40D0-99C1-FDAB6BA2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DB1-BDF4-49A6-8649-CBC6A9F8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E958-AC4E-4A42-8769-F4C98F27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D07C0-31FA-4DA2-B5F0-9741BD85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8512-EDF9-4A67-9725-46CC3F05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B5F3-D291-4282-BB9F-C78DFCF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AA1E-3CB5-4053-91BE-472578A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1206-4955-49E0-996D-5D87F3AF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BBF6-A8CA-4848-ABCF-0185CD1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C7D5-E494-4E88-9BF1-67B76F2D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9532-00A4-4186-8FFC-BAE51801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56A-3B6D-4EC9-A9EE-26992EE2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C36-081E-4CBD-BCE2-A77F77F5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99D-C03A-4BC7-9167-AABE8C8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5D0-13B1-4BB5-818E-81B9C76D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167-E4C8-443E-B9CB-41DA099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C98-2DBF-4B6F-9BC8-AF82B063727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EA35-94E5-4B98-B8F7-5CFA502B004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A33B-1A67-44D8-8DF2-3AE1F5CCC19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6DE6-94C4-448A-ABDD-78D24855074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96720" y="706320"/>
            <a:ext cx="8691840" cy="293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общая история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4094280" y="6019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Сенина Ирин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212760" y="384120"/>
            <a:ext cx="8474040" cy="1384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http://im5-tub-ru.yandex.net/i?id=215308491-08-72&amp;n=21"/>
          <p:cNvPicPr/>
          <p:nvPr/>
        </p:nvPicPr>
        <p:blipFill>
          <a:blip r:embed="rId2"/>
          <a:stretch/>
        </p:blipFill>
        <p:spPr>
          <a:xfrm>
            <a:off x="533520" y="1752480"/>
            <a:ext cx="4190760" cy="34290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7"/>
          <p:cNvSpPr/>
          <p:nvPr/>
        </p:nvSpPr>
        <p:spPr>
          <a:xfrm>
            <a:off x="5181480" y="1676520"/>
            <a:ext cx="32767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ольшая четверка»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СШ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дро Вильс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-министр Великобритани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д Ллойд Джордж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-министр Франции - Жорж Клеманс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-министр Италии – Витторио  Орлан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ы сторо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Ш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ильсо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14 пунктов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 ослабления Германии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кобритания                                              Франц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лойд Джордж                                           Ж. Клеманс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хранение равновесия  сил               (максимальное ослабле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)                                                     Германии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РСАЛЬСКИЙ  ДОГОВОР  28 июня 1919 года.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http://www.sanfranciscosentinel.com/wp-content/uploads/2011/07/paris-1919-4.jpg"/>
          <p:cNvPicPr/>
          <p:nvPr/>
        </p:nvPicPr>
        <p:blipFill>
          <a:blip r:embed="rId1"/>
          <a:stretch/>
        </p:blipFill>
        <p:spPr>
          <a:xfrm>
            <a:off x="533520" y="1981080"/>
            <a:ext cx="6381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ига Наций       1919 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7" descr="http://s3.timetoast.com/public/uploads/photos/3440160/Screen_shot_2013-02-03_at_PM_09.33.25.png?1359898422"/>
          <p:cNvPicPr/>
          <p:nvPr/>
        </p:nvPicPr>
        <p:blipFill>
          <a:blip r:embed="rId1"/>
          <a:stretch/>
        </p:blipFill>
        <p:spPr>
          <a:xfrm>
            <a:off x="4800600" y="22096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6"/>
          <p:cNvSpPr/>
          <p:nvPr/>
        </p:nvSpPr>
        <p:spPr>
          <a:xfrm>
            <a:off x="457200" y="19051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организация, в задачи которой входило обеспечение мира и международной безопас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ловар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82844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АР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tio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),  возмещение побеждённым государством, по вине которого возникла война, убытков, понесённых государством-победите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ЦИИ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воздействия, применяемая к государству, нарушившему свои международные обязательства или нормы международного права  (в международном прав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ЛИТАРИЗАЦИЯ - 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видация военных укреплений и сооружений на определенной территории, а также запрещение держать на этой территории вооруженные силы на основании договора между заинтересованными государствами (в международном праве); разоруж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ференция в Вашингтоне 1921-22гг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ноября 1921- 6 февраля 1922гг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Договор четырех»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я, Франция, США, Япония о неприкосновенности Тихоокеанских владени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Договор девяти»(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Китай, Бельгия, Нидерланды, Португалия о суверенитете Кита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Договор пяти»(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Италия об уменьшении водоизмещения флот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6, вопросы и зад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erbol</cp:lastModifiedBy>
  <dcterms:modified xsi:type="dcterms:W3CDTF">2014-11-09T06:22:41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