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12-A523-487C-8092-44FCECA9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191-1DB8-4295-94CF-92943A7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63A-E4D2-4DB5-B26B-11932547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952-2285-4B69-ABF2-D84BDCB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0182-151E-45FF-A8EC-781FE35C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88FB-85D7-455E-AD85-14165B6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F42A-4970-44FE-A8C8-6845177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8AAF-048C-46FD-A53B-528D5B72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5992-0E0A-4AB4-8B16-E15858E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EBB7-8EF8-4220-91A0-CE9896A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0DE-C961-4407-ACA2-1641808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CA6-E444-4003-8CB6-47C36FB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B0F-CB23-4FFC-8219-B42930A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E00F-6735-4D29-94A9-8984CBB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6779-0629-4CA5-A58D-7B302C5D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8DDF-73CA-41BA-9702-D1A7819F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04F-A4EE-493A-8686-88CA07B8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2784-061C-4099-8EB0-CE530ED7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D414-F40A-4B78-B0AE-AE766985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3011-FEA7-4425-8CD2-2DA823D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EF2E-A582-4E71-BB9B-3667B8C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D9D2-50D4-4D6A-9B54-203A880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756-703D-446B-9F73-9970CC9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9236-860F-41B9-9489-2C15B14F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3361-04CF-45BC-BF4B-148D905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8700-6E3E-4839-B593-BBC09C2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44E1-F59E-4750-8BA6-FC29F7A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95D3-AFB6-4641-90B8-EC10AB9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B0CE-5AF4-4CC3-871D-E698B5F4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DEA2-BBB8-41C1-809B-E275F476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54B1-593C-4E15-8EE6-0F57247B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0D98-089C-40A9-B74F-DAB5646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1703-4316-4C37-A860-9CF91C0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0CF-DC25-4E29-BE74-8EDF1B93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C666-AFB1-4A8D-A12F-C0F092A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5333-32AE-4803-9342-9F5E02F7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6D1E-476C-4837-B862-F9C6327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2A1F-C002-4243-AA90-FF93A73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A5ED-68DA-4D5A-AAC5-8BFDB086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05F8-8725-492E-A058-BDAEDDC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D223-C058-4847-A82C-4CA3E32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C4AB-CF62-45F3-9D38-4718802A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B881-16A2-4680-9A9A-4AC18F01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8B8A-E69C-4778-B20D-81AA6F78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6FA-B118-40AF-9DAF-6C3D8C39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C343-73D9-40B2-B977-A50B66AC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F6EB-ADD9-4670-8B5A-B2D2EDF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BF1A-1996-4180-BD09-CC7FE77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9A91-FF3B-404E-9DF2-BA17B5A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5BBD-4471-402F-9435-3D88C95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2FEA-0CFD-4B30-BD99-8B13F18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457A-63B2-491C-A51D-83BEED4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08C0-26AE-4C89-95D2-E6D2D2A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34C9-ADEA-45D3-83D4-F56EC2DD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AF62-3F3C-414B-BAFF-7BA026D5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2B4-1288-4BC0-AFF0-2467415F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0828-4DA5-4ABA-9DBD-353C0EC4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B6F0-804B-45AD-BEDB-59BEBF3C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CACD-6B9A-4A7A-B11C-B2872323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664B-6A1D-4036-9656-37E4359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1A4C-D14D-44C3-AE38-6899B2B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C3A5F-8968-4305-9674-24918A9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5ADC-4E53-4046-A8B1-CB679A8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56E1-C9FB-4184-AE6F-DEC3559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CB4E-1B0E-45B2-86DE-E0623A7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5BFB-620E-47BE-B1D5-569D485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965-BBD5-4128-9C0F-73A6E00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A01AD-0396-4665-BA63-79D120E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C88E-4566-481B-8904-05425DB1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742A-A013-4132-B857-FECA5BAC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2A1-AA9A-446D-9B71-5C8FDD1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4CE-1B19-4217-A881-A5F8317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C740-1BF4-44D9-82CC-4A57D623B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F03-43AB-4C4A-817D-31B01855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251-B601-46EE-96EE-52DBDC002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5C2-464A-4079-95D1-4971D856EA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9A0-9CA6-49ED-A955-9F85963478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D6E7-C473-4EEB-9E80-738AFFF08C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Showcard Gothic"/>
              </a:rPr>
              <a:t>Yummy, yummy!</a:t>
            </a:r>
            <a:br>
              <a:rPr sz="6000"/>
            </a:br>
            <a:r>
              <a:rPr b="1" lang="en-US" sz="4000" spc="-1" strike="noStrike">
                <a:solidFill>
                  <a:srgbClr val="00cc99"/>
                </a:solidFill>
                <a:latin typeface="Showcard Gothic"/>
              </a:rPr>
              <a:t>Have you got a sweet too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2992680" cy="2133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0" t="0" r="25604" b="7898"/>
          <a:stretch/>
        </p:blipFill>
        <p:spPr>
          <a:xfrm>
            <a:off x="0" y="46483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3124080" y="4695840"/>
            <a:ext cx="3124440" cy="2162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105520" y="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December 5</a:t>
            </a:r>
            <a:r>
              <a:rPr b="1" lang="en-US" sz="3600" spc="-1" strike="noStrike" baseline="30000">
                <a:solidFill>
                  <a:srgbClr val="00cc99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Archies - Sugar, Oh Honey, H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a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, Honey, Hone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my candy box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you got me wanting you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, Sugar, Sug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my lollipo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you got me loving you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just can't believe the loveliness of loving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 just can't believe it's tru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just can't believe the wonder of this feeling to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 just can't believe it's true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a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, Honey, Hone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my lemonad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you got me wanting you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, Sugar, Sug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my chocolate b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you got me loving yo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1410600">
            <a:off x="6705720" y="4191120"/>
            <a:ext cx="1616040" cy="1706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 rot="20221200">
            <a:off x="380880" y="3962520"/>
            <a:ext cx="2359080" cy="2355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 rot="1933800">
            <a:off x="6400440" y="9144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rcRect l="19292" t="0" r="17677" b="11624"/>
          <a:stretch/>
        </p:blipFill>
        <p:spPr>
          <a:xfrm>
            <a:off x="0" y="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rot="20618400">
            <a:off x="838080" y="9907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211574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howcard Gothic"/>
              </a:rPr>
              <a:t>Thank you for your work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75" name="Picture 4" descr="1191269027_c4112"/>
          <p:cNvPicPr/>
          <p:nvPr/>
        </p:nvPicPr>
        <p:blipFill>
          <a:blip r:embed="rId1"/>
          <a:stretch/>
        </p:blipFill>
        <p:spPr>
          <a:xfrm>
            <a:off x="3581280" y="1600200"/>
            <a:ext cx="444816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Showcard Gothic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B ex. 4 a, 4 c p. 6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 rot="334800">
            <a:off x="457200" y="1905120"/>
            <a:ext cx="6553080" cy="43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Good Bye! See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Showcard Gothic"/>
              </a:rPr>
              <a:t>Phonetic exerci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i]           [i:]               [λ]               [æ]                [t∫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       cr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   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ooms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ol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        t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s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              c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ots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       sw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on              s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on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       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           b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er             j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wing g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Showcard Gothic"/>
              </a:rPr>
              <a:t>The questionn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you put sugar in your t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you eat a jar of j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you eat chocolate every 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carrots sw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d you have a lollipop or any other sweets yester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you drink a lot of lemonade, Coke or Peps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you like pastry more than fr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Yes         b)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Showcard Gothic"/>
              </a:rPr>
              <a:t>My resul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’ve got a really sweet too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go to the dentist often? Eat less swee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’ve got a sweet tooth, but I don’t eat TOO many sweet th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I haven’t got a sweet tooth and I don’t like swe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n’t your life boring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ot, apple, cheese, tea, juice, egg, lemon, cola, tomato, milk, bread, fizzy water, orange, ice cream, coffee, lemonade, ham, banana, potato, strawb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2209680"/>
          <a:ext cx="9144000" cy="4235400"/>
        </p:xfrm>
        <a:graphic>
          <a:graphicData uri="http://schemas.openxmlformats.org/drawingml/2006/table">
            <a:tbl>
              <a:tblPr/>
              <a:tblGrid>
                <a:gridCol w="1722600"/>
                <a:gridCol w="2219040"/>
                <a:gridCol w="2200320"/>
                <a:gridCol w="1249560"/>
                <a:gridCol w="17524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R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152280" y="32004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04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320040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w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2767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3200400"/>
            <a:ext cx="1752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zz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auhaus 93"/>
              </a:rPr>
              <a:t>Find the odd  food in each li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mato       potato         o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se       salt              choco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d                          salmo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llip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lo           spoonful    cup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stry       skittles                           sw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s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1828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5105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096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809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19814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Showcard Gothic"/>
              </a:rPr>
              <a:t>Match the English and Russian prove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o bees, no honey; no work, no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ll sugar and h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You can’t eat your cake and hav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oney is sweet but the bee stings (жалит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хочется, и кол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чется съесть, да вредн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 труда не выловишь и рыбку из п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ь из сахара и м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пирог 2 раза не съесть. (В одну реку не войти дважд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2362320"/>
            <a:ext cx="838080" cy="1218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276720"/>
            <a:ext cx="129528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4038480"/>
            <a:ext cx="1218960" cy="99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733920" y="2362320"/>
            <a:ext cx="1143000" cy="2209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Showcard Gothic"/>
              </a:rPr>
              <a:t>               </a:t>
            </a:r>
            <a:r>
              <a:rPr b="0" lang="en-US" sz="3600" spc="-1" strike="noStrike">
                <a:solidFill>
                  <a:srgbClr val="660066"/>
                </a:solidFill>
                <a:latin typeface="Showcard Gothic"/>
              </a:rPr>
              <a:t>Physical minute for ey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ok left, righ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ok up, look dow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ok around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ok at your nos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ok at that ros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lose your eyes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pen, wink and smile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Your eyes are happy ag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новые красивые Анимашки, анимационные картинки Глаза, взгляд, анимированные картинки Глаза, взгляд"/>
          <p:cNvPicPr/>
          <p:nvPr/>
        </p:nvPicPr>
        <p:blipFill>
          <a:blip r:embed="rId1"/>
          <a:stretch/>
        </p:blipFill>
        <p:spPr>
          <a:xfrm>
            <a:off x="7162920" y="3429000"/>
            <a:ext cx="1485720" cy="1981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1E6[1]"/>
          <p:cNvPicPr/>
          <p:nvPr/>
        </p:nvPicPr>
        <p:blipFill>
          <a:blip r:embed="rId2"/>
          <a:stretch/>
        </p:blipFill>
        <p:spPr>
          <a:xfrm>
            <a:off x="2666880" y="1143000"/>
            <a:ext cx="1524240" cy="12654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162920" y="16765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ccff33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tor’s advic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 sweet tooth you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your _____ after you eat sweet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 an _______ after sweet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 more ________and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2209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274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3352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62320" y="3962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04T13:47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