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png" ContentType="image/png"/>
  <Override PartName="/ppt/media/image12.wmf" ContentType="image/x-wmf"/>
  <Override PartName="/ppt/media/image8.png" ContentType="image/png"/>
  <Override PartName="/ppt/media/image11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805C-990D-4C3D-B96B-543A52B5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057C-C238-4165-BE8D-499C4DFD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C380-7048-4E7F-9FF2-A8090AE2E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5B62-622E-4D62-B8EB-F0FA2D64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48C5-DA21-4CB6-B2B0-ADDB839F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D271-4DE8-482E-B6A6-1B1A0C67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21F5-48BC-4AF5-B6BF-CBAB4763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4609-132F-4A51-BF5D-48E01608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93B5-791E-4EDC-9FDA-8192C749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2329-D2B1-4B8F-99A4-7C80274D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DCD5-B775-4100-835F-C07D6643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380F-74F8-416D-B47E-ED82A6D4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94AF-5957-4986-A1BC-7A4E0473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5A2A-9D51-4042-B466-34EC6932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0915-3CFF-4CCA-9195-06E0814E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3379-65F8-484C-A3D6-B030B6EDA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97CD-5057-4D92-A9D5-422CEACB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187C-E3C8-4046-9A0C-75783F67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A621-66C7-4DEA-8067-863CA01E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9E1F-2B71-4747-9DAA-F82F139D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3C17-A4D4-47E8-9A34-10980BE5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2807-BED1-4667-86E5-40F13CC1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70DE-125D-4271-B1EF-A231684C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372D-9A4C-4F6F-879B-F0B576A1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7B4D-4B7C-45C2-AD1E-6D9979438A0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245F-C9EC-421A-8D93-B21ED91CF67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630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Умники и умницы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Прочитай анаграммы. Какая по смыслу подходит к данному значку. Напиши рядом с вопросительным знако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4205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2123640" y="1916280"/>
            <a:ext cx="4241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ИАРГТ 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ЛОТОЗО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АЗГ        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284720" y="2565360"/>
            <a:ext cx="15843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ОЛОТО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211640" y="1916280"/>
            <a:ext cx="1584360" cy="37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ed79ed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АНИТ</a:t>
            </a:r>
            <a:endParaRPr b="1" lang="en-US" sz="2400" spc="1" strike="noStrike">
              <a:ln w="0">
                <a:noFill/>
              </a:ln>
              <a:solidFill>
                <a:srgbClr val="ed79ed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067280" y="3141720"/>
            <a:ext cx="15843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АЗ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Учись решать, стараясь рассуждать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69608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Лягушка встречала гостей. Лиса пришла раньше Медведя. Волк позже Зайца, Медведь раньше Зайца, Слон позже Волка. Кто пришёл раньше всех? Кто был последним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195640" y="5084640"/>
            <a:ext cx="1511280" cy="12384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716360" y="5300640"/>
            <a:ext cx="1623960" cy="10126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7451640" y="5229360"/>
            <a:ext cx="1047960" cy="10936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971640" y="3933720"/>
            <a:ext cx="1008000" cy="835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5651640" y="3645000"/>
            <a:ext cx="1428480" cy="14526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3419640" y="3645000"/>
            <a:ext cx="170964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>
            <a:alphaModFix amt="76000"/>
          </a:blip>
          <a:stretch/>
        </p:blipFill>
        <p:spPr>
          <a:xfrm>
            <a:off x="3780000" y="404640"/>
            <a:ext cx="1481040" cy="12956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5259240"/>
            <a:ext cx="1530360" cy="15987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487520" y="5300640"/>
            <a:ext cx="1500120" cy="1557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2843280" y="5300640"/>
            <a:ext cx="1709640" cy="1557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4572000" y="5141880"/>
            <a:ext cx="2128680" cy="17161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6659640" y="5300640"/>
            <a:ext cx="2266920" cy="14144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39640" y="1916280"/>
            <a:ext cx="358920" cy="3313080"/>
          </a:xfrm>
          <a:prstGeom prst="upArrow">
            <a:avLst>
              <a:gd name="adj1" fmla="val 50000"/>
              <a:gd name="adj2" fmla="val 2307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050920" y="2637000"/>
            <a:ext cx="289080" cy="2663640"/>
          </a:xfrm>
          <a:prstGeom prst="upArrow">
            <a:avLst>
              <a:gd name="adj1" fmla="val 50000"/>
              <a:gd name="adj2" fmla="val 230355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24720" y="4149720"/>
            <a:ext cx="287280" cy="1079640"/>
          </a:xfrm>
          <a:prstGeom prst="upArrow">
            <a:avLst>
              <a:gd name="adj1" fmla="val 50000"/>
              <a:gd name="adj2" fmla="val 93954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64000" y="3429000"/>
            <a:ext cx="287280" cy="1871640"/>
          </a:xfrm>
          <a:prstGeom prst="upArrow">
            <a:avLst>
              <a:gd name="adj1" fmla="val 50000"/>
              <a:gd name="adj2" fmla="val 162876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08720" y="4653000"/>
            <a:ext cx="215640" cy="431640"/>
          </a:xfrm>
          <a:prstGeom prst="upArrow">
            <a:avLst>
              <a:gd name="adj1" fmla="val 50000"/>
              <a:gd name="adj2" fmla="val 5004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9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9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000"/>
                            </p:stCondLst>
                            <p:childTnLst>
                              <p:par>
                                <p:cTn id="5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9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3000"/>
                            </p:stCondLst>
                            <p:childTnLst>
                              <p:par>
                                <p:cTn id="5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9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4000"/>
                            </p:stCondLst>
                            <p:childTnLst>
                              <p:par>
                                <p:cTn id="5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9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33333E-006 L -0.00104 -0.77176 E">
                                      <p:cBhvr>
                                        <p:cTn id="537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3 -0.06111 L -0.00313 -0.63842 E">
                                      <p:cBhvr>
                                        <p:cTn id="540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4000"/>
                            </p:stCondLst>
                            <p:childTnLst>
                              <p:par>
                                <p:cTn id="5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2 -0.12384 L 0.00122 -0.51227 E">
                                      <p:cBhvr>
                                        <p:cTn id="543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6000"/>
                            </p:stCondLst>
                            <p:childTnLst>
                              <p:par>
                                <p:cTn id="5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0.14491 L 3.05556E-006 -0.37593 E">
                                      <p:cBhvr>
                                        <p:cTn id="546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8000"/>
                            </p:stCondLst>
                            <p:childTnLst>
                              <p:par>
                                <p:cTn id="5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48148E-006 L 2.77778E-007 -0.26968 E">
                                      <p:cBhvr>
                                        <p:cTn id="549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1" nodeType="after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09 0.02824 C -0.07812 0.00301 -0.07413 -0.02106 -0.06649 -0.02106 C -0.05764 -0.02106 -0.05451 0.00301 -0.05174 0.02824 C -0.04774 0.05625 -0.04496 0.08426 -0.03507 0.08426 C -0.02621 0.08426 -0.02344 0.05625 -0.01944 0.02824 C -0.01753 0.00301 -0.01979 -0.08819 -0.01094 -0.08819 C -0.00312 -0.08819 0.00677 0.00301 0.0099 0.02824 C 0.01267 0.05625 0.02396 0.18542 0.03281 0.18542 C 0.04149 0.18542 0.04115 0.02824 0.04115 0.02847 C 0.04392 0.00301 0.04705 -0.02106 0.05556 -0.02106 C 0.06441 -0.02106 0.06754 0.00301 0.07031 0.02824 C 0.07431 0.05625 0.07708 0.08426 0.08698 0.08426 C 0.09583 0.08426 0.09861 0.05625 0.10156 0.02824 C 0.10556 0.00301 0.10833 -0.02106 0.11719 -0.02106 C 0.125 -0.02106 0.15781 0.00185 0.16094 0.02709 C 0.16372 0.05509 0.15417 0.08125 0.16302 0.08125 C 0.1717 0.08125 0.24653 0.11343 0.25052 0.08542 E">
                                      <p:cBhvr>
                                        <p:cTn id="552" dur="3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В первых двух корзинах мячей на 27 меньше, чем во всех трёх. Во второй корзине 34 мяча. Сколько мячей в первой корзине, если всего в трёх корзинах 90 мячей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55640" y="2924280"/>
            <a:ext cx="2087640" cy="17287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348000" y="2997360"/>
            <a:ext cx="2087640" cy="17287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5867280" y="3141720"/>
            <a:ext cx="2087640" cy="1728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476360" y="3357720"/>
            <a:ext cx="287280" cy="2872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92360" y="3573360"/>
            <a:ext cx="287280" cy="2872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50920" y="3573360"/>
            <a:ext cx="287640" cy="2872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67280" y="3500280"/>
            <a:ext cx="287280" cy="287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00720" y="3573360"/>
            <a:ext cx="287280" cy="2872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77080" y="3933720"/>
            <a:ext cx="287280" cy="2872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284720" y="3645000"/>
            <a:ext cx="287280" cy="2872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835280" y="3716280"/>
            <a:ext cx="287280" cy="287280"/>
          </a:xfrm>
          <a:prstGeom prst="ellips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63640" y="342900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47640" y="3500280"/>
            <a:ext cx="287640" cy="287640"/>
          </a:xfrm>
          <a:prstGeom prst="ellipse">
            <a:avLst/>
          </a:prstGeom>
          <a:solidFill>
            <a:srgbClr val="d1b9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40360" y="3573360"/>
            <a:ext cx="287280" cy="28728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659640" y="3645000"/>
            <a:ext cx="2872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16720" y="3573360"/>
            <a:ext cx="287280" cy="287280"/>
          </a:xfrm>
          <a:prstGeom prst="ellips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27640" y="378936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88000" y="3716280"/>
            <a:ext cx="287640" cy="287280"/>
          </a:xfrm>
          <a:prstGeom prst="ellipse">
            <a:avLst/>
          </a:prstGeom>
          <a:solidFill>
            <a:srgbClr val="d1b9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77080" y="3716280"/>
            <a:ext cx="287280" cy="28728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93080" y="3789360"/>
            <a:ext cx="2872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3887640" y="1807920"/>
            <a:ext cx="1189080" cy="6805440"/>
          </a:xfrm>
          <a:custGeom>
            <a:avLst/>
            <a:gdLst>
              <a:gd name="textAreaLeft" fmla="*/ 0 w 1189080"/>
              <a:gd name="textAreaRight" fmla="*/ 429480 w 1189080"/>
              <a:gd name="textAreaTop" fmla="*/ 177480 h 6805440"/>
              <a:gd name="textAreaBottom" fmla="*/ 6627960 h 680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635280" y="59500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0 мяч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95640" y="263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 rot="151200">
            <a:off x="-1573920" y="4274640"/>
            <a:ext cx="6402960" cy="605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47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473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08000" y="458136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  27 мень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3000"/>
                            </p:stCondLst>
                            <p:childTnLst>
                              <p:par>
                                <p:cTn id="6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3500"/>
                            </p:stCondLst>
                            <p:childTnLst>
                              <p:par>
                                <p:cTn id="6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2349360"/>
            <a:ext cx="769608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90 – 27 = 63 (м) – в первых двух корзина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3 – 34 = 29 (м) – в первой корзин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8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4000" y="1125360"/>
            <a:ext cx="6870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Молодцы !!!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69608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Comic Sans MS"/>
              </a:rPr>
              <a:t>Желаю творческих успехов !!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916360" y="3573360"/>
            <a:ext cx="4359240" cy="295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2100"/>
                            </p:stCondLst>
                            <p:childTnLst>
                              <p:par>
                                <p:cTn id="71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500"/>
                            </p:stCondLst>
                            <p:childTnLst>
                              <p:par>
                                <p:cTn id="7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7500"/>
                            </p:stCondLst>
                            <p:childTnLst>
                              <p:par>
                                <p:cTn id="7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3" dur="2000" fill="hold"/>
                                        <p:tgtEl>
                                          <p:spTgt spid="25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9500"/>
                            </p:stCondLst>
                            <p:childTnLst>
                              <p:par>
                                <p:cTn id="725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6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7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728" dur="1230" fill="hold"/>
                                        <p:tgtEl>
                                          <p:spTgt spid="250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729" dur="123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73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731" dur="123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73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3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6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737" dur="123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738" dur="123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73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740" dur="123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74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xit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4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5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746" dur="1230" fill="hold"/>
                                        <p:tgtEl>
                                          <p:spTgt spid="248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747" dur="123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74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749" dur="123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75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Р</a:t>
            </a: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а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з</a:t>
            </a: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м</a:t>
            </a:r>
            <a:r>
              <a:rPr b="1" lang="en-US" sz="4400" spc="-1" strike="noStrike">
                <a:solidFill>
                  <a:srgbClr val="ed79ed"/>
                </a:solidFill>
                <a:latin typeface="Comic Sans MS"/>
              </a:rPr>
              <a:t>и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н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к</a:t>
            </a: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6000" y="206064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Отгадай, что это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Он российский и швейцарский, костромской, голландский, степной. Обработав молоко, сделаем его легк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>
            <a:hlinkClick r:id="" action="ppaction://hlinkshowjump?jump=nextslide"/>
          </p:cNvPr>
          <p:cNvSpPr/>
          <p:nvPr/>
        </p:nvSpPr>
        <p:spPr>
          <a:xfrm>
            <a:off x="8604360" y="638172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3794"/>
                </a:moveTo>
                <a:lnTo>
                  <a:pt x="23126" y="10800"/>
                </a:lnTo>
                <a:lnTo>
                  <a:pt x="911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348000" y="3933720"/>
            <a:ext cx="3745080" cy="23749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Этот конь не ест овса. Вместо ног – два колеса. Сядь верхом и мчись на нём, только лучше правь рулё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933640" y="2084400"/>
            <a:ext cx="3200400" cy="31449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191280" cy="39607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3. В огороде у дорожки стоит солнышко на ножке. Только жёлтые лучи у него не горяч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000" y="90792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4. В него воздух надувают и ногой его пинаю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619440" y="2905200"/>
            <a:ext cx="4121280" cy="33940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Тренируем зрительную памят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2195640" cy="3816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835280" y="2852640"/>
            <a:ext cx="2592360" cy="3313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067280" y="1844640"/>
            <a:ext cx="2658960" cy="3384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012000" y="2133720"/>
            <a:ext cx="2663640" cy="3456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Логически – поисковые зад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720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00"/>
                </a:solidFill>
                <a:latin typeface="Comic Sans MS"/>
              </a:rPr>
              <a:t>Раздели квадрат двумя линиями на два треугольника и два четырёх угольни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3280" y="184464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5364000" y="2492280"/>
            <a:ext cx="2016360" cy="194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364000" y="2492280"/>
            <a:ext cx="2016360" cy="19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5940000" y="2492280"/>
            <a:ext cx="863640" cy="19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8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64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9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549360"/>
            <a:ext cx="68706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Расставь любые цифры в кружки так, чтобы стрелка всегда была направлена от кружка с большей цифрой к кружку с меньш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4859280" y="3716280"/>
            <a:ext cx="720720" cy="7207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27640" y="2349360"/>
            <a:ext cx="720720" cy="7207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27280" y="2708280"/>
            <a:ext cx="720720" cy="7207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987640" y="3357360"/>
            <a:ext cx="7308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203640" y="2997000"/>
            <a:ext cx="1295280" cy="136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19640" y="4220640"/>
            <a:ext cx="143964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4932000" y="3068640"/>
            <a:ext cx="144360" cy="649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03640" y="3357720"/>
            <a:ext cx="1224000" cy="172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56000" y="4941720"/>
            <a:ext cx="720720" cy="7207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00360" y="4221000"/>
            <a:ext cx="720720" cy="7207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82800" y="2844720"/>
            <a:ext cx="3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03680" y="2468520"/>
            <a:ext cx="3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890800" y="4340160"/>
            <a:ext cx="3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35680" y="3836880"/>
            <a:ext cx="3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48240" y="5068800"/>
            <a:ext cx="3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0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500"/>
                            </p:stCondLst>
                            <p:childTnLst>
                              <p:par>
                                <p:cTn id="21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5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75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8500"/>
                            </p:stCondLst>
                            <p:childTnLst>
                              <p:par>
                                <p:cTn id="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9000"/>
                            </p:stCondLst>
                            <p:childTnLst>
                              <p:par>
                                <p:cTn id="2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68706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Подбери к каждому существительному из правой колонки соответствующее определение из лево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олодны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люч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ородаты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тройна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солапы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линнонога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Желтороты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сфуфыренны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40360" y="1828800"/>
            <a:ext cx="2441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едвед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тене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ол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авли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Ёж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зё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Цапл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ан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995640" y="3213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20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700"/>
                            </p:stCondLst>
                            <p:childTnLst>
                              <p:par>
                                <p:cTn id="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200"/>
                            </p:stCondLst>
                            <p:childTnLst>
                              <p:par>
                                <p:cTn id="2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700"/>
                            </p:stCondLst>
                            <p:childTnLst>
                              <p:par>
                                <p:cTn id="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2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7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2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7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200"/>
                            </p:stCondLst>
                            <p:childTnLst>
                              <p:par>
                                <p:cTn id="3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77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82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87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92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97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200"/>
                            </p:stCondLst>
                            <p:childTnLst>
                              <p:par>
                                <p:cTn id="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700"/>
                            </p:stCondLst>
                            <p:childTnLst>
                              <p:par>
                                <p:cTn id="3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2593 E">
                                      <p:cBhvr>
                                        <p:cTn id="349" dur="2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209 E">
                                      <p:cBhvr>
                                        <p:cTn id="351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1504 E">
                                      <p:cBhvr>
                                        <p:cTn id="353" dur="2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208 E">
                                      <p:cBhvr>
                                        <p:cTn id="355" dur="2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9953 E">
                                      <p:cBhvr>
                                        <p:cTn id="357" dur="2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5 0.00092 L 0.00278 -0.19213 E">
                                      <p:cBhvr>
                                        <p:cTn id="359" dur="2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6296 E">
                                      <p:cBhvr>
                                        <p:cTn id="361" dur="2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625 E">
                                      <p:cBhvr>
                                        <p:cTn id="363" dur="2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4000"/>
                            </p:stCondLst>
                            <p:childTnLst>
                              <p:par>
                                <p:cTn id="3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3" dur="2000" fill="hold"/>
                                        <p:tgtEl>
                                          <p:spTgt spid="1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6000"/>
                            </p:stCondLst>
                            <p:childTnLst>
                              <p:par>
                                <p:cTn id="3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6.2963E-006 C -0.02396 0.04468 -0.04792 0.08936 -0.02084 0.13334 C 0.00625 0.17732 0.10451 0.24237 0.1625 0.26389 C 0.22048 0.28542 0.29809 0.26389 0.32708 0.26251 C 0.35607 0.26112 0.33489 0.25626 0.33646 0.25556 E">
                                      <p:cBhvr>
                                        <p:cTn id="386" dur="3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07:09:10Z</dcterms:created>
  <dc:creator>Библиотека</dc:creator>
  <dc:description/>
  <dc:language>en-US</dc:language>
  <cp:lastModifiedBy>HOME</cp:lastModifiedBy>
  <dcterms:modified xsi:type="dcterms:W3CDTF">2014-11-07T15:14:40Z</dcterms:modified>
  <cp:revision>2</cp:revision>
  <dc:subject/>
  <dc:title>Юным умникам и умницам</dc:title>
</cp:coreProperties>
</file>