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E24-F623-4DDF-ADFA-F255472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F6C-CED4-404C-BE53-B5AA2A3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B8C-5254-4119-98C1-06935CA8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B22-712E-4C4F-AA60-29FC0C38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1D6-8CA4-4AA9-89B9-5AB9FBD4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1C49-8F73-420E-A254-561BC604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FA1-8585-4A7A-81E9-8A141DD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E3D7-8933-4549-A8CA-6742C7BB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208-1CCC-4BDB-AA40-6A27870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3EED-2736-4157-A439-CBC92AF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563F-0082-4A33-B237-DECAF2D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6B0-F901-4C26-80E4-989ADD2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A1C9-BCBB-4E7B-B935-C349B5E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55A-DA65-4EE1-BBD3-D7C88DEB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1A5A-36D2-4222-A8FF-693EDAA5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8EA3-A821-4804-93E6-601C5B52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76C9-7907-41E7-8F02-06A44176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B28-9EF6-474A-88F2-6ED2DB5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903-8D6A-4400-ADFC-8927510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A35-1F2C-4FFD-B442-E29A2F9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775-3A7F-4332-985F-64DD335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2AD-CD41-4439-9635-6F1D286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D9B-DA3E-48A4-81CD-5ED99C5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BAB-79F0-4564-9F9D-FD2EAE1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2F95-1126-4924-B7BE-949761A22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E264-6C95-4DEC-8AF0-FD5480C0A1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Задачи на концентрацию, сплавы, смеси и разбавле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1280" y="2349000"/>
            <a:ext cx="51134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5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Недостаточно лишь понять задачу, необходимо желание решить её. Без сильного желания решить трудную задачу невозможно, но при наличии такового – возможно. Где есть желание, найдётся путь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>
              <a:lnSpc>
                <a:spcPct val="15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. Пой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0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3780000" cy="4437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14" name="Прямоугольник 6"/>
          <p:cNvSpPr/>
          <p:nvPr/>
        </p:nvSpPr>
        <p:spPr>
          <a:xfrm>
            <a:off x="4143240" y="5715000"/>
            <a:ext cx="50007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одина Т.В.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математики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БОУ  г.Мурманска СОШ № 4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4357800" y="5357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меются два куска сплавов, содержащих </a:t>
            </a:r>
            <a:r>
              <a:rPr b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40%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60%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олова. В каком отношении (по массе) нужно сплавить части этих кусков, чтобы получить сплав с </a:t>
            </a:r>
            <a:r>
              <a:rPr b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45%-м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содержанием олов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779640" y="5300280"/>
            <a:ext cx="165564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826920" y="4797360"/>
                <a:ext cx="30243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5435640" y="4978440"/>
                <a:ext cx="288144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Разные  задачи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(Олимпиадные,ОГЭ, ЕГЭ)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ГЭ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лбе было 200г восьмидесятипроцентног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пи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изор отлил из колбы некоторое количество эт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пирт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затем добавил в нее столько ж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ть шестидесятипроцентны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пир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к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мм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бавил провиз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50г воды добавил провиз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755640" y="3141720"/>
                <a:ext cx="7859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826920" y="3716280"/>
                <a:ext cx="6624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826920" y="4365720"/>
                <a:ext cx="42498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5"/>
              <p:cNvSpPr txBox="1"/>
              <p:nvPr/>
            </p:nvSpPr>
            <p:spPr>
              <a:xfrm>
                <a:off x="826920" y="4941720"/>
                <a:ext cx="35290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6"/>
              <p:cNvSpPr txBox="1"/>
              <p:nvPr/>
            </p:nvSpPr>
            <p:spPr>
              <a:xfrm>
                <a:off x="826920" y="6021360"/>
                <a:ext cx="1368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килограммов воды нуж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арить из 0,5 т целлюлозной масс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щей 85% воды, чтобы полу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ссу с содержанием 75% во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200кг воды выпа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2"/>
              <p:cNvSpPr txBox="1"/>
              <p:nvPr/>
            </p:nvSpPr>
            <p:spPr>
              <a:xfrm>
                <a:off x="539640" y="2565360"/>
                <a:ext cx="230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9"/>
              <p:cNvSpPr txBox="1"/>
              <p:nvPr/>
            </p:nvSpPr>
            <p:spPr>
              <a:xfrm>
                <a:off x="539640" y="3068640"/>
                <a:ext cx="6093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4"/>
              <p:cNvSpPr txBox="1"/>
              <p:nvPr/>
            </p:nvSpPr>
            <p:spPr>
              <a:xfrm>
                <a:off x="539640" y="4365720"/>
                <a:ext cx="1656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6"/>
              <p:cNvSpPr txBox="1"/>
              <p:nvPr/>
            </p:nvSpPr>
            <p:spPr>
              <a:xfrm>
                <a:off x="539640" y="3645000"/>
                <a:ext cx="5973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литров сливок с содержанием жира 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шали с 4 литрами 20%-ых сливок и 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си добавили 1 литр чистой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жирности получилась сме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25,5% жир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24000" y="2708280"/>
                <a:ext cx="799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324000" y="3500280"/>
                <a:ext cx="4895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24000" y="4005360"/>
                <a:ext cx="2016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324000" y="5084640"/>
                <a:ext cx="17269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осуде находится количество сме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ы  с кислотой. Чтобы уменьш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центрацию на 34% ( бы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%, а ст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34)%), в сосуд надо долить 3л воды,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уменьшить ее на 17%, надо дол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л воды. Какова первонач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цент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ислоты в сосу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       -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первоначальная концентрация кислоты равна 68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826920" y="3357720"/>
                <a:ext cx="3745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3"/>
              <p:cNvSpPr txBox="1"/>
              <p:nvPr/>
            </p:nvSpPr>
            <p:spPr>
              <a:xfrm>
                <a:off x="6012000" y="3370320"/>
                <a:ext cx="1944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4"/>
              <p:cNvSpPr txBox="1"/>
              <p:nvPr/>
            </p:nvSpPr>
            <p:spPr>
              <a:xfrm>
                <a:off x="900000" y="4370400"/>
                <a:ext cx="863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борник под ред.Лысенк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тся три сосуда с сахарным сиропом. В первом сосу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тся 4кг сиропа, содержащего 40% сахара, во втором сосу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кг сиропа, содержащего 70% сахара. Если содержимое перв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уда смешать с  содержимым третьего сосуда, то получим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си 35%-ное содержание сахара. Если содержимое втор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уда смешать с содержимым третьего сосуда, то получим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си 55% сахара. Найти массу сахарного сиропа в треть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у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: 3,5 кг – масса сиропа в третьем сосу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5154480" y="4221000"/>
                <a:ext cx="3013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611280" y="5084640"/>
                <a:ext cx="518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611280" y="5445000"/>
                <a:ext cx="12967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3"/>
              <p:cNvSpPr txBox="1"/>
              <p:nvPr/>
            </p:nvSpPr>
            <p:spPr>
              <a:xfrm>
                <a:off x="826920" y="4221000"/>
                <a:ext cx="36738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говец продает орехи двух сортов: одни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9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р.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г, а другие – п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. за кг. Он хоч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ить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50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меси п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7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. за кг. Сколько д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го потребуется орехов каждого сор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2" descr=""/>
          <p:cNvPicPr/>
          <p:nvPr/>
        </p:nvPicPr>
        <p:blipFill>
          <a:blip r:embed="rId1"/>
          <a:stretch/>
        </p:blipFill>
        <p:spPr>
          <a:xfrm>
            <a:off x="0" y="2205000"/>
            <a:ext cx="716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4248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Если вы хотите научиться плавать, то смело входите в воду, а если хотите научиться решать задачи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 решайте их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. Пой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300840"/>
          <p:cNvPicPr/>
          <p:nvPr/>
        </p:nvPicPr>
        <p:blipFill>
          <a:blip r:embed="rId1"/>
          <a:stretch/>
        </p:blipFill>
        <p:spPr>
          <a:xfrm>
            <a:off x="5292720" y="3429000"/>
            <a:ext cx="3672000" cy="3081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Это дело житейское…»</a:t>
            </a:r>
            <a:br>
              <a:rPr sz="40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рлсон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619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говец продает орехи двух сортов: одни п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9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. за кг, а другие – п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6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. за кг. Он хочет получить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0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еси п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7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. за кг. Сколько для этого потребуется орехов каждого сорт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-360" y="2781000"/>
            <a:ext cx="4475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са сплава (смес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чистого вещества в сплаве (смеси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центрация (процентное содержание или массовая доля в хим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са спла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центр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сса чистого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3851280" y="1557360"/>
                <a:ext cx="115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мес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7451640" y="2133720"/>
                <a:ext cx="136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☺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2700360" y="2997360"/>
                <a:ext cx="393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3"/>
              <p:cNvSpPr txBox="1"/>
              <p:nvPr/>
            </p:nvSpPr>
            <p:spPr>
              <a:xfrm>
                <a:off x="468360" y="4290840"/>
                <a:ext cx="295128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▬в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плава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2340000" y="5877000"/>
                <a:ext cx="4753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▬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лава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7"/>
              <p:cNvSpPr txBox="1"/>
              <p:nvPr/>
            </p:nvSpPr>
            <p:spPr>
              <a:xfrm>
                <a:off x="5292720" y="4437000"/>
                <a:ext cx="3456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лав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▬в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Rectangle 18"/>
          <p:cNvSpPr/>
          <p:nvPr/>
        </p:nvSpPr>
        <p:spPr>
          <a:xfrm>
            <a:off x="468360" y="4437000"/>
            <a:ext cx="295128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5219640" y="4508640"/>
            <a:ext cx="3673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2268360" y="5950080"/>
            <a:ext cx="489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особы решения зада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Арифме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С помощью уравн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линей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квадрат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С помощью системы урав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С помощью формул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116000" y="4869000"/>
                <a:ext cx="7129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ти процентное содержание олова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лаве, полученном из двух кусков масс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г и         кг, если известно, что пер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ит       % олова, второй       % ол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539640" y="2565360"/>
                <a:ext cx="536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1908000" y="2565360"/>
                <a:ext cx="64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2195640" y="3068640"/>
                <a:ext cx="5252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2"/>
              <p:cNvSpPr txBox="1"/>
              <p:nvPr/>
            </p:nvSpPr>
            <p:spPr>
              <a:xfrm>
                <a:off x="5580000" y="3068640"/>
                <a:ext cx="593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4"/>
              <p:cNvSpPr txBox="1"/>
              <p:nvPr/>
            </p:nvSpPr>
            <p:spPr>
              <a:xfrm>
                <a:off x="539640" y="3860640"/>
                <a:ext cx="7345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971640" y="5157720"/>
                <a:ext cx="6657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7"/>
              <p:cNvSpPr txBox="1"/>
              <p:nvPr/>
            </p:nvSpPr>
            <p:spPr>
              <a:xfrm>
                <a:off x="2843280" y="5950080"/>
                <a:ext cx="1152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50920" y="522900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авление чистого вещества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авление сплава, не содержащего это веще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лавлении нет потери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5"/>
              <p:cNvSpPr txBox="1"/>
              <p:nvPr/>
            </p:nvSpPr>
            <p:spPr>
              <a:xfrm>
                <a:off x="7596360" y="5157720"/>
                <a:ext cx="13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539640" y="2421000"/>
                <a:ext cx="31672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971640" y="765000"/>
                <a:ext cx="72500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6227640" y="2421000"/>
                <a:ext cx="24498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8"/>
              <p:cNvSpPr txBox="1"/>
              <p:nvPr/>
            </p:nvSpPr>
            <p:spPr>
              <a:xfrm>
                <a:off x="2843280" y="3716280"/>
                <a:ext cx="421164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Line 25"/>
          <p:cNvSpPr/>
          <p:nvPr/>
        </p:nvSpPr>
        <p:spPr>
          <a:xfrm flipH="1">
            <a:off x="3779640" y="1700280"/>
            <a:ext cx="936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219640" y="1700280"/>
            <a:ext cx="86508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>
            <a:off x="4932360" y="177336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900000" y="620640"/>
            <a:ext cx="7559640" cy="936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Object 42"/>
              <p:cNvSpPr txBox="1"/>
              <p:nvPr/>
            </p:nvSpPr>
            <p:spPr>
              <a:xfrm>
                <a:off x="7740720" y="5589720"/>
                <a:ext cx="11523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567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ча из «Всеобщей арифметики» И. Ньют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ы плотности двух веществ и их смеси. В каком отношении (по объёму) смешаны эти вещест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курса физики известно, чт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асса в-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тность в-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ъём в-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>
                <a:off x="4821120" y="2035080"/>
                <a:ext cx="30304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971640" y="3141720"/>
                <a:ext cx="355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971640" y="2781360"/>
                <a:ext cx="4269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1"/>
              <p:cNvSpPr txBox="1"/>
              <p:nvPr/>
            </p:nvSpPr>
            <p:spPr>
              <a:xfrm>
                <a:off x="971640" y="3429000"/>
                <a:ext cx="345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1258920" y="4743360"/>
                <a:ext cx="64087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19"/>
          <p:cNvSpPr/>
          <p:nvPr/>
        </p:nvSpPr>
        <p:spPr>
          <a:xfrm>
            <a:off x="0" y="38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8"/>
              <p:cNvSpPr txBox="1"/>
              <p:nvPr/>
            </p:nvSpPr>
            <p:spPr>
              <a:xfrm>
                <a:off x="3492360" y="5373720"/>
                <a:ext cx="2521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1"/>
              <p:cNvSpPr txBox="1"/>
              <p:nvPr/>
            </p:nvSpPr>
            <p:spPr>
              <a:xfrm>
                <a:off x="1258920" y="4005360"/>
                <a:ext cx="66578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1716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ны два куска с различным содержанием олова. Первый, массой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00 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содержит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20%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лова. Второ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4076280"/>
            <a:ext cx="843588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сой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200 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содержит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40%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лова. Сколько процентов будет содержать сплав, полученный из этих куск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50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8"/>
              <p:cNvSpPr txBox="1"/>
              <p:nvPr/>
            </p:nvSpPr>
            <p:spPr>
              <a:xfrm>
                <a:off x="4356000" y="1125360"/>
                <a:ext cx="4321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меются два куска сплава олова и свинца. Первый, массой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300 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содержи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60%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лова, второй содержи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40%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лова. Сколько граммов от второго куска нужн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2781000"/>
            <a:ext cx="417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бавить к  первому,    чтобы получить сплав с содержанием олова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56%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284720" y="3213000"/>
                <a:ext cx="4535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7:30:30Z</dcterms:created>
  <dc:creator>FuckYouBill</dc:creator>
  <dc:description/>
  <dc:language>en-US</dc:language>
  <cp:lastModifiedBy>123</cp:lastModifiedBy>
  <dcterms:modified xsi:type="dcterms:W3CDTF">2014-11-09T17:09:50Z</dcterms:modified>
  <cp:revision>56</cp:revision>
  <dc:subject/>
  <dc:title>Демонстрационный вариант экзаменационной работы (IX класс, 2008 г.)</dc:title>
</cp:coreProperties>
</file>