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64B-8F2C-478E-BE6B-D0E513E8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DF3-930F-49B6-B62C-082DE74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DA-FE96-4078-BB9F-5F594442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7D4-AC7F-4595-86A9-D4FDFC8C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7AF-652E-43B2-A909-630C2EE0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A4F-8936-45CC-B7B3-865E6305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015F-8BB1-4A2D-A8E7-A1BB3C5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4923-4787-4A9F-9B67-4AB0BDA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16A-06CF-428B-8211-CB6E5EB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B2E8-C3FF-4452-9586-1A49A83C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0547-9F35-4286-9239-15057BBD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C06-CBAC-4D30-A960-E925A98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99FD-B8F4-4B8C-A405-F67F0E2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27F-FDF1-4EFB-AC6A-E792964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C409-0602-40FB-A097-A34A9AD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8BDD-5D42-4EC4-90DE-DDA3B7C5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580B-A96E-4DB7-9090-59A00215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713-BA3F-4888-A4A2-430F2D9C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478-10A9-4A76-B213-AE903AF7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5E8-2183-4CF4-BA92-D2D97386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D6E-511E-41EE-A975-DA7E5E72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30A-F746-403F-BFD6-E8550D4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011-601C-4848-9493-7AB4EEB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D8A-8D91-4717-BC20-61EC2EEC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F59-1AB9-4ABB-8780-C031E579519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23D-4FEE-462C-BA70-5A4EBF48A85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500040"/>
            <a:ext cx="4040280" cy="5214960"/>
          </a:xfrm>
          <a:prstGeom prst="rect">
            <a:avLst/>
          </a:prstGeom>
          <a:gradFill rotWithShape="0">
            <a:gsLst>
              <a:gs pos="0">
                <a:srgbClr val="8ef1ff"/>
              </a:gs>
              <a:gs pos="100000">
                <a:srgbClr val="ddfaff"/>
              </a:gs>
            </a:gsLst>
            <a:lin ang="16200000"/>
          </a:gradFill>
          <a:ln w="9360">
            <a:solidFill>
              <a:srgbClr val="60c9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65040" indent="-255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раздник спортивный гордо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ступает в свои права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олнцем улыбки доброй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стречает его детв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Нам смелым, и сильным, и ловким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о спортом всегда по пу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Чтоб в спорте первыми быть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Надо спорт люб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Чтоб спортсменом мог каждый ста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иды спорта должен каждый зн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1444320"/>
            <a:ext cx="40417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http://stat17.privet.ru/lr/0934d4fa2563ef9ddfcb7a307ae19ebd"/>
          <p:cNvPicPr/>
          <p:nvPr/>
        </p:nvPicPr>
        <p:blipFill>
          <a:blip r:embed="rId1"/>
          <a:stretch/>
        </p:blipFill>
        <p:spPr>
          <a:xfrm>
            <a:off x="4500720" y="1285920"/>
            <a:ext cx="4643280" cy="3286080"/>
          </a:xfrm>
          <a:prstGeom prst="rect">
            <a:avLst/>
          </a:prstGeom>
          <a:ln w="25560">
            <a:solidFill>
              <a:srgbClr val="aaaab8"/>
            </a:solidFill>
            <a:miter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/>
          <p:cNvSpPr/>
          <p:nvPr/>
        </p:nvSpPr>
        <p:spPr>
          <a:xfrm>
            <a:off x="857160" y="35712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н играет на коньк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люшку держит он в рук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айбу этой клюшкой бьё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то спортсмена назовёт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021920" y="3429000"/>
            <a:ext cx="33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Хоккеи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Хокк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5000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ная спортивная игра на льду, подвид хоккея, заключающаяся в противоборстве двух команд, которые, передавая шайбу клюшками, стремятся забросить её наибольшее количество раз в ворота соперника и не пропустить в свои. Побеждает команда, забросившая наибольшее количество шайб в ворота сопер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мужчин вначале матчи проходят в двух предварительных группах по 6 команд. По 4 сильнейшие сборные из обеих групп встречаются затем в четвертьфиналах, победители которых выходят в полуфиналы, где определяются участники финальных матчей за 1-2 и 3-4-е места. В «утешительных» встречах команды выявляют места 5-го по 8-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00046696"/>
          <p:cNvPicPr/>
          <p:nvPr/>
        </p:nvPicPr>
        <p:blipFill>
          <a:blip r:embed="rId1"/>
          <a:stretch/>
        </p:blipFill>
        <p:spPr>
          <a:xfrm>
            <a:off x="5357880" y="342900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00046702"/>
          <p:cNvPicPr/>
          <p:nvPr/>
        </p:nvPicPr>
        <p:blipFill>
          <a:blip r:embed="rId2"/>
          <a:stretch/>
        </p:blipFill>
        <p:spPr>
          <a:xfrm>
            <a:off x="0" y="335772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Diagram 7"/>
          <p:cNvGrpSpPr/>
          <p:nvPr/>
        </p:nvGrpSpPr>
        <p:grpSpPr>
          <a:xfrm>
            <a:off x="2363040" y="1114560"/>
            <a:ext cx="5012280" cy="4919400"/>
            <a:chOff x="2363040" y="1114560"/>
            <a:chExt cx="5012280" cy="4919400"/>
          </a:xfrm>
        </p:grpSpPr>
        <p:sp>
          <p:nvSpPr>
            <p:cNvPr id="150" name="_s2052"/>
            <p:cNvSpPr/>
            <p:nvPr/>
          </p:nvSpPr>
          <p:spPr>
            <a:xfrm flipH="1" flipV="1">
              <a:off x="3870360" y="2871360"/>
              <a:ext cx="501120" cy="40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_s2053"/>
            <p:cNvSpPr/>
            <p:nvPr/>
          </p:nvSpPr>
          <p:spPr>
            <a:xfrm>
              <a:off x="2731320" y="18378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Биатл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2054"/>
            <p:cNvSpPr/>
            <p:nvPr/>
          </p:nvSpPr>
          <p:spPr>
            <a:xfrm flipH="1">
              <a:off x="3622680" y="3810240"/>
              <a:ext cx="626400" cy="13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_s2055"/>
            <p:cNvSpPr/>
            <p:nvPr/>
          </p:nvSpPr>
          <p:spPr>
            <a:xfrm>
              <a:off x="2363040" y="345888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ноубордин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2056"/>
            <p:cNvSpPr/>
            <p:nvPr/>
          </p:nvSpPr>
          <p:spPr>
            <a:xfrm flipH="1">
              <a:off x="4311360" y="4240800"/>
              <a:ext cx="27972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_s2057"/>
            <p:cNvSpPr/>
            <p:nvPr/>
          </p:nvSpPr>
          <p:spPr>
            <a:xfrm>
              <a:off x="340056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Фристай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_s2058"/>
            <p:cNvSpPr/>
            <p:nvPr/>
          </p:nvSpPr>
          <p:spPr>
            <a:xfrm>
              <a:off x="5142960" y="4240800"/>
              <a:ext cx="277560" cy="57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_s2059"/>
            <p:cNvSpPr/>
            <p:nvPr/>
          </p:nvSpPr>
          <p:spPr>
            <a:xfrm>
              <a:off x="506340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о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двоеборь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2060"/>
            <p:cNvSpPr/>
            <p:nvPr/>
          </p:nvSpPr>
          <p:spPr>
            <a:xfrm>
              <a:off x="5487120" y="3810240"/>
              <a:ext cx="626760" cy="14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_s2061"/>
            <p:cNvSpPr/>
            <p:nvPr/>
          </p:nvSpPr>
          <p:spPr>
            <a:xfrm>
              <a:off x="6098760" y="345672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рнолыжны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_s2062"/>
            <p:cNvSpPr/>
            <p:nvPr/>
          </p:nvSpPr>
          <p:spPr>
            <a:xfrm flipV="1">
              <a:off x="5364360" y="2871360"/>
              <a:ext cx="503640" cy="40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2063"/>
            <p:cNvSpPr/>
            <p:nvPr/>
          </p:nvSpPr>
          <p:spPr>
            <a:xfrm>
              <a:off x="5728320" y="183564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Прыж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на лыжа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 трампли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_s2064"/>
            <p:cNvSpPr/>
            <p:nvPr/>
          </p:nvSpPr>
          <p:spPr>
            <a:xfrm flipV="1">
              <a:off x="4866840" y="2388960"/>
              <a:ext cx="0" cy="643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2065"/>
            <p:cNvSpPr/>
            <p:nvPr/>
          </p:nvSpPr>
          <p:spPr>
            <a:xfrm>
              <a:off x="4229640" y="111456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ые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н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_s2066"/>
            <p:cNvSpPr/>
            <p:nvPr/>
          </p:nvSpPr>
          <p:spPr>
            <a:xfrm>
              <a:off x="4229640" y="30330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Лыжны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1143000" y="71424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орт на свете есть тако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пулярен он зим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 полозьях ты бежиш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 соперником спешиш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2596680" y="4143240"/>
            <a:ext cx="513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Лыжные гонк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ыжные гонк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5880" y="1928880"/>
            <a:ext cx="807696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ыжные гонки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д лыжного спорта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нки на лыжах на определённую дистанцию по специально подготовленной трассе среди лиц определённой категории (возрастной, половой и т. д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ересеченной местности по специально подготовленной трассе. Классические дистанции: у мужчин- индивидуальные лыжные гонки на 10, 15 км (до 1952 на 18 км), 30 и 50 км, а также эстафета 4x10 км; у женщин- индивидуальные лыжные гонки на 5, 10, 15 (с 1989), 30 км (в 1978-1989- 20 км), а также эстафета 4x5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ыжные гонки входили в програм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х зимних Олимпиа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чиная с 1924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10" descr="2749-500-330"/>
          <p:cNvPicPr/>
          <p:nvPr/>
        </p:nvPicPr>
        <p:blipFill>
          <a:blip r:embed="rId1"/>
          <a:stretch/>
        </p:blipFill>
        <p:spPr>
          <a:xfrm>
            <a:off x="4929120" y="435780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00046469"/>
          <p:cNvPicPr/>
          <p:nvPr/>
        </p:nvPicPr>
        <p:blipFill>
          <a:blip r:embed="rId2"/>
          <a:stretch/>
        </p:blipFill>
        <p:spPr>
          <a:xfrm>
            <a:off x="0" y="0"/>
            <a:ext cx="457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28800" y="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чень трудно быть, не спорьт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м метким в этом спорт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сто мчатся по лыж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о под силу даже мн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 попробуй бегать ден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 потом попасть в мишен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ёжа навзничь, из винтов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ут нельзя без тренировки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 мишень тебе не сло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орт зовётся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5521320" y="557208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Биатло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Биатл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55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иатло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имний олимпийский вид спорта, сочетающий лыжную гонку со стрельбой из винтовки. Биатлон наиболее популярен в Германии, России, Австрии, Норвегии и Швеции. C 1993 года и по настоящее время официальные международные соревнования по биатлону, включая Кубок мира и Чемпионаты мира, проходят под эгидой Международного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временное зимнее двоебор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вые олимпийские награды биатлонисты разыграли н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I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них Олимпийских играх в 1960 г. (Скво-Вэлли, СШ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object_83"/>
          <p:cNvPicPr/>
          <p:nvPr/>
        </p:nvPicPr>
        <p:blipFill>
          <a:blip r:embed="rId1"/>
          <a:stretch/>
        </p:blipFill>
        <p:spPr>
          <a:xfrm>
            <a:off x="5286240" y="3286080"/>
            <a:ext cx="3857760" cy="357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КаТя ЮрьеВа(4)"/>
          <p:cNvPicPr/>
          <p:nvPr/>
        </p:nvPicPr>
        <p:blipFill>
          <a:blip r:embed="rId2"/>
          <a:stretch/>
        </p:blipFill>
        <p:spPr>
          <a:xfrm>
            <a:off x="0" y="0"/>
            <a:ext cx="4859280" cy="298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3"/>
          <a:stretch/>
        </p:blipFill>
        <p:spPr>
          <a:xfrm>
            <a:off x="5572080" y="1000080"/>
            <a:ext cx="34196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анные виды спор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Diagram 7"/>
          <p:cNvGrpSpPr/>
          <p:nvPr/>
        </p:nvGrpSpPr>
        <p:grpSpPr>
          <a:xfrm>
            <a:off x="2421000" y="1611360"/>
            <a:ext cx="4764240" cy="4764240"/>
            <a:chOff x="2421000" y="1611360"/>
            <a:chExt cx="4764240" cy="4764240"/>
          </a:xfrm>
        </p:grpSpPr>
        <p:sp>
          <p:nvSpPr>
            <p:cNvPr id="180" name="_s3076"/>
            <p:cNvSpPr/>
            <p:nvPr/>
          </p:nvSpPr>
          <p:spPr>
            <a:xfrm>
              <a:off x="305928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_s3077"/>
            <p:cNvSpPr/>
            <p:nvPr/>
          </p:nvSpPr>
          <p:spPr>
            <a:xfrm rot="7200000">
              <a:off x="305892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_s3078"/>
            <p:cNvSpPr/>
            <p:nvPr/>
          </p:nvSpPr>
          <p:spPr>
            <a:xfrm rot="14400000">
              <a:off x="3059280" y="224928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_s3079"/>
            <p:cNvSpPr/>
            <p:nvPr/>
          </p:nvSpPr>
          <p:spPr>
            <a:xfrm>
              <a:off x="3013200" y="273528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Бобслей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270320" y="4911840"/>
              <a:ext cx="106380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анный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_s3081"/>
            <p:cNvSpPr/>
            <p:nvPr/>
          </p:nvSpPr>
          <p:spPr>
            <a:xfrm>
              <a:off x="5527800" y="273384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келето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ан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97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ный спорт- спуск на одноместных санях (до 22 кг) у мужчин и женщин и на двухместных (до 24 кг) санях у мужчин. Эти сани управляемые. Высота их- 15 см, длина 124-150 см (в зависимости от роста спортсмена). Полозья сделаны из металла и дерева. Стартуют спортсмены на них сидя, а затем ложатся на спину и в таком положении управляют санями, изменяя нагрузку на полозья с помощью натяжного ремня и приподнимая полозья. Длина трассы — 1233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одноместных санях спортсмены участвуют в четырех заездах, на двухместных — в двух. Победители определяются по сумме времени во всех заезд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286680" y="3500280"/>
            <a:ext cx="2857320" cy="335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14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1000080" y="2858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мотрите -  вот геро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н летит вниз голово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ивотом на санках леж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рашно так, мороз по кож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303440" y="4071960"/>
            <a:ext cx="336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Скелето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2565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Comic Sans MS"/>
              </a:rPr>
              <a:t>Зимние Олимпийские виды спор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Picture 3" descr="Клип"/>
          <p:cNvPicPr/>
          <p:nvPr/>
        </p:nvPicPr>
        <p:blipFill>
          <a:blip r:embed="rId1"/>
          <a:stretch/>
        </p:blipFill>
        <p:spPr>
          <a:xfrm>
            <a:off x="5448240" y="0"/>
            <a:ext cx="3695760" cy="2604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Картинка 122 из 39815"/>
          <p:cNvPicPr/>
          <p:nvPr/>
        </p:nvPicPr>
        <p:blipFill>
          <a:blip r:embed="rId2"/>
          <a:stretch/>
        </p:blipFill>
        <p:spPr>
          <a:xfrm>
            <a:off x="0" y="3213000"/>
            <a:ext cx="2979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келет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28440" y="9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елетон (данное наименование имеет не только вид спорта, но и сами сани) 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ний олимпийский вид спорта, представляющий собой спуск по ледяному жёлобу на двухполозьевых санях на укрепленной раме, победитель которого определяется по сумме двух или четырех заезд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Это специальные сани без рулевого управления со стальными полозьями и утяжеленной рамой (до 50 кг), длиной 70 см и шириной 38 см. Спортсмен во время спуска лежит на санях головой вперед, лицом вниз и использует для управления санями специальные шипы на носках ботинок и движения те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ина трассы в скелетоне- 1435 м с 19 поворотами, перепад высот на старте и финише- 114 м. Скорость спуска достигает 130 км/час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0" y="4286160"/>
            <a:ext cx="4357800" cy="25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5000760" y="4214880"/>
            <a:ext cx="4143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714240" y="285840"/>
            <a:ext cx="80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прос нелегкий у мен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это называют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да спортсмены на саня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желобу съезжают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752280" y="3714840"/>
            <a:ext cx="278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Бобсле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Бобсл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ний олимпийский вид спорта, представляющий собой скоростной спуск с гор по специально оборудованным ледовым трассам на управляемых санях — боба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ани здесь, именуемые бобом, имеют цельнометаллический кузов обтекаемой формы, который закреплен на двух парах полозьев-коньков: передней подвижной с рулем и задней неподвижной с тормозом. На соревнованиях используют двухместные бобы (двойка)- длина не более 2,7 м, масса не свыше 165 кг, вес экипажа не более 200 кг и четырехместные (четверка)- соответственно 3,8 м, 230 кг, 400 к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старте членам экипажа на расстоянии 50 м разрешается разгонять сани, при этом за 6 сек. они нередко достигают скорости 30 км/час. Затем они садятся в сани за рулевым, пригибаясь к не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Картинка 14 из 1539"/>
          <p:cNvPicPr/>
          <p:nvPr/>
        </p:nvPicPr>
        <p:blipFill>
          <a:blip r:embed="rId1"/>
          <a:stretch/>
        </p:blipFill>
        <p:spPr>
          <a:xfrm>
            <a:off x="0" y="3714840"/>
            <a:ext cx="5072040" cy="3143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Картинка 10 из 1539"/>
          <p:cNvPicPr/>
          <p:nvPr/>
        </p:nvPicPr>
        <p:blipFill>
          <a:blip r:embed="rId2"/>
          <a:stretch/>
        </p:blipFill>
        <p:spPr>
          <a:xfrm>
            <a:off x="5286240" y="3500280"/>
            <a:ext cx="3857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Organization Chart 17"/>
          <p:cNvGrpSpPr/>
          <p:nvPr/>
        </p:nvGrpSpPr>
        <p:grpSpPr>
          <a:xfrm>
            <a:off x="214200" y="1762200"/>
            <a:ext cx="9143640" cy="2004840"/>
            <a:chOff x="214200" y="1762200"/>
            <a:chExt cx="9143640" cy="2004840"/>
          </a:xfrm>
        </p:grpSpPr>
        <p:cxnSp>
          <p:nvCxnSpPr>
            <p:cNvPr id="116" name="_s1028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6490080" y="919800"/>
              <a:ext cx="279720" cy="3688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029"/>
            <p:cNvCxnSpPr>
              <a:stCxn id="120" idx="0"/>
              <a:endCxn id="118" idx="2"/>
            </p:cNvCxnSpPr>
            <p:nvPr/>
          </p:nvCxnSpPr>
          <p:spPr>
            <a:xfrm flipV="1" rot="16200000">
              <a:off x="5568480" y="1841400"/>
              <a:ext cx="279720" cy="18453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0"/>
            <p:cNvCxnSpPr>
              <a:stCxn id="122" idx="0"/>
              <a:endCxn id="118" idx="2"/>
            </p:cNvCxnSpPr>
            <p:nvPr/>
          </p:nvCxnSpPr>
          <p:spPr>
            <a:xfrm flipV="1">
              <a:off x="4785840" y="2624400"/>
              <a:ext cx="1080" cy="27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1"/>
            <p:cNvCxnSpPr>
              <a:stCxn id="124" idx="0"/>
              <a:endCxn id="118" idx="2"/>
            </p:cNvCxnSpPr>
            <p:nvPr/>
          </p:nvCxnSpPr>
          <p:spPr>
            <a:xfrm flipH="1" flipV="1" rot="5400000">
              <a:off x="3724920" y="1842480"/>
              <a:ext cx="279720" cy="1843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2"/>
            <p:cNvCxnSpPr>
              <a:stCxn id="126" idx="0"/>
              <a:endCxn id="118" idx="2"/>
            </p:cNvCxnSpPr>
            <p:nvPr/>
          </p:nvCxnSpPr>
          <p:spPr>
            <a:xfrm flipH="1" flipV="1" rot="5400000">
              <a:off x="2802960" y="920880"/>
              <a:ext cx="279720" cy="36867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8" name="_s1033"/>
            <p:cNvSpPr/>
            <p:nvPr/>
          </p:nvSpPr>
          <p:spPr>
            <a:xfrm>
              <a:off x="2881440" y="1762200"/>
              <a:ext cx="3809880" cy="862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Ледовые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виды спорта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214200" y="290448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Скоростной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бег на конька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2057400" y="290448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Шорт-трек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3900960" y="290448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Фигурное</a:t>
              </a: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атание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1037"/>
            <p:cNvSpPr/>
            <p:nvPr/>
          </p:nvSpPr>
          <p:spPr>
            <a:xfrm>
              <a:off x="5744160" y="290448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ерлинг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7587720" y="290448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Хокке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928800" y="285840"/>
            <a:ext cx="79293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десять километров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ая в такт руко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жит быстрее вет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нувшись кочерг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TextBox 7" descr=""/>
          <p:cNvPicPr/>
          <p:nvPr/>
        </p:nvPicPr>
        <p:blipFill>
          <a:blip r:embed="rId1"/>
          <a:stretch/>
        </p:blipFill>
        <p:spPr>
          <a:xfrm>
            <a:off x="2633760" y="3498840"/>
            <a:ext cx="5413320" cy="12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коростной бег на коньках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1720" y="64296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ькобежный спорт - вид спорта, в котором необходимо как можно быстрее преодолеть соревновательную дистанцию на ледовом стадионе по замкнутому круг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ограмму зимних Олимпийских игр скоростной бег на коньках у мужчин был включен с 1924 года, с 1960 года проводятся и соревнования среди женщ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ая программа зимних Олимпийских игр включает прохождение коротких - 500, 1000, 1500 м, и длинных - 3000, 5000, 10000 м дистан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ники соревнований бегут парами - один по внешней, другой - по внутренней дорожка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1" descr="8"/>
          <p:cNvPicPr/>
          <p:nvPr/>
        </p:nvPicPr>
        <p:blipFill>
          <a:blip r:embed="rId1"/>
          <a:stretch/>
        </p:blipFill>
        <p:spPr>
          <a:xfrm>
            <a:off x="2214720" y="3906720"/>
            <a:ext cx="5715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5096520" y="4714920"/>
            <a:ext cx="25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оньк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631880" y="0"/>
            <a:ext cx="630756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альчишки, и девчон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любят нас зимо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ут лёд узором тонким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хотят идти дом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изящны и легк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– фигурны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Фигурное катани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53290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ькобежный вид спорта, относится к сложнокоординационным видам спорта. Основная идея заключается в передвижении спортсмена или пары спортсменов на коньках по льду с переменами направления скольжения и выполнением дополнительных элементов (вращением, прыжками, комбинаций шагов, поддержек и др.) под музык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одиночном катании как среди мужчин, так и среди женщин и в парном катании включают так называемую короткую программу - исполнение в течение определенного времени под музыку, выбранную спортсменами, 8 предписанных элементов со связующими шагами, и произвольную программу - исполнение в течение определенного времени под музыку, выбранную спортсменами, композиции из непредписанных элемен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1924 года фигурное катание на коньках включено в программу зимних Олимпийских игр. Спортивные танцы на льду включены в программу зимних Олимпийских игр с 1976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ждом виде олимпийских соревнований страна может заявить одного участника или пару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6" descr="фигкатание"/>
          <p:cNvPicPr/>
          <p:nvPr/>
        </p:nvPicPr>
        <p:blipFill>
          <a:blip r:embed="rId1"/>
          <a:stretch/>
        </p:blipFill>
        <p:spPr>
          <a:xfrm>
            <a:off x="5715000" y="1500120"/>
            <a:ext cx="3429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69000" y="428760"/>
            <a:ext cx="691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 площадке ледя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гроки метут метл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 по льду гоняют камен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за спорт здесь перед нами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644360" y="392904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ёрлин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Кёрл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2741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ёрлинг 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 («дома»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ния броска биты находится на расстоянии около 31 м от мишен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 игры - попасть битой в мишень, вытолкнув из нее биту сопер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ёрлинг включен в программу XVIII зимних Олимпийских игр в 1994 г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0046524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00046525"/>
          <p:cNvPicPr/>
          <p:nvPr/>
        </p:nvPicPr>
        <p:blipFill>
          <a:blip r:embed="rId2"/>
          <a:stretch/>
        </p:blipFill>
        <p:spPr>
          <a:xfrm>
            <a:off x="0" y="3718080"/>
            <a:ext cx="55008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1:17Z</dcterms:created>
  <dc:creator>user</dc:creator>
  <dc:description/>
  <dc:language>en-US</dc:language>
  <cp:lastModifiedBy>Людмила</cp:lastModifiedBy>
  <dcterms:modified xsi:type="dcterms:W3CDTF">2014-02-01T17:27:34Z</dcterms:modified>
  <cp:revision>21</cp:revision>
  <dc:subject/>
  <dc:title>Слайд 1</dc:title>
</cp:coreProperties>
</file>