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1CAE-D2B5-4C2F-9EA7-658E4715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9FBB-158C-4E73-A6E9-2144E84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D759-B628-4791-B89D-B66893C6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9E6E-3CC8-45B4-93A0-348F7D1A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94B3-582D-47F2-B9CE-D0687C76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97E4-FB0C-4853-8185-50899D01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6A04-2331-4E17-A4E4-6E58F7C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B22-4ABB-4298-BF99-1AD5B98E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BEE-A9DC-413D-8CA5-47ED04D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D127-C7BF-432A-9D12-CBA3C82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8BF-2AB3-4342-B461-94BCD82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0224-24DE-4D24-AAA2-473B6AF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0486-D720-436D-99B1-5926A11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6BA8-6432-4E63-99F1-4688AD3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3A45-B9F7-40F0-9DFA-7F564A58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70E-9DC3-4314-9A68-71296A9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F2A0-C662-43E4-887E-C567BB70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02C3-93D2-4222-9784-3E8E8EA0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ACA6-9DAB-4873-9B73-748E267F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0EDF-BA08-4148-A936-B8D3565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3B90-C61B-4F88-8603-AE3E8CF9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32A6-9DEF-4C8A-9C15-CDB5E4B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6574-9367-4033-934D-5AF0D27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6D1B-C47D-4E97-9AD4-2C3749D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B8B5-3FE2-4EC5-B483-AB49F46E54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26BC-B27D-4036-981D-C50C40B6F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science.wikia.com/index.php?title=&#1053;&#1086;&#1074;&#1077;&#1088;,_&#1046;&#1072;&#1085;_&#1046;&#1086;&#1088;&#1078;&amp;action=edit&amp;redlink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Балет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онова Светл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195640" y="304920"/>
            <a:ext cx="4995720" cy="6553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971640" y="5734080"/>
            <a:ext cx="72072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539800" cy="40384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965680" cy="39542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39640" y="6237360"/>
            <a:ext cx="863640" cy="43164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анты-обувь, которая используется при исполнении женского классического тан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5220000" cy="51944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50920" y="6308640"/>
            <a:ext cx="865080" cy="549360"/>
          </a:xfrm>
          <a:prstGeom prst="leftArrow">
            <a:avLst>
              <a:gd name="adj1" fmla="val 50000"/>
              <a:gd name="adj2" fmla="val 3936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Артисты балета Росс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очкова Анастасия Юрьев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скаридзе Николай Максимови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2501640" cy="37162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4284720" y="2708280"/>
            <a:ext cx="454320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алетная музы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аматизация балета требовала развития балетной музыки. Бетховен в своём балете «Творения Прометея»(1801) предпринял первую попытку симфонизации балета. Романтическое направление утверждается в балетах Адана«Жизель»(1841) и «Корсар»(1856). Балеты Делиба«Коппелия»(1870) и «Сильвия»(1876) считаются первыми симфонизированными балетами. Вместе с тем обозначился и упрощённый подход к балетной музыке (в балетах Ч.Пуньи, Л.Минкуса, Р. Дриго и др.), как музыке мелодичной, чёткой по ритму, служащей лишь сопровождением для та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стоящий переворот в балетной музыке произвёл Пётр Ильич Чайковский, который внёс в неё непрерывное симфоническое развитие, глубокое образное содержание, драматическую выразительность. Музыка его балетов «Лебединое озеро», «Спящая красавица», «Щелкунчик» обрела наряду с симфонической возможность раскрывать внутреннее течение действия, воплощ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арактеры героев в их взаимодействии, развитии, борьб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417760" cy="36003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5608800" y="1916280"/>
            <a:ext cx="3173400" cy="3546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Что такое балет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алет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ценического искусства; спектакль, содержание которого воплощается в музыкально-хореографических образ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Зарождение бале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28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ет зародился в Италии в эпоху Возрождения (XVI в.) вначале как объединённая единым действием или настроением танцевальная сценка. Во Франции расцветает придворный балет как пышное торжественное зрелище. Музыкальную основу первых балетов  составляли народные и придворные танцы. В XVII веке появляются новые театральные жанры, такие как комедия-балет,опера-балет.Значительное место отводится балетной музыке и делаются попытки её драматизировать. Но самостоятельным видом сценического искусства балет становится только во второй половине XVIII века благодаря Ж.Ж.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еру.Он создал спектакли, утвердил активную роль музыки как «программы, определяющей движения и действия танцовщика»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572000" y="1916280"/>
            <a:ext cx="427212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Дальнейшее развитие бале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льнейшее развитие и расцвет балета приходится на эпоху романтизма. В XVIII в. французская балерина Камарго укоротила юбку и отказалась от каблуков, что позволило ей ввести в свой танец заноски. К концу XVIII в. балетный костюм становится значительно более лёгким и свободным, что в немалой степени способствует бурному развитию техники танца. Исполнительницы старались встать на коньчики пальцев, что привело к изобретению пуанты. Первой применившей танец на пуантах как выразительное средство была Мария Тальо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Русский бале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первый балетный спектакль состоялся 8 февраля 1673 г. при дворе царя Алексея Михайловича в подмосковном селе Преображенское. Национальное своеобразие русского балета начало формироваться в начале XIX века благодаря балетмейстеру Шарля-Луи Дидло. Дидло усиливает роль кордебалета, связь танца и пантомимы, утверждает приоритет женского танц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XX века ознаменовалось новаторскими поисками, стремлением преодолеть стереотипы, условности академического балета XIX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 rot="946800">
            <a:off x="5076720" y="1628280"/>
            <a:ext cx="3672000" cy="2752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 rot="20914800">
            <a:off x="4859280" y="4581000"/>
            <a:ext cx="17510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Танец модер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114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нец модерн — направление в танцевальном искусстве, появившееся в начале ХХ века как результат ухода от строгих норм балета, в пользу творческой свободы хореограф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балета отталкивался свободный танец, создателей которого интересовала не столько новая техника танца или хореография, сколько танец как особая философия, способная изменить жизнь. Это возникшее в начале XX века движение (родоначальницей пластического балета считается Айседора Дункан) служило истоком многих направлений современного танца и дало импульс реформе самого бал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3870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Одежда и обувь Балерин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ч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опеновская юб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етный купаль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а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95640" y="1557360"/>
            <a:ext cx="718920" cy="360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95640" y="2133720"/>
            <a:ext cx="863640" cy="358560"/>
          </a:xfrm>
          <a:custGeom>
            <a:avLst/>
            <a:gdLst>
              <a:gd name="textAreaLeft" fmla="*/ 135000 w 863640"/>
              <a:gd name="textAreaRight" fmla="*/ 756000 w 86364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43280" y="27082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03640" y="3284640"/>
            <a:ext cx="792360" cy="360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9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84360" y="3933720"/>
            <a:ext cx="935280" cy="360360"/>
          </a:xfrm>
          <a:custGeom>
            <a:avLst/>
            <a:gdLst>
              <a:gd name="textAreaLeft" fmla="*/ 146160 w 935280"/>
              <a:gd name="textAreaRight" fmla="*/ 818640 w 935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88000" y="5300640"/>
            <a:ext cx="1368720" cy="649440"/>
          </a:xfrm>
          <a:prstGeom prst="rightArrow">
            <a:avLst>
              <a:gd name="adj1" fmla="val 50000"/>
              <a:gd name="adj2" fmla="val 5268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алетное трико - часть сценического костюма классической танцовщицы или репетиционный костю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2768760" cy="53006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61128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чка — жёсткая юбка, используемая в балете для танцовщиц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268360" y="1405080"/>
            <a:ext cx="4751640" cy="4751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468360" y="6093000"/>
            <a:ext cx="718920" cy="431640"/>
          </a:xfrm>
          <a:prstGeom prst="leftArrow">
            <a:avLst>
              <a:gd name="adj1" fmla="val 50000"/>
              <a:gd name="adj2" fmla="val 4163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9:46:39Z</dcterms:created>
  <dc:creator>ОЛЕГ</dc:creator>
  <dc:description/>
  <dc:language>en-US</dc:language>
  <cp:lastModifiedBy>ОЛЕГ</cp:lastModifiedBy>
  <dcterms:modified xsi:type="dcterms:W3CDTF">2011-09-21T17:06:42Z</dcterms:modified>
  <cp:revision>4</cp:revision>
  <dc:subject/>
  <dc:title>Балет</dc:title>
</cp:coreProperties>
</file>