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E0C-1192-4886-8D12-5FB728768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C28-7CDE-43EB-B103-53C071D98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70C-8EC7-4413-A39D-4C35169F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73E-C625-459D-A91A-F8388FA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F55-22CB-4FD5-944A-4A720381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F2C-85D8-4123-B162-361A5E12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374-395D-4E78-BB3D-9701B30A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27B-D825-480D-B22F-1C0D115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71A-574C-46D4-8CAA-269538D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0F1-5125-4ECD-84A4-DF2F00F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B40-D8A9-432D-8E10-9F6CC2A9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099-0943-4801-B7E0-4C944FE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0AC-D1C4-4D8F-B9C4-8A9AB71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9F3-39A3-4B0F-AC05-A8202C8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B92-7BF9-4C95-9875-6BA81AFE4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КОНЦЕ ПРИСТ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838080" y="55627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95480" y="114264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ключевые слова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истав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рфограмма – буква согласного, глухой согла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вонкий со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38080" y="304920"/>
            <a:ext cx="754380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м пробл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066680" y="44197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ключевых слов спрогнозируйте цель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4515120" cy="10094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1"/>
          <p:cNvSpPr/>
          <p:nvPr/>
        </p:nvSpPr>
        <p:spPr>
          <a:xfrm>
            <a:off x="685800" y="5029200"/>
            <a:ext cx="8077320" cy="1295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новую орфограмму – букву соглас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ставке; научиться правильно писать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овой орфограммой в приста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>
            <a:hlinkClick r:id="" action="ppaction://hlinkshowjump?jump=nextslide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666880" y="1066680"/>
            <a:ext cx="586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к каждому отрезку слова подходящую для него приставку. Прочитайте получившиеся слова.</a:t>
            </a:r>
            <a:br>
              <a:rPr sz="20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…дельник, …порядок, …трепенуться,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…конечный, …жалобить, …чез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85800" y="289548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если бы нужно было записать слова, с ка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ой вы бы столкнулись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1600200" y="5562720"/>
            <a:ext cx="6095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ите главный вопрос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0"/>
          <p:cNvSpPr/>
          <p:nvPr/>
        </p:nvSpPr>
        <p:spPr>
          <a:xfrm>
            <a:off x="609480" y="5486400"/>
            <a:ext cx="8001000" cy="914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букву –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ать на конце приста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3"/>
          <p:cNvSpPr/>
          <p:nvPr/>
        </p:nvSpPr>
        <p:spPr>
          <a:xfrm>
            <a:off x="2590920" y="457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е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1447920" y="35053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5"/>
          <p:cNvSpPr/>
          <p:nvPr/>
        </p:nvSpPr>
        <p:spPr>
          <a:xfrm>
            <a:off x="304920" y="4038480"/>
            <a:ext cx="6705360" cy="106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ельник, б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рядок, 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репену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нечный, р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алобить, 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/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ез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6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981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62120" y="11430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80880" y="48006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уйте следующий за приставками звук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закономерность в выборе буквы на конце пристав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дсказка: вспомните ключевые слова урока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457200" y="1371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. Чем отличаются приставки в пара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2971800" y="2057400"/>
            <a:ext cx="5486400" cy="2362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брежный – бесс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дохнуть – вспорх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рождение -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бежать – истолк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дать – распус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извергать – нис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9"/>
          <p:cNvSpPr/>
          <p:nvPr/>
        </p:nvSpPr>
        <p:spPr>
          <a:xfrm>
            <a:off x="914400" y="228600"/>
            <a:ext cx="754380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аем проблем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ткрываем новые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0">
            <a:hlinkClick r:id="" action="ppaction://hlinkshowjump?jump=nextslide"/>
          </p:cNvPr>
          <p:cNvSpPr/>
          <p:nvPr/>
        </p:nvSpPr>
        <p:spPr>
          <a:xfrm>
            <a:off x="80773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7"/>
          <p:cNvSpPr/>
          <p:nvPr/>
        </p:nvSpPr>
        <p:spPr>
          <a:xfrm>
            <a:off x="914400" y="2057400"/>
            <a:ext cx="1752480" cy="23623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15">
                <a:moveTo>
                  <a:pt x="3600" y="0"/>
                </a:moveTo>
                <a:arcTo wR="3600" hR="3600" stAng="16200000" swAng="-5400000"/>
                <a:lnTo>
                  <a:pt x="0" y="25515"/>
                </a:lnTo>
                <a:arcTo wR="3600" hR="3600" stAng="10800000" swAng="-5400000"/>
                <a:lnTo>
                  <a:pt x="18000" y="29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>
            <a:off x="2971800" y="2057400"/>
            <a:ext cx="5486400" cy="2362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жный – бес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хнуть – вс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рх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ждение – вос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жать – ис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лк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ь – рас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из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ргать – ни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0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обобщённую графическую модель орф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676520" y="3048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основное условие выбора букв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конце приста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447920" y="21337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йте вывод о правописании букв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онц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авок и сравните с правилом в учебник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295280" y="457200"/>
            <a:ext cx="6629400" cy="114300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√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вон.согл.                 ….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ух.согл. 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16765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286000" y="68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5334120" y="685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6019920" y="68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4267080" y="990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2362320" y="1143000"/>
            <a:ext cx="14475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>
            <a:off x="2362320" y="1219320"/>
            <a:ext cx="14475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6095880" y="1143000"/>
            <a:ext cx="1447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6095880" y="1219320"/>
            <a:ext cx="1447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1219320" y="20574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0"/>
          <p:cNvSpPr/>
          <p:nvPr/>
        </p:nvSpPr>
        <p:spPr>
          <a:xfrm>
            <a:off x="2895480" y="388620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й пристав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….. З /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./зв. сог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е зависит                 зави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лать                    раз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ть                       бес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й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>
            <a:off x="39625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419112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63244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73152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4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28440" y="16761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143000" y="11430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362320" y="46483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с от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609480" y="1981080"/>
            <a:ext cx="7696440" cy="228600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кую букву выбрать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разгрызть, б) чересполос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) исчерпать, г) безголос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 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те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н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л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бросить, б) взрастить, в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ужать, г) распу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09480" y="1905120"/>
            <a:ext cx="7848720" cy="251460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б) чер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сица*; в) 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те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н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брос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б) взрастить; в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ужать; г) распу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447920" y="304920"/>
            <a:ext cx="5943600" cy="533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38080" y="5486400"/>
            <a:ext cx="7848720" cy="6094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сполос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земельных участков одного хозяйства полосами вперемежку с чужими учас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1</cp:lastModifiedBy>
  <dcterms:modified xsi:type="dcterms:W3CDTF">2014-11-09T18:30:0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