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05A-1974-44AB-8AF1-ED0DAC3D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49C-C935-42B4-AF94-9B1909B5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262-65C9-44F3-AB8E-7BAE097F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BC0-C0DC-4F22-A72E-9B0B02A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0309-F1E3-43B7-955F-D17AF621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366-50D8-40C2-9CA7-8F9EBFBE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6B66-680C-47AD-A6F2-82BEF1FF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1EB4-8EE6-468B-AA6F-377BE5AE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D9A-8CE3-49BD-85FD-E429F1A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6A6-96B4-4FDE-A874-61640C85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BEDA-FF34-4473-BA17-991EA24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2ED-87EA-4121-A391-39CBF22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296B-BB51-4FD4-A981-CC26145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2A32-147C-48C4-BF28-DF315FA0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A413-AEE9-4B51-A56F-98E88A73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5FE4-4E55-467E-8589-B5672DD3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E879-90D5-413A-B3D8-FC45B058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0F9-2AC4-43D1-8AA4-7C388393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C73-E5E5-48B9-BA2F-07984B89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1A2-6447-4848-9EA1-4C99F198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E92-73A6-4365-9017-9B9A8B88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D1F-A856-4DBE-8332-667B92B8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D52-96AB-49EE-A94D-A1185AB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5BB-333A-48AC-862C-5F3E885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A22-2A27-4405-BB01-202FE2EE4C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0D6-7F65-4DE8-99AD-F7461AE8D8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ёмы и методы активизации познавательной деятельности учащихся на уроках биологии</a:t>
            </a:r>
            <a:br>
              <a:rPr sz="32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Методы обучения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ловесн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, лекция, беседа, чтение, дидактический материал, метод словесного обуч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глядн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(демонстрация натуральных, экранных и других наглядных пособий, опытов)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лабораторные и практические работы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Приемы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правления познавательной деятельностью учащихся на разных этапах уро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апе проверки домашнего за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апе восприятия, способствующие пробуждению интереса к изучаемому        материа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апе осмысления (усвоения) изучаем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апе воспроизведения полученных зн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апе домашнего зад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Приемы на этапе проверки домашнего задания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исьмо Незнай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Найдите и исправьте ошибку в тек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лушай, не зевай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ники сигналят «светофором», если вопрос - утверждение учителя кажется им правиль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а не звенит колокольчик или Орат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ы мне, я теб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опросы по домашнему зад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28240"/>
            <a:ext cx="8007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пор – конкур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ократический прие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то бы это не значило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картинке, слайде какое-то изображение (образование цисты, размножение амебы). Дать исчерпывающий от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орячий сту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дин ученик садится перед классом. Остальные задают ему вопросы по домашнему зад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 кабинете у врач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дин ученик изображает пациента, который с жалобами обращается к «врачу». «Врач» задает вопросы, ставит диагноз и дает рекомендации.(8 клас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родная мудр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ословицы, поговорки, приметы) Объясните выражение: «Долго жуешь – долго живешь». (8 класс.  Пищеварение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емы на этапе восприят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очитайте зашифрованную тему уро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5 класс. Как питаются паразиты.       4 2 1 2 5 6 3 7   (1-Р, 2-А, 3-Т, 4-П, 5-З, 6-И, 7-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ссоци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Перед уроком написать ассоциации со словом………. и поместить их на дос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тий лиш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Тренировка логического мышления. 6 класс. Разнообразие и значение плод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оды: слива, фасоль, абрикос, перс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кончи предло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сказ или сказк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 ролям с минимальным текстом и оформлением, подготовка прямо на уро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га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ерите ли вы, чт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(прием новизны) 9 класс. Моногибридное скрещивание. Может ли у праворуких родителей родиться ребенок левш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зговая ата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штурм) Напиши все, что ты знаешь по эт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рупповая ата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Я думаю так...(прием создания проблемной ситуа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тавь пропущенные сл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 неизвестными для учащихся термина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емы на этапе воспроизведения полученных знан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1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ини – эксперимен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(исследовательский прие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бота с учебни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 биологических зада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ест как инструмент обуч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бота с термин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рием семантиз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гадай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удо-дерево или цветик-семицвет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На обратной стороне листьев задания или занимательны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ини - викторина)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ереводчик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выбор учеников термины на слайдах, карточках (прикрепленные к магнитной доске). Дать определение поня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то лишн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ьи детки на этой ветке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рием натурализации) Выдается набор побегов, цветков, листьев, плодов. Задание: собрать все одного вида. (6 класс Семейства цветковых растений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станови последова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рием моделиров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иск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ники ищут в учебнике новые терм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емы на этапе домашнего зада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ставь кроссвор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сле завершения изучения темы проводится «Базар кроссвордов» (головоломок, ребусов и т.п., составленных ученик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ставь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чини сказк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рием символиз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елай опыт или наблюд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       На следующем уроке ученики демонстрируют и объясняют результ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ставь вопросы одноклассни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думай над вопрос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эвристический прие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здай презент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Формы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лектив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ов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 па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Формы и методы проведения уро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овая 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левая 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сс-конферен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ина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-аукци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ч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ешеств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бораторная раб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ая раб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тр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п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i?id=630079604-09-72&amp;n=21"/>
          <p:cNvPicPr/>
          <p:nvPr/>
        </p:nvPicPr>
        <p:blipFill>
          <a:blip r:embed="rId1"/>
          <a:stretch/>
        </p:blipFill>
        <p:spPr>
          <a:xfrm>
            <a:off x="5943600" y="1295280"/>
            <a:ext cx="2800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0720" y="244080"/>
            <a:ext cx="686124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кажи мне - и я забуду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Покажи мне – и я запомню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Дай мне действовать самому – и я научусь.</a:t>
            </a:r>
            <a:br>
              <a:rPr sz="20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Китайская мудрость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лечь ребенка самим  процессом обуч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ь внутреннюю потребность учи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отреть условия для проявлен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ой деятельности и формы  организации деятельности учащихся на урок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ть различные методы и приемы для    повышения активизации познавательн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и учащихся на уро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09480" y="-1523880"/>
            <a:ext cx="7848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амостоятельная работа с учебной и научной литературо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лько самостоятельная работа учащихся создает предпосылки для глубокого овладения знаниями, развития мышления и умственных способностей учащихс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.Д. Ушин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Формы работы  с учебнико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епродуктивно -  поисков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составление плана, схемы,    конспекта по текст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равнительно - аналитическ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составление таблиц, схем, рисунко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ворческ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тесты, кроссворды,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ксты с ошибка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Информационные технологии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продуктов информационных технологий (презентаций, интерактивной доски, видеоматериалов, учебных фильмов) вызывает особый интерес, ученики значительно ярче и глубже осознают важность, значимость изучаемых вопросов и оттого относятся к ним с большим интерес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ре – великое п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стью море не вычерпае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гда на море погода злая, езда худ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ре песком не засыпле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ре, что горе, и берегов не ви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43000" y="44956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рук, без ног                                                 Черная ко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окном стучится,                                                 Весь мир поборо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избу просится.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белая подня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638680" y="198144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т ничего ми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родить и думать зде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лечит, обогре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кормит русский ле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 ждут в лесу ряби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ехи и цве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шистая м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устиках гус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767560" y="4267440"/>
            <a:ext cx="308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щу грибов поля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 не жалея но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сли вдруг устан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яду на пенё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кажется ино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ердце не бол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гда над голово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ечность, лес шуми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менение художественного слова, музыки, живопис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ктивизация познавательной деятельности в обучении биологии, позволяет мне достигать определенных результатов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зируется познавательная деятельно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ают новые мотивы познавательной деятельности и, как следствие, растет интерес к предме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уется твор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ются коммуникативные способ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ют задания исследовательского характ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ют полученные знания в жиз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ют с дополнительной литератур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b7"/>
                </a:solidFill>
                <a:latin typeface="Arial Black"/>
              </a:rPr>
              <a:t>СПАСИБО ЗА ВНИМА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4190760"/>
            <a:ext cx="800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304560"/>
            <a:ext cx="8007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функцией учителя является стимулирование познавательных интересов учащихся, помощь в самостоятельном поиске необходимой информации, в организации собственной деятельност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Для активизации познавательной деятельности учащихся на уроке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ть системы усвоения учащимися базовых знаний, умений,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мотивацию к учению, познавательных интересов учащихся, стремление к осознанному усвоению учебного материала, участию всех учеников в 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различные технологи в учебном проце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Условия проявления познавательной деятель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атмосферы сотрудничества и доброжелательности в класс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«ситуации успеха» для каждого учащего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лючение ученика в активную  деятельность, коллективные формы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элементов занимательности, нестандартности при изучении материа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проблемных ситу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о-ориентированная направленность изучаем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Уровни познавательной активности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спроизводящий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понимают, запоминают и воспроизводят знания, овладевают умениями применения по образцу. Но у учащихся отсутствует интерес к углублению знаний, отсутствуют вопросы типа: «Почему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нтерпретирующий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стремятся к выявлению смысла изучаемого содержания, стремятся познать связи между явлениями и процессами, овладеть способами применения знаний в измененных условиях, при затруднении, не отказываются от выполнения задания, а ищут пути решен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ворческий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бята с интересом  стремятся не только проникнуть глубоко в сущность явлений и их взаимосвязей, но и найти для эт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и новый способ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сихологам известны </a:t>
            </a:r>
            <a:br>
              <a:rPr sz="3200"/>
            </a:b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три вида стимулов интереса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чащихся к уроку это: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ущие от содерж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ываемые видами и характером деятельности учащихся на уро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кающие из их отношений с учителем и друг с другом на ур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ознавательная деятельность - это единство чувственного восприятия, творческого мышления и практ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активизации познавательной активности учащихся в своей практике использую различные методы, приёмы, формы  работы, придерживаюсь эффективных принципов обучен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92160"/>
            <a:ext cx="8385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Наибольший активизирующий эффект на моих уроках дают 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ситуации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,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которых учащиеся сами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таивают свое мн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участие в дискуссиях и обсуждения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ят вопросы своим товарищам и учителя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ивают ответы и письменные работы товарищ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яют более слабым учащимся непонятные мес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т несколько вариантов возможного решения познавательной задачи (проблемы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ют ситуации самопроверки, анализа личных познавательных и практических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Принципы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буче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проблем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обеспечения соответствия учебно-познавательной деятельности характеру практических зада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взаимообу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исследования изучаемых пробл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самообуче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мотив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Фактор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ональный интере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ий характ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язатель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характ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4-11-10T10:14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