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7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8.jpeg" ContentType="image/jpeg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4F66-083D-4712-94D7-71B1404F00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D16-9F20-45A8-B2E8-DAE2BB3E70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768-4B32-47A1-A511-9A5C45C307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ECF-6E57-49E1-B64F-3584AB33E9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29F-BBE1-404B-9447-C46457F6BB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53C-79DA-46B3-85B6-7802DEBE2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735D-64D2-428D-B1E0-4C8DCEAC6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209-7D7A-4127-9DF1-A4B21BBCDA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E902-2738-4D62-A9B8-DF93A0C712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708-D43F-46E8-A4DD-31E1BAD083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B031-B5E3-4AC2-B2F9-3C7DCD0685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BBD-E3DE-4B58-9712-47230BDACD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6B6-61E0-4269-A654-02D24CF29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B7C-925D-4700-BF17-D9A5ADC488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BBA-7A56-4F97-9C13-EE80CCE9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3B5-9777-4052-8BDA-A4FA501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F40-FBBB-4FB4-BBB4-7A3742D4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9D3-4070-42FC-A4E7-C645027B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7E5-8010-4CD5-BFEE-2C8B597F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3D6-D8E6-4BFD-B0DB-8BFB0C4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97E-ACC7-4BB9-911F-4C82EE79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255-1726-44E3-81CC-B2060791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E69-C474-4176-AE15-6FAA43D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376-B9B0-46E8-9879-5ED93A9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9A2-51F8-4322-A08E-9DFEB8C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927-648F-450F-90F5-C00C5F4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0A2C-C34A-43E6-91C5-FE8B05381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еточная оболочка и цитопла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ериал разработан к урокам биологии в 6, 10 классах в теме: «Строение клет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ель химии, биологии ГБОУ СОШ с. Кашпир, Новикова Г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Program Files\Microsoft Office\MEDIA\CAGCAT10\j0305257.wmf"/>
          <p:cNvPicPr/>
          <p:nvPr/>
        </p:nvPicPr>
        <p:blipFill>
          <a:blip r:embed="rId1"/>
          <a:stretch/>
        </p:blipFill>
        <p:spPr>
          <a:xfrm>
            <a:off x="214200" y="2786040"/>
            <a:ext cx="2291040" cy="36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проникнов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доцитоз (проникновение биополиме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оцитоз (проникновение молекул вод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гоцитоз (проникновение твёрдых частиц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sergey\Desktop\Ботаныъ\пиноцитоз.jpg"/>
          <p:cNvPicPr/>
          <p:nvPr/>
        </p:nvPicPr>
        <p:blipFill>
          <a:blip r:embed="rId1"/>
          <a:stretch/>
        </p:blipFill>
        <p:spPr>
          <a:xfrm>
            <a:off x="760320" y="3506760"/>
            <a:ext cx="7240680" cy="29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1508040"/>
          <a:ext cx="8429760" cy="363060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68560"/>
                <a:gridCol w="222264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ение или химиче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5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белки, жиры, аминокислоты, нуклеот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ется местом прохождения процессов обмена вещест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на к движ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химические вещества входят в состав мембра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наружный слой клеточной оболочки у живот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иды транспорта веществ вы зн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механизмы проникновения веществ вы зн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особенность цитопла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j0234673.gif"/>
          <p:cNvPicPr/>
          <p:nvPr/>
        </p:nvPicPr>
        <p:blipFill>
          <a:blip r:embed="rId1"/>
          <a:stretch/>
        </p:blipFill>
        <p:spPr>
          <a:xfrm>
            <a:off x="857160" y="28584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записи в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ся к проверочной раб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Users\sergey\Pictures\Организатор клипов (Microsoft)\j0233448.wmf"/>
          <p:cNvPicPr/>
          <p:nvPr/>
        </p:nvPicPr>
        <p:blipFill>
          <a:blip r:embed="rId1"/>
          <a:stretch/>
        </p:blipFill>
        <p:spPr>
          <a:xfrm>
            <a:off x="4929120" y="3603600"/>
            <a:ext cx="3143160" cy="304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ся со строением и особенностями клеточной обол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ся со строением и особенностями цитоплаз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6520" y="114264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учёного, который изобрёл микроск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фамилии учёных – авторов первой клеточной те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учёных открыл мир Простейши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вёл термин «клетк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первые описал ядро в растительных клетк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sergey\Pictures\Организатор клипов (Microsoft)\j0234673.gif"/>
          <p:cNvPicPr/>
          <p:nvPr/>
        </p:nvPicPr>
        <p:blipFill>
          <a:blip r:embed="rId1"/>
          <a:stretch/>
        </p:blipFill>
        <p:spPr>
          <a:xfrm>
            <a:off x="326880" y="349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сен Ха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лейден, Шва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венг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о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sergey\Pictures\Организатор клипов (Microsoft)\j0089048.wmf"/>
          <p:cNvPicPr/>
          <p:nvPr/>
        </p:nvPicPr>
        <p:blipFill>
          <a:blip r:embed="rId1"/>
          <a:stretch/>
        </p:blipFill>
        <p:spPr>
          <a:xfrm>
            <a:off x="6248520" y="3500280"/>
            <a:ext cx="1895400" cy="30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 кле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428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тка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6" descr="Клетка животных.jpg"/>
          <p:cNvPicPr/>
          <p:nvPr/>
        </p:nvPicPr>
        <p:blipFill>
          <a:blip r:embed="rId1"/>
          <a:stretch/>
        </p:blipFill>
        <p:spPr>
          <a:xfrm>
            <a:off x="500040" y="1214280"/>
            <a:ext cx="4040280" cy="41436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1920" y="428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тка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7" descr="Клетка растений.jpg"/>
          <p:cNvPicPr/>
          <p:nvPr/>
        </p:nvPicPr>
        <p:blipFill>
          <a:blip r:embed="rId2"/>
          <a:stretch/>
        </p:blipFill>
        <p:spPr>
          <a:xfrm>
            <a:off x="5286240" y="1214280"/>
            <a:ext cx="3497400" cy="41436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Схема 8" descr=""/>
          <p:cNvPicPr/>
          <p:nvPr/>
        </p:nvPicPr>
        <p:blipFill>
          <a:blip r:embed="rId3"/>
          <a:stretch/>
        </p:blipFill>
        <p:spPr>
          <a:xfrm>
            <a:off x="1695600" y="5486400"/>
            <a:ext cx="6132240" cy="124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14240" y="1500120"/>
          <a:ext cx="7858440" cy="512136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  <a:gridCol w="1965600"/>
                <a:gridCol w="1963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ение или химиче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очная обол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оит из 2-х слоё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аружны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кокаликс (у животных) образован углеводами и жи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очная стенка (у растений) образована клетчат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аёт форму клетке, защищает е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орная, защитная, служит карка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нкий, эласти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ста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уются в процессе жине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дкостно - мозаичная модель стро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7" descr="клеточная оболочка.jpg"/>
          <p:cNvPicPr/>
          <p:nvPr/>
        </p:nvPicPr>
        <p:blipFill>
          <a:blip r:embed="rId1"/>
          <a:stretch/>
        </p:blipFill>
        <p:spPr>
          <a:xfrm>
            <a:off x="285840" y="1571760"/>
            <a:ext cx="3929040" cy="404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429080" y="928440"/>
            <a:ext cx="4541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да: окружает жиры образуя 2 сло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ры: придают мембране текучесть, пластичность, самозамыкаемость, полупроницаем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лки: погружены в слой жиров: переферические (на поверхности), погружены в слой жиров на различную глубину(полуинтегральные) или пронизывают его насквозь (интегральны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глеводы: Присоединяются к белкам и жирам. Функция: распознают внешние сигна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57120" y="1500120"/>
          <a:ext cx="8429760" cy="383544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ение или химиче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нутренн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плазматическая мембр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остав мембраны входят молекулы воды, жиры, белки и угле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отделяет клетку от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образует многие клеточные 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частвует в транспорте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нь тонкая, обладает избирательной проницаем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хема 3" descr=""/>
          <p:cNvPicPr/>
          <p:nvPr/>
        </p:nvPicPr>
        <p:blipFill>
          <a:blip r:embed="rId1"/>
          <a:stretch/>
        </p:blipFill>
        <p:spPr>
          <a:xfrm>
            <a:off x="1517760" y="268200"/>
            <a:ext cx="6108480" cy="603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ergey\Pictures\Организатор клипов (Microsoft)\j0428415.wmf"/>
          <p:cNvPicPr/>
          <p:nvPr/>
        </p:nvPicPr>
        <p:blipFill>
          <a:blip r:embed="rId2"/>
          <a:stretch/>
        </p:blipFill>
        <p:spPr>
          <a:xfrm>
            <a:off x="969840" y="4151160"/>
            <a:ext cx="2173320" cy="181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9:40:36Z</dcterms:created>
  <dc:creator>sergey</dc:creator>
  <dc:description/>
  <dc:language>en-US</dc:language>
  <cp:lastModifiedBy>Acer</cp:lastModifiedBy>
  <dcterms:modified xsi:type="dcterms:W3CDTF">2014-11-09T06:09:23Z</dcterms:modified>
  <cp:revision>8</cp:revision>
  <dc:subject/>
  <dc:title>Слайд 1</dc:title>
</cp:coreProperties>
</file>