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13F-5F8A-476F-98F0-0EFB1254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554-2A93-4768-A9ED-1DFE0744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98F-0C48-4F33-96C8-5395198B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D7A-6FC8-4691-BDBB-C6CD43F1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34D3E-9065-4379-9B35-4B5130F8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A9481-6439-452E-A336-CD8CEF8F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01086-6A72-4AB7-A7BA-85292E6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C4115-5703-4AF7-813A-0164F795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57B7F-2927-4B6E-B7AC-02DD7E9A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AD2D1-FC27-4F52-8366-AD23992F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5D061-0BC9-4F48-B319-085C65B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66A-E6BF-4093-8B57-FA2C9319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C6332-F140-4EC9-AC1C-4C44F39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B2D83-CDD4-4CF8-A368-36FC809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0239B-7D4B-45C4-A775-1255AB6B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CED2C-6D21-44BB-9B6A-4E6513D3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BC394-0E58-4B26-807D-74EFA76F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3819-5021-4C6B-A1F4-7507EF9D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7A32-BB33-4979-8361-256D1E00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BECC-50FB-42CD-BF0C-6F2B189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FE52-A4CA-490B-AF55-C61E1FCE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554E-2EB8-49DA-9F64-8C4D9651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6DF-5457-4CAD-84F0-4CCC0DDA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9C8E-F6CF-482B-BE6A-DB0BD6F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950D-A76B-47D1-B2A0-12605E2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0DEB-8ADF-49EE-9793-F0C4C2BA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DA24-6484-4C4F-8C67-4DDE079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F872-7925-4508-BD82-B68348F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4F9E-4470-4AAC-9214-51D9BAF6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CF7D-CF0B-4041-A287-B995D970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A5802-30D8-418E-BE1C-FD2F917B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C5FB2-951A-4946-9EBC-8113671F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7F088-F672-444D-8F5C-F85ECB4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BDB-6E22-4517-86E9-A2E53C3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F84B1-D842-41F9-8CD3-C9130B3F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BCC93-ED1E-4A57-9C4A-77E0500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1F828-19EF-49A7-B2FF-8183EEB5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B8DA9-8D66-4AA4-BF9B-40DC26A3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7C4FD-DA42-4311-BF17-3AD14D43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03010-203D-4235-A3AD-46ED948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CCF70-48D0-415B-ACA8-3ACDBE74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C16DF-14D4-4DD8-9EEA-A672E15C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317B2-8E63-4047-9571-C1C104BE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237-749F-4EE4-9BE4-D7C60E7A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BE2-642D-4C45-83BF-CF4E932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2EF-75C6-403F-9D16-F746B03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B17-F126-409B-9491-3CE9CE2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676-AE58-48BA-94F1-DF8BB16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47B5-9452-4787-BB2D-DA955042258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2E0-BAE0-432B-8796-4743CEFB210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0A3-7ADC-4225-80BF-3057DE46CBA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BAA-A6C6-4F77-A918-51700D090A0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932000" y="2852280"/>
            <a:ext cx="375444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ыполни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ученик 2класса 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Яцин Серге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Руководитель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Елецкая С.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8954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"/>
          <p:cNvSpPr/>
          <p:nvPr/>
        </p:nvSpPr>
        <p:spPr>
          <a:xfrm>
            <a:off x="3638520" y="558972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МСК-201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411120" y="3333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м в истории автомобилем считается самостоятельно движущееся транспортное средство Никола Жозеф Куньё, созданное в 1769 году во Франции. Но паровой двигатель был слишком тяжел, а потому нашел своё применение на судах (пароходах) и железнодорожном транспорте (паровозах). Максимальная скорость этого авто составляла 4 км/ч, зато он мог везти на себе  до 5 тонн грузов. Мощность двигателя 2л. 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03480" y="2989440"/>
            <a:ext cx="504036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619280" y="393840"/>
            <a:ext cx="6010200" cy="23763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4"/>
          <p:cNvSpPr/>
          <p:nvPr/>
        </p:nvSpPr>
        <p:spPr>
          <a:xfrm>
            <a:off x="324000" y="306864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Принцип работы парового двигателя: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 При сжигании топлива, вода нагревается и превращается в пар, пар давит на поршень и приводит в движение другие механизмы (колесо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Автомобиль ждал другого двигателя, более компактного, более мощного, более эффективного. Таким стал двигатель внутреннего сгорания, который работает на бензине или другом жидком топлив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358920" y="333360"/>
            <a:ext cx="84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 автомобиль на бензиновом двигателе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 был построен в 1886 году.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26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468360" y="31752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Его построил немецкий инженер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Карл Бенц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У этой машины было три коле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Двигатель помещался под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пассажирским сиденьем, который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крутил задние колёса, весил 230 кг 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мог развивать скорость до 16 км\ч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В 1893 году был создан первый                                  четырёхколёсный автомобил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022720" y="3228840"/>
            <a:ext cx="3637080" cy="236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6018120" y="317520"/>
            <a:ext cx="2903760" cy="28512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6"/>
          <p:cNvSpPr/>
          <p:nvPr/>
        </p:nvSpPr>
        <p:spPr>
          <a:xfrm>
            <a:off x="2350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с двигателем мощностью около 3 л.с. - любимое творение Бенца - получил имя «Виктория», что значит «победа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468360" y="765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е автомобили были похожи на конный экипаж, да и ездили не быстрее кареты. К тому же они часто ломались и сильно шумели. Инженеры приложили много сил, чтобы улучшить их конструкцию. Со временем автомобили стали надёжными и удобны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340000" y="2901960"/>
            <a:ext cx="43196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45960" y="260280"/>
            <a:ext cx="84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В те времена автомобили стоили очень дорого - ведь каждый из них собирали вручную, для индивидуальных клиентов.И вот в 1913 году американец Генри Форд впервые внедрил конвейерную сборку автомобилей. С помощью конвейера производство автомобилей стало гораздо легче и быстрее, поэтому они стали более дешёвыми и доступными для люд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36680" y="3213000"/>
            <a:ext cx="4174920" cy="30369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6"/>
          <p:cNvSpPr/>
          <p:nvPr/>
        </p:nvSpPr>
        <p:spPr>
          <a:xfrm>
            <a:off x="4753080" y="3573360"/>
            <a:ext cx="404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По движущейся ленте едет будущий автомобиль, постепенно обрастая деталями. Все детали изготовлены заранее, а на конвейере они собираются в единое цело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3"/>
          <p:cNvSpPr/>
          <p:nvPr/>
        </p:nvSpPr>
        <p:spPr>
          <a:xfrm>
            <a:off x="73656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Появление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и производство автомобиля в Росси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324000" y="1389240"/>
            <a:ext cx="78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А как же дела обстояли у нас, в России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695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3"/>
          <p:cNvSpPr/>
          <p:nvPr/>
        </p:nvSpPr>
        <p:spPr>
          <a:xfrm>
            <a:off x="179280" y="112536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В 1791 году русским изобретателем  Иваном Кулибиным была изготовлена «самокатная повозка».Она вмещала двух человек. Привод был педальны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Чтобы облегчить усилия человека, был, приспособил махови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Кулибин стал первым, кто применил аккумулирование механической энерг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Еще на коляске был установлен механизм, который напоминал современную коробку передач. Можно было изменять скорость, и увеличивали мощность. Также был тормоз на задние колеса. Руль, которым управлялась повозка, был похож на корабельное приспособл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3"/>
          <p:cNvSpPr/>
          <p:nvPr/>
        </p:nvSpPr>
        <p:spPr>
          <a:xfrm>
            <a:off x="717480" y="476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 русский автомобиль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87240" y="1474920"/>
            <a:ext cx="788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179280" y="836640"/>
            <a:ext cx="89647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Создали его  два изобретателя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Яковлев Евгений Александрович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 и 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Фрезе Пётр Александрович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, в Петербурге в 1896году. Автомобиль был оснащен кузовом для двух пассажиров, весил 300 кг и мог развивать скорость до 20 км/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У нас массовое производство автомобилей  началось в 1932 год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Основными центрами производства автомобилей стали: Москва, Горький, Запорожье, Ижевск, Тольятти, Ульяновск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rial"/>
              </a:rPr>
              <a:t>Советская автопромышленность достигла некоего разнообразия – выпускались более 30 основных моделей, некоторые из которых выпускаются, и по сей, ден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3349440" y="260280"/>
            <a:ext cx="28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250920" y="90792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Мне нравятся большие, красивые, мощные автомобили. В основном это спортивные модели, так как они могут развивать огромную скорость. На самом деле машин сейчас довольно  много и все они такие разные. Но всегда ли так было? И когда появился он, первый автомобиль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Решая свои каждодневные проблемы, мы полагаемся на автомобиль. Он стал для нас настолько привычным, что мы не задумываемся о вреде связанном с его использованием. Чем же опасен автомобиль? Теперь моя цель была найти ответы, на эти вопрос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196920" y="26676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Современные автомобили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Какие они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196920" y="1413000"/>
            <a:ext cx="8962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С каждым годом развивалась автомобильная промышленность, и менялись машины. Конечно, современные автомобили на вид сильно отличаются от моделей столетней давности, но их устройство принципиально почти не изменилось, хотя и мощность, и скорость у них намного больше. Главная часть механизма автомобиля – двигатель.  Двигатель внутреннего сгорания по-прежнему является оптимальным типом двигателя. Он расположен впереди, иногда сзади или под полом автомобиля. Водитель управляет автомобилем с помощью руля, педалей и рычаг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206280" y="18900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Сейчас в мире насчитывается около 500 миллионов автомобилей. Все современные автомобили делятся на несколько классо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По назначению: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 транспортные, специальные, спортивны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3"/>
          <p:cNvSpPr/>
          <p:nvPr/>
        </p:nvSpPr>
        <p:spPr>
          <a:xfrm>
            <a:off x="206280" y="47628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Россия - крупнейший мировой производитель автомобилей, хотя большинство машин, выпускаемых в нашей стране, морально устарел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Самые популярные иномарки в России Hyundai Solaris, Ford Focus, Kia Rio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2873160" cy="2157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3197160" y="3141720"/>
            <a:ext cx="2814840" cy="2103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035760" y="3151080"/>
            <a:ext cx="28573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108000" y="333360"/>
            <a:ext cx="90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лияние автомобиля на окружающую среду и здоровье  человек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324000" y="18590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Важно помнить, что автомобили  не только облегчают человеку жизнь, но и могут создавать неудобства, даже опасности. В нашем мире автомобилей стало уже слишком много, не редко возникают пробки (скопления автомобилей), из-за этого поток автомобилей может остановиться на несколько часов. Нередко на дорогах происходят несчастные случаи, в которых страдает техника, гибнут люд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179280" y="189000"/>
            <a:ext cx="87138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Миллионы автомобилей выбрасывают в воздух вредные выхлопные газы, их химический состав настолько опасен, что наносит вред не только здоровью человека, животных, но и разрушает деревья и даже дома. Выхлопные газы разрушают озоновый слой Земли. Угарный газ и окись азота, выделяемые из глушителя автомобиля, выступают причинами головных болей, усталости, низкой трудоспособности. Сернистый газ воздействует на генетический аппарат, способствуя врожденным уродствам. Все эти факторы ведут к стрессам, нервным проявлениям. В больших городах широко распространены заболевания органов кровообращения и дыхания, инфаркты, гипертония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179280" y="18900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Автомобиль добавляет в почву и воздух тяжелые металлы, другие вредные вещества. Токсичные вещества нарушают  рост растений, способствуя снижению урожаев, постепенной гибели деревье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Количество автомобилей постоянно растет. Поэтому разработчики новых моделей обдумывают замену двигателю внутреннего сгорания. Уже созданы экспериментальные модели автомобилей, работающие на солнечной энерг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2898720" cy="1631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02160" y="4264200"/>
            <a:ext cx="2376360" cy="1653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6"/>
          <p:cNvSpPr/>
          <p:nvPr/>
        </p:nvSpPr>
        <p:spPr>
          <a:xfrm>
            <a:off x="324000" y="5934240"/>
            <a:ext cx="8712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182520" y="5873760"/>
            <a:ext cx="871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Возможно, скоро такие автомобили будут запущены в массовое производство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3"/>
          <p:cNvSpPr/>
          <p:nvPr/>
        </p:nvSpPr>
        <p:spPr>
          <a:xfrm>
            <a:off x="108000" y="18900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Роль и значение автомобиля в жизни  человек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154080" y="146376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В современном мире невозможно представить себе жизнь без автомобиля. Чаще всего на улицах города нам встречаются легковые автомобили. Те, у кого нет своего автомобиля, ездят на автобусе. Для пассажиров пользование транспортом связано, с экономией времени и сил, затрачиваемых на передвижение. Автомобильный транспорт как один из видов на¬земного транспорта получил наибольшее распространение и за-нимает ведущее положение в перевозках пассажиров, грузов, товаров на различные расстоян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3"/>
          <p:cNvSpPr/>
          <p:nvPr/>
        </p:nvSpPr>
        <p:spPr>
          <a:xfrm>
            <a:off x="154080" y="33984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В ходе исследовательской работы мною был проведен опрос об использовании личных автомобилей. В данном опросе принимали участие 21 человек. Им было предложено ответить на следующие вопросы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279360" y="2738520"/>
            <a:ext cx="871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1.Какие машины вы предпочитаете? (отечественные, иномарки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Отечественные-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Иномарки –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Отечественные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Иномарки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4"/>
          <p:cNvSpPr/>
          <p:nvPr/>
        </p:nvSpPr>
        <p:spPr>
          <a:xfrm>
            <a:off x="314280" y="333360"/>
            <a:ext cx="871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3.Как часто пользуетесь автомобилем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Каждый день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Через день -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Редко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4. Знаете ли вы о вредном влиянии автомобиля на окружающую среду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Да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Нет -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108000" y="189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270000" y="981000"/>
            <a:ext cx="871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Изучив всю информацию и проанализировав результаты опроса, можно сделать вывод, что автомобиль  для большинства людей стал неотъемлемой частью жизни. Люди настолько привыкли к  ним, что очень трудно представить жизнь современного человека без такого неутомимого помощника. Даже зная об опасностях и вреде автомобиля для окружающей среды, и для самих себя. Но ведь история автомобиля ещё не закончена. И возможно уже очень скоро наши автомобили будут безопасными, так как будут работать на воздух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704160" y="1341360"/>
            <a:ext cx="15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Цель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582480" y="2565360"/>
            <a:ext cx="83534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историю автомобиля: от старинного до современного. Исследовать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значени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втомобиля в жизни человека и его влияние  на окружающую сред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108000" y="189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Литература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270000" y="981000"/>
            <a:ext cx="871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Энциклопедия «Что такое. Кто такой». Издательство « АСТ, Астрель» Москва..2008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Энциклопедия. Большая книга знаний. Издательство «Махаон». Москва 2008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Детская энциклопедия «Я познаю мир.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Автомобил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.»Издательство «АСТ,  Астрель»  Москва 2004г.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Интернет- источник: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http://ru.wikipedia.org/wikiАвтомобилестро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Интернет- источник: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http://www.autoshcool.ru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Интернет-источник: http://ecoconceptcars.ru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3"/>
          <p:cNvSpPr/>
          <p:nvPr/>
        </p:nvSpPr>
        <p:spPr>
          <a:xfrm>
            <a:off x="659880" y="75240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395280" y="1844640"/>
            <a:ext cx="8353440" cy="39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зучить историю создания первого автомобиля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пределить отличие старинного автомобиля от современног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вести анкетирование: значение автомобиля в жизни челове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пределить влияние автомобиля на окружающую среду и здоровье  челове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489600" y="333360"/>
            <a:ext cx="63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Гипотеза исследования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201600" y="97956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собрав информацию об истории и причинах  создания автомобиля, я узнаю, так ли необходим человеку автомобил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571320" y="238608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бъект исследования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206280" y="303228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автомобил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388440" y="3556080"/>
            <a:ext cx="62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Предмет исследования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146160" y="421812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технические параметры автомоби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06280" y="558468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чтение и изучение литературы,  беседа, анкетирова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534960" y="4884840"/>
            <a:ext cx="60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Методы исследования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3"/>
          <p:cNvSpPr/>
          <p:nvPr/>
        </p:nvSpPr>
        <p:spPr>
          <a:xfrm>
            <a:off x="443520" y="333360"/>
            <a:ext cx="82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Автомобиль. История создания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366840" y="1125360"/>
            <a:ext cx="84247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Что же такое автомобиль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Автомобиль – машина на колёсном ходу, приводимая в движение собственным двигателем (внутреннего сгорания, электрическим или паровым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Это сейчас мы знаем об этом. А с чего же всё начиналось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А началось все с древних времен. Мощный толчок в развитии техники дало изобретение коле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203640" y="4253040"/>
            <a:ext cx="25207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3"/>
          <p:cNvSpPr/>
          <p:nvPr/>
        </p:nvSpPr>
        <p:spPr>
          <a:xfrm>
            <a:off x="326880" y="620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В те далекие времена это колесо приводили в движение разные животные и, к сожалению, люди. Первые известные чертежи автомобиля принадлежат Леонардо да Винчи, предположительно, в 1478 году. Однако ни действующего экземпляра, ни сведений о его существовании до наших дней не дошл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619280" y="3192480"/>
            <a:ext cx="5553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627280" y="222120"/>
            <a:ext cx="3240000" cy="24354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4"/>
          <p:cNvSpPr/>
          <p:nvPr/>
        </p:nvSpPr>
        <p:spPr>
          <a:xfrm>
            <a:off x="304920" y="2565360"/>
            <a:ext cx="8426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Так же в работах  Ньютона, относящихся к 1663 году, был найден чертёж тележки, приводимой в движение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  <a:ea typeface="Arial"/>
              </a:rPr>
              <a:t>паровым реактивным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двигателем. Котел с водой поставлен на колеса. Внизу помещается топка. Струя пара, вырываясь из котла с большой скоростью, действием, так называемой реактивной силы, заставляет тележку двигаться в противоположном выходу пара направлении, т. е. вперёд, подобно ракет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376200" y="69228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Но это был только чертёж. Модель, созданная по его расчетам на много позже, оказалась действующ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54040" y="1944720"/>
            <a:ext cx="81072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5:02:23Z</dcterms:created>
  <dc:creator>Dell</dc:creator>
  <dc:description/>
  <dc:language>en-US</dc:language>
  <cp:lastModifiedBy>Dell</cp:lastModifiedBy>
  <dcterms:modified xsi:type="dcterms:W3CDTF">2014-11-10T11:58:34Z</dcterms:modified>
  <cp:revision>15</cp:revision>
  <dc:subject/>
  <dc:title>Старинные и современные автомобили.</dc:title>
</cp:coreProperties>
</file>