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B1E9-D190-4605-B390-E3F051B4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0EA0-566F-4587-9709-3B7B0BB1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AABF-0B3F-4A15-986D-2E7E86C4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3C2F-87B6-44AB-ACF2-2E4463F3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610B-F0AC-4C05-802C-090F55BD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0EFC-7CFA-49F8-B7E8-1E638305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17D6-17EC-4D3F-8510-ECB0D241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CF17-5C1A-470D-B343-C43DB5E5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704B-AD43-408E-A9DE-A5B3938C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BC11-7597-4EF1-AA5E-BCD97B7C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6423-E45D-497E-BEAE-CE5EA965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F723-6117-4E67-A568-CA8CEAD5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5A0C-258B-4A6A-9C3E-78CB0EFA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E59F-6CB8-4F78-B56D-332A44B6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806D-F70C-4D42-BE1D-452B71F3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850C-A62B-45B7-9FA0-D745ADFD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6FC3-1CD1-466D-864E-36C1873D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648C-D8AA-4A3A-AE1B-0FE6ADCD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271F-A08F-4581-BE42-9499B3E7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946C-403C-4EC1-8C79-05EAB2EC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3AB0-B5EE-44B0-8939-793F20DB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3167-F38E-4C3F-AEC1-FB34F949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4B6E-340B-46B0-BCA0-29AAD57A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4AE0-6CD2-4B50-AFE0-25A5E0A0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F6E6-9B3F-428F-9C5C-55ADEA90398A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F0AF-DA5E-4261-8B55-C94B0C05307E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900000" y="404280"/>
            <a:ext cx="687240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Информационно-методический центр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Московского  района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Выпускная работа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Тема: Мой город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Выполнена: Сухарской А.Б.,    преподавателем французского языка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ГБОУ школы №49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Руководитель: Кочнева С. В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Санкт-Петербург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2013 г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Rectangle 2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866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сси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р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ульва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мятни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лоч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бо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2" descr=""/>
          <p:cNvPicPr/>
          <p:nvPr/>
        </p:nvPicPr>
        <p:blipFill>
          <a:blip r:embed="rId2"/>
          <a:stretch/>
        </p:blipFill>
        <p:spPr>
          <a:xfrm>
            <a:off x="450720" y="133200"/>
            <a:ext cx="8242560" cy="866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- Я в первый раз в этом городе и боюсь заблудиться. Скажите, пожалуйста, где гостиница?(карта Питер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- Dans notre ville il y a beaucoup d’hôtels. Il y en a un non loin d’ici, au carrefour. Prenez cette rue monta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•</a:t>
            </a: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- На площади около вокзала я увидел пустырь. Мне сказали, что там будет сооружен памятник героям Сопротивления (памятник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B- Oui, tous le monde en parler. On érigera ce monument à l’emplacement d’une bâtisse très la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796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- Еще я хотел бы погулять по набережной, дойти до моста, пересечь реку и полюбоваться старинным дворц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B- Contournez cette cathédrale et prenez le passage souterrain. La première rue latérale aboutit à un qua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•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- Спасибо, вы очень любезны. Еще один вопрос. У вас есть небоскребы? И много ли магазинов? Я люблю красивые витрины и мигающие рекла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B- Bien sûr. Ne manquez pas de flâner dans le centre ce soir et vous  verrez tout ça. Soyez le bienvenu! Au revoi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2"/>
          <a:stretch/>
        </p:blipFill>
        <p:spPr>
          <a:xfrm>
            <a:off x="450720" y="133200"/>
            <a:ext cx="8242560" cy="866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Vous travaillez dans une agence de voyage. Un touriste vous demande ce qu’il y a à voir dans votre ville. Vous lui parlez des endroits à visiter et vous lui donnez des indications nécessaires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ар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2"/>
          <a:stretch/>
        </p:blipFill>
        <p:spPr>
          <a:xfrm>
            <a:off x="450720" y="-96840"/>
            <a:ext cx="8437680" cy="1407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Je pense </a:t>
            </a:r>
            <a:r>
              <a:rPr b="0" i="1" lang="fr-FR" sz="2800" spc="-1" strike="noStrike">
                <a:solidFill>
                  <a:srgbClr val="ff0000"/>
                </a:solidFill>
                <a:latin typeface="Book Antiqua"/>
              </a:rPr>
              <a:t>à cette histo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Je suis très content </a:t>
            </a:r>
            <a:r>
              <a:rPr b="0" i="1" lang="fr-FR" sz="2800" spc="-1" strike="noStrike">
                <a:solidFill>
                  <a:srgbClr val="ff0000"/>
                </a:solidFill>
                <a:latin typeface="Book Antiqua"/>
              </a:rPr>
              <a:t>de ces résult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Michel ne pense pas </a:t>
            </a:r>
            <a:r>
              <a:rPr b="0" i="1" lang="fr-FR" sz="2800" spc="-1" strike="noStrike">
                <a:solidFill>
                  <a:srgbClr val="ff0000"/>
                </a:solidFill>
                <a:latin typeface="Book Antiqua"/>
              </a:rPr>
              <a:t>à son aven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Tu bois trop </a:t>
            </a:r>
            <a:r>
              <a:rPr b="0" i="1" lang="fr-FR" sz="2800" spc="-1" strike="noStrike">
                <a:solidFill>
                  <a:srgbClr val="ff0000"/>
                </a:solidFill>
                <a:latin typeface="Book Antiqua"/>
              </a:rPr>
              <a:t>de caf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Sa sœur s’intéresse </a:t>
            </a:r>
            <a:r>
              <a:rPr b="0" i="1" lang="fr-FR" sz="2800" spc="-1" strike="noStrike">
                <a:solidFill>
                  <a:srgbClr val="ff0000"/>
                </a:solidFill>
                <a:latin typeface="Book Antiqua"/>
              </a:rPr>
              <a:t>à la biolog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J’ai besoin</a:t>
            </a:r>
            <a:r>
              <a:rPr b="0" i="1" lang="fr-F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fr-FR" sz="2800" spc="-1" strike="noStrike">
                <a:solidFill>
                  <a:srgbClr val="ff0000"/>
                </a:solidFill>
                <a:latin typeface="Book Antiqua"/>
              </a:rPr>
              <a:t>de votre dictionna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Il n’a pas répondu </a:t>
            </a:r>
            <a:r>
              <a:rPr b="0" i="1" lang="fr-FR" sz="2800" spc="-1" strike="noStrike">
                <a:solidFill>
                  <a:srgbClr val="ff0000"/>
                </a:solidFill>
                <a:latin typeface="Book Antiqua"/>
              </a:rPr>
              <a:t>à notre ques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Sylvie va </a:t>
            </a:r>
            <a:r>
              <a:rPr b="0" i="1" lang="fr-FR" sz="2800" spc="-1" strike="noStrike">
                <a:solidFill>
                  <a:srgbClr val="ffffff"/>
                </a:solidFill>
                <a:latin typeface="Book Antiqua"/>
              </a:rPr>
              <a:t>au magasin </a:t>
            </a:r>
            <a:r>
              <a:rPr b="0" i="1" lang="fr-FR" sz="2800" spc="-1" strike="noStrike">
                <a:solidFill>
                  <a:srgbClr val="ff0000"/>
                </a:solidFill>
                <a:latin typeface="Book Antiqua"/>
              </a:rPr>
              <a:t>de vêt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Book Antiqua"/>
              </a:rPr>
              <a:t>Elle a mangé </a:t>
            </a:r>
            <a:r>
              <a:rPr b="0" i="1" lang="fr-FR" sz="2800" spc="-1" strike="noStrike">
                <a:solidFill>
                  <a:srgbClr val="ff0000"/>
                </a:solidFill>
                <a:latin typeface="Book Antiqua"/>
              </a:rPr>
              <a:t>un gâtea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Je n’ai pas </a:t>
            </a:r>
            <a:r>
              <a:rPr b="0" i="1" lang="fr-FR" sz="2800" spc="-1" strike="noStrike">
                <a:solidFill>
                  <a:srgbClr val="ff0000"/>
                </a:solidFill>
                <a:latin typeface="Book Antiqua"/>
              </a:rPr>
              <a:t>de voi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2" descr=""/>
          <p:cNvPicPr/>
          <p:nvPr/>
        </p:nvPicPr>
        <p:blipFill>
          <a:blip r:embed="rId2"/>
          <a:stretch/>
        </p:blipFill>
        <p:spPr>
          <a:xfrm>
            <a:off x="298440" y="-23760"/>
            <a:ext cx="8772480" cy="1407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6836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Est- ce que tu as pensé </a:t>
            </a:r>
            <a:r>
              <a:rPr b="0" lang="fr-FR" sz="2800" spc="-1" strike="noStrike">
                <a:solidFill>
                  <a:srgbClr val="ff0000"/>
                </a:solidFill>
                <a:latin typeface="Book Antiqua"/>
              </a:rPr>
              <a:t>à tes études</a:t>
            </a: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Est-ce que tu mange </a:t>
            </a:r>
            <a:r>
              <a:rPr b="0" lang="fr-FR" sz="2800" spc="-1" strike="noStrike">
                <a:solidFill>
                  <a:srgbClr val="ff0000"/>
                </a:solidFill>
                <a:latin typeface="Book Antiqua"/>
              </a:rPr>
              <a:t>du chocolat</a:t>
            </a: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Est-ce que tu as participé </a:t>
            </a:r>
            <a:r>
              <a:rPr b="0" lang="fr-FR" sz="2800" spc="-1" strike="noStrike">
                <a:solidFill>
                  <a:srgbClr val="ff0000"/>
                </a:solidFill>
                <a:latin typeface="Book Antiqua"/>
              </a:rPr>
              <a:t>à ce match</a:t>
            </a: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Est-ce que tu as peur </a:t>
            </a:r>
            <a:r>
              <a:rPr b="0" lang="fr-FR" sz="2800" spc="-1" strike="noStrike">
                <a:solidFill>
                  <a:srgbClr val="ff0000"/>
                </a:solidFill>
                <a:latin typeface="Book Antiqua"/>
              </a:rPr>
              <a:t>des oranges</a:t>
            </a: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Est-ce que tu a pensé </a:t>
            </a:r>
            <a:r>
              <a:rPr b="0" lang="fr-FR" sz="2800" spc="-1" strike="noStrike">
                <a:solidFill>
                  <a:srgbClr val="ff0000"/>
                </a:solidFill>
                <a:latin typeface="Book Antiqua"/>
              </a:rPr>
              <a:t>à cette fête</a:t>
            </a: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Est-ce que tu bois </a:t>
            </a:r>
            <a:r>
              <a:rPr b="0" lang="fr-FR" sz="2800" spc="-1" strike="noStrike">
                <a:solidFill>
                  <a:srgbClr val="ff0000"/>
                </a:solidFill>
                <a:latin typeface="Book Antiqua"/>
              </a:rPr>
              <a:t>du lait</a:t>
            </a: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Est-ce que tu à téléphoné </a:t>
            </a:r>
            <a:r>
              <a:rPr b="0" lang="fr-FR" sz="2800" spc="-1" strike="noStrike">
                <a:solidFill>
                  <a:srgbClr val="ff0000"/>
                </a:solidFill>
                <a:latin typeface="Book Antiqua"/>
              </a:rPr>
              <a:t>à la police</a:t>
            </a: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Est-ce que tu as </a:t>
            </a:r>
            <a:r>
              <a:rPr b="0" lang="fr-FR" sz="2800" spc="-1" strike="noStrike">
                <a:solidFill>
                  <a:srgbClr val="ff0000"/>
                </a:solidFill>
                <a:latin typeface="Book Antiqua"/>
              </a:rPr>
              <a:t>des frères</a:t>
            </a: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Est-ce que tu crois </a:t>
            </a:r>
            <a:r>
              <a:rPr b="0" lang="fr-FR" sz="2800" spc="-1" strike="noStrike">
                <a:solidFill>
                  <a:srgbClr val="ff0000"/>
                </a:solidFill>
                <a:latin typeface="Book Antiqua"/>
              </a:rPr>
              <a:t>aux contes</a:t>
            </a: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Est-ce que tu lis beaucoup </a:t>
            </a:r>
            <a:r>
              <a:rPr b="0" lang="fr-FR" sz="2800" spc="-1" strike="noStrike">
                <a:solidFill>
                  <a:srgbClr val="ff0000"/>
                </a:solidFill>
                <a:latin typeface="Book Antiqua"/>
              </a:rPr>
              <a:t>de romans</a:t>
            </a: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91628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Donnez-moi le chemain de l’Institut francais vers le café Jean Jac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2T08:44:38Z</dcterms:created>
  <dc:creator>Алла</dc:creator>
  <dc:description/>
  <dc:language>en-US</dc:language>
  <cp:lastModifiedBy>dell</cp:lastModifiedBy>
  <dcterms:modified xsi:type="dcterms:W3CDTF">2014-11-10T19:21:17Z</dcterms:modified>
  <cp:revision>15</cp:revision>
  <dc:subject/>
  <dc:title>Слайд 1</dc:title>
</cp:coreProperties>
</file>